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E226-DF27-4B9F-B5A7-35F9C849E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2062-C540-4C51-9777-A41EC2FC4C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F964-7E1C-4BFC-A290-F49929986E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76DD-4891-4EEA-84E4-ECFF2BBFB3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254-ACC5-46E1-9446-38E31C3A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B69-E4B3-425F-9B72-8C0EA9EE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C09-DE04-41B9-A15B-C567BF03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156-934C-4A23-8BB2-D50DD62A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A9EF-793C-4FCA-A2DB-5834CF2C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8076-0777-429B-B925-B6489DF4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BCD2-2345-453A-871E-B46DA3F3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8C96-B9BF-41B5-8995-CF677ABF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E194-8E7D-4FF9-A659-8DECF36D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3568-AA92-45ED-957E-2386FAB9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8851-CACF-4FED-B861-68895AB7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58D-C1DF-4ECA-A5AA-0E4FEC1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2DBD-2733-4DD8-A487-94006A1D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2189-0E44-4BF4-A5C4-53CD59B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606A-2290-4E8F-988F-C3539F1D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30CD-F400-4B2E-A694-D1709996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98BC-4848-4EAF-AA4A-A0F05EBD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CC9-4A3D-4B6A-B640-8F6F34A7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C11-092A-45E9-A46D-B656B2E2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E28-FB6A-42E1-B66F-ACE01097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72E-4E60-4075-A1D8-F63020F3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EA1-CCF1-4211-8E00-00F710DC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278-E666-4986-81E9-31C0EE1A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C15-BE94-4C83-847B-9D52BF60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E666-6A78-4156-BFF3-5E12847FB8A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A53B-3CBE-4B14-B813-F30BEC21C19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93560" y="-55440"/>
            <a:ext cx="8242560" cy="3475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642920" y="4357800"/>
            <a:ext cx="428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одготовила презентацию учитель МБОУ СОШ № 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г. Покач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Лаптева И.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мама\куприн\04lab8vjf1255464584.jpg"/>
          <p:cNvPicPr/>
          <p:nvPr/>
        </p:nvPicPr>
        <p:blipFill>
          <a:blip r:embed="rId2"/>
          <a:stretch/>
        </p:blipFill>
        <p:spPr>
          <a:xfrm>
            <a:off x="2071800" y="214200"/>
            <a:ext cx="4643280" cy="638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сканирование0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D:\мама\куприн\04labbop01247135285.jpg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D:\мама\куприн\04labboпp01247135285_cr.jpg"/>
          <p:cNvPicPr/>
          <p:nvPr/>
        </p:nvPicPr>
        <p:blipFill>
          <a:blip r:embed="rId3"/>
          <a:stretch/>
        </p:blipFill>
        <p:spPr>
          <a:xfrm>
            <a:off x="0" y="0"/>
            <a:ext cx="48276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:\мама\куприн\010labmq4h125512432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сканирование0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мама\куприн\07labmq4h125512о4326_cr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3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D:\мама\куприн\05labbop01247135286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36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D:\мама\куприн\07labmq4h125512432л6_cr.jpg"/>
          <p:cNvPicPr/>
          <p:nvPr/>
        </p:nvPicPr>
        <p:blipFill>
          <a:blip r:embed="rId4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D:\мама\куприн\08labbop0124713л5286_cr.jpg"/>
          <p:cNvPicPr/>
          <p:nvPr/>
        </p:nvPicPr>
        <p:blipFill>
          <a:blip r:embed="rId5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D:\мама\куприн\08labbop01247135286.jpg"/>
          <p:cNvPicPr/>
          <p:nvPr/>
        </p:nvPicPr>
        <p:blipFill>
          <a:blip r:embed="rId2"/>
          <a:stretch/>
        </p:blipFill>
        <p:spPr>
          <a:xfrm>
            <a:off x="1714680" y="357120"/>
            <a:ext cx="521460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сканирование00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мама\куприн\12649332383878942501.jpg"/>
          <p:cNvPicPr/>
          <p:nvPr/>
        </p:nvPicPr>
        <p:blipFill>
          <a:blip r:embed="rId2"/>
          <a:stretch/>
        </p:blipFill>
        <p:spPr>
          <a:xfrm>
            <a:off x="1857240" y="142920"/>
            <a:ext cx="5072040" cy="645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мама\куприн\34479-5.jpg"/>
          <p:cNvPicPr/>
          <p:nvPr/>
        </p:nvPicPr>
        <p:blipFill>
          <a:blip r:embed="rId2"/>
          <a:stretch/>
        </p:blipFill>
        <p:spPr>
          <a:xfrm>
            <a:off x="2214720" y="142920"/>
            <a:ext cx="421452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Рисунок 3" descr="pic5981_34c96a.jpg"/>
          <p:cNvPicPr/>
          <p:nvPr/>
        </p:nvPicPr>
        <p:blipFill>
          <a:blip r:embed="rId2"/>
          <a:stretch/>
        </p:blipFill>
        <p:spPr>
          <a:xfrm>
            <a:off x="3906720" y="281160"/>
            <a:ext cx="5121360" cy="124236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42920" y="4000680"/>
            <a:ext cx="37861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«Таланты (как и люди) бывают добрые и злые, веселые и грустные, светлые и мрачные. При мысли о Куприне сразу хочется сказать: добрый талант. Все произведения писателя пропитаны этой вот бесконечной добротой или, говоря его же словами,  любовью «ко всему живому – к дереву, собаке, воде, земле, человеку, небу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лег Михай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мама\куприн\pirogov.jpg"/>
          <p:cNvPicPr/>
          <p:nvPr/>
        </p:nvPicPr>
        <p:blipFill>
          <a:blip r:embed="rId2"/>
          <a:stretch/>
        </p:blipFill>
        <p:spPr>
          <a:xfrm>
            <a:off x="3836880" y="0"/>
            <a:ext cx="53071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214200" y="857160"/>
            <a:ext cx="3429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иколай Иванович Пирог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1810-1881г.) – хирург, анатом, педагог, общественный деятель, основоположник военно-полевой хирургии, способствовал подготовке сестер милосердия в России в период военных действий в Крыму( 1853-1856г.) Позднее это движение  оформилось в Российской общество попечения о раненых и больных. В 1879 году переименовали в Российское общество Красного Кр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:\мама\куприн\Пирогов, севастополь Крым Украина.jpg"/>
          <p:cNvPicPr/>
          <p:nvPr/>
        </p:nvPicPr>
        <p:blipFill>
          <a:blip r:embed="rId2"/>
          <a:stretch/>
        </p:blipFill>
        <p:spPr>
          <a:xfrm>
            <a:off x="4113360" y="0"/>
            <a:ext cx="50306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0" y="571680"/>
            <a:ext cx="421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astasiaScript"/>
              </a:rPr>
              <a:t>Памятник Николаю Ивановичу Пирогову. Севастополь. Крым. Укра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336960"/>
            <a:ext cx="91440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мотри на каждую утреннюю зарю, как на начало твоей жизни, и на каждый закат солнца, как на конец её. Пусть каждая из этих кратких жизней будет отмечена каким-либо добрым поступком, какой-либо победой над собой или приобретенным знанием».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жон Рескин  (1819-1900 г.,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глийский теорет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кусства, публицис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Никто из нас не имеет права пройти мимо страданий, за которые мы, собственно, не несем ответственности, и не предотвратить их».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ьберт Швейцер  (1875-1965г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мецко-французский мыслите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ч, музыкове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Люди, у которых свое горе, умеют утешать други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к Твен( 1835-1910г., американский писате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D:\мама\куприн\маленький-принц.jpg"/>
          <p:cNvPicPr/>
          <p:nvPr/>
        </p:nvPicPr>
        <p:blipFill>
          <a:blip r:embed="rId2"/>
          <a:stretch/>
        </p:blipFill>
        <p:spPr>
          <a:xfrm>
            <a:off x="4640400" y="490680"/>
            <a:ext cx="4324320" cy="6153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0" y="114120"/>
            <a:ext cx="86439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исать свою памятку «Как стать добрым человеком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иходилось ли вам или кому-то из членов вашей семьи оказывать помощь попавшим в сложную ситуацию? Подготовьте рассказ об этом клас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27071-0.jpg"/>
          <p:cNvPicPr/>
          <p:nvPr/>
        </p:nvPicPr>
        <p:blipFill>
          <a:blip r:embed="rId2"/>
          <a:stretch/>
        </p:blipFill>
        <p:spPr>
          <a:xfrm>
            <a:off x="1901880" y="23760"/>
            <a:ext cx="4767120" cy="1341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2920" y="356760"/>
            <a:ext cx="857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nastasiaScript"/>
              </a:rPr>
              <a:t>Александр Иванович Куприн.</a:t>
            </a:r>
            <a:r>
              <a:rPr b="1" i="1" lang="en-US" sz="4800" spc="-1" strike="noStrike">
                <a:solidFill>
                  <a:srgbClr val="ffffff"/>
                </a:solidFill>
                <a:latin typeface="AnastasiaScrip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000080" y="428760"/>
            <a:ext cx="2919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0" y="357120"/>
            <a:ext cx="828684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оды жизни 1870-1938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одился в Пензенской губернии в семье мелкого чинов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ец его умер, когда мальчику не исполнилось и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ть вынуждена была поселиться в московском вдовьем до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6 лет его определили в Разумовский сиротский пансион, где он прожил 4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1880 году поступил во вторую московскую военную гимназ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1919 году уезжает за гран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1937 году вернулся на родину. «Даже цветы на родине пахнут по-иному,» - говорил Купр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мама\куприн\Собачье счастье (Куприн Александр).jpg"/>
          <p:cNvPicPr/>
          <p:nvPr/>
        </p:nvPicPr>
        <p:blipFill>
          <a:blip r:embed="rId2"/>
          <a:stretch/>
        </p:blipFill>
        <p:spPr>
          <a:xfrm>
            <a:off x="0" y="0"/>
            <a:ext cx="2857680" cy="443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мама\куприн\1858060_Belyj_pudel_Rasskazy.jpg"/>
          <p:cNvPicPr/>
          <p:nvPr/>
        </p:nvPicPr>
        <p:blipFill>
          <a:blip r:embed="rId3"/>
          <a:stretch/>
        </p:blipFill>
        <p:spPr>
          <a:xfrm>
            <a:off x="5943600" y="1876320"/>
            <a:ext cx="3200400" cy="498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D:\мама\куприн\ls3dcw.jpg"/>
          <p:cNvPicPr/>
          <p:nvPr/>
        </p:nvPicPr>
        <p:blipFill>
          <a:blip r:embed="rId4"/>
          <a:stretch/>
        </p:blipFill>
        <p:spPr>
          <a:xfrm>
            <a:off x="5929200" y="0"/>
            <a:ext cx="3214800" cy="183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:\мама\куприн\kuprin1.jpg"/>
          <p:cNvPicPr/>
          <p:nvPr/>
        </p:nvPicPr>
        <p:blipFill>
          <a:blip r:embed="rId5"/>
          <a:stretch/>
        </p:blipFill>
        <p:spPr>
          <a:xfrm>
            <a:off x="2643120" y="0"/>
            <a:ext cx="3354480" cy="400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:\мама\куприн\imоage.jpeg"/>
          <p:cNvPicPr/>
          <p:nvPr/>
        </p:nvPicPr>
        <p:blipFill>
          <a:blip r:embed="rId6"/>
          <a:stretch/>
        </p:blipFill>
        <p:spPr>
          <a:xfrm>
            <a:off x="3643200" y="3984480"/>
            <a:ext cx="2286000" cy="287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:\мама\куприн\28199.jpg"/>
          <p:cNvPicPr/>
          <p:nvPr/>
        </p:nvPicPr>
        <p:blipFill>
          <a:blip r:embed="rId7"/>
          <a:stretch/>
        </p:blipFill>
        <p:spPr>
          <a:xfrm>
            <a:off x="-1429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мама\куприн\image.jpeg"/>
          <p:cNvPicPr/>
          <p:nvPr/>
        </p:nvPicPr>
        <p:blipFill>
          <a:blip r:embed="rId2"/>
          <a:stretch/>
        </p:blipFill>
        <p:spPr>
          <a:xfrm>
            <a:off x="142920" y="0"/>
            <a:ext cx="4143240" cy="547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542880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Попробуйте бросать птице червяков или крошки хлеба сначала издалека, потом все  уменьшая расстояние. Вы добьетесь того, что через некоторое время скворец будет брать у вас пищу из рук и садиться вам на плечо. Только не обманывайте его доверия. Разница между вами обоими только та, что он маленький, а вы большой,» - А.И.Купр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D:\мама\куприн\i_002.png"/>
          <p:cNvPicPr/>
          <p:nvPr/>
        </p:nvPicPr>
        <p:blipFill>
          <a:blip r:embed="rId3"/>
          <a:stretch/>
        </p:blipFill>
        <p:spPr>
          <a:xfrm>
            <a:off x="4397400" y="0"/>
            <a:ext cx="474660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:\мама\куприн\7775a5b206afc3e1e9c90252307_prev.jp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192960" y="142920"/>
            <a:ext cx="87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nastasiaScript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Мы в ответе за тех, кого приручили</a:t>
            </a:r>
            <a:r>
              <a:rPr b="1" lang="en-US" sz="3200" spc="-1" strike="noStrike">
                <a:solidFill>
                  <a:srgbClr val="ffffff"/>
                </a:solidFill>
                <a:latin typeface="AnastasiaScript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             </a:t>
            </a: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«Маленький принц» А.Экзюпе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D:\мама\куприн\09217dbff49088a8b1ad882c8e685d94.jpeg"/>
          <p:cNvPicPr/>
          <p:nvPr/>
        </p:nvPicPr>
        <p:blipFill>
          <a:blip r:embed="rId2"/>
          <a:stretch/>
        </p:blipFill>
        <p:spPr>
          <a:xfrm>
            <a:off x="6000840" y="0"/>
            <a:ext cx="3143160" cy="35654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img016.jpg"/>
          <p:cNvPicPr/>
          <p:nvPr/>
        </p:nvPicPr>
        <p:blipFill>
          <a:blip r:embed="rId3"/>
          <a:stretch/>
        </p:blipFill>
        <p:spPr>
          <a:xfrm>
            <a:off x="2852640" y="-6480"/>
            <a:ext cx="3224160" cy="42246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Rass83O1..jpg"/>
          <p:cNvPicPr/>
          <p:nvPr/>
        </p:nvPicPr>
        <p:blipFill>
          <a:blip r:embed="rId4"/>
          <a:stretch/>
        </p:blipFill>
        <p:spPr>
          <a:xfrm>
            <a:off x="-6480" y="-6480"/>
            <a:ext cx="3084480" cy="39196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5423.jpg"/>
          <p:cNvPicPr/>
          <p:nvPr/>
        </p:nvPicPr>
        <p:blipFill>
          <a:blip r:embed="rId5"/>
          <a:stretch/>
        </p:blipFill>
        <p:spPr>
          <a:xfrm>
            <a:off x="-6480" y="3724200"/>
            <a:ext cx="2938680" cy="314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D:\мама\куприн\9687149.jpg"/>
          <p:cNvPicPr/>
          <p:nvPr/>
        </p:nvPicPr>
        <p:blipFill>
          <a:blip r:embed="rId6"/>
          <a:stretch/>
        </p:blipFill>
        <p:spPr>
          <a:xfrm>
            <a:off x="2857680" y="3186000"/>
            <a:ext cx="2928600" cy="367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D:\мама\куприн\0005-004-2.Geroi-rasskazov-deti.jpg"/>
          <p:cNvPicPr/>
          <p:nvPr/>
        </p:nvPicPr>
        <p:blipFill>
          <a:blip r:embed="rId7"/>
          <a:stretch/>
        </p:blipFill>
        <p:spPr>
          <a:xfrm>
            <a:off x="5786280" y="3571920"/>
            <a:ext cx="335772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мама\куприн\Free-Xmas-Holidays-Screensa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vivaldi_koncert_dlya_fleytu_goboya_i_skripki_(emusic.md).mp3" descr=""/>
          <p:cNvPicPr/>
          <p:nvPr/>
        </p:nvPicPr>
        <p:blipFill>
          <a:blip r:embed="rId3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04:15:52Z</dcterms:created>
  <dc:creator>$e$3ца</dc:creator>
  <dc:description/>
  <dc:language>en-US</dc:language>
  <cp:lastModifiedBy>User</cp:lastModifiedBy>
  <dcterms:modified xsi:type="dcterms:W3CDTF">2012-11-22T19:33:22Z</dcterms:modified>
  <cp:revision>22</cp:revision>
  <dc:subject/>
  <dc:title> </dc:title>
</cp:coreProperties>
</file>