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18A-2BA7-4EBC-A3F7-36B62F42C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88B-FA4E-416F-B2C4-DEAB48F97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1CF-291A-48E4-B902-C9310ABB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AC0-B766-4E2B-B572-7181E86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0A3-302E-49EC-8DB8-020A03A0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077-8023-4D72-994E-EC077C79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476-553A-4C01-889E-E0313E7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8BC-D700-48D7-A441-1FD4160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9A1-A53D-4417-90CE-ECF6D2F8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0C3-7EAB-4259-A40E-9D6C49B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095-E094-4A31-96B4-6441656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BE5-D8F1-4FB7-8104-C05CD86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28F-F849-48DC-8766-A9418F6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AA9-09FD-499C-AB15-92CF8FF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EB28-13AB-4261-AAEB-FF8C6047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Калашни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М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Пад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М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2960" y="2071800"/>
            <a:ext cx="78487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_RomanusCps"/>
              </a:rPr>
              <a:t>«Тысяча и одна ноч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28800" y="6429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орчески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F:\DCIM\112_PANA\P1120883.JPG"/>
          <p:cNvPicPr/>
          <p:nvPr/>
        </p:nvPicPr>
        <p:blipFill>
          <a:blip r:embed="rId4"/>
          <a:stretch/>
        </p:blipFill>
        <p:spPr>
          <a:xfrm>
            <a:off x="2193840" y="835200"/>
            <a:ext cx="43354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ile0425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2125800" y="907920"/>
            <a:ext cx="4760640" cy="4826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File0433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2771640" y="620640"/>
            <a:ext cx="2698920" cy="568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File0435"/>
          <p:cNvPicPr/>
          <p:nvPr/>
        </p:nvPicPr>
        <p:blipFill>
          <a:blip r:embed="rId4">
            <a:lum contrast="78000"/>
          </a:blip>
          <a:stretch/>
        </p:blipFill>
        <p:spPr>
          <a:xfrm>
            <a:off x="2268360" y="907920"/>
            <a:ext cx="4268880" cy="47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File0434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2484360" y="1125360"/>
            <a:ext cx="3973680" cy="482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4"/>
          <a:stretch/>
        </p:blipFill>
        <p:spPr>
          <a:xfrm>
            <a:off x="249120" y="2212920"/>
            <a:ext cx="8534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928800" y="196416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версальный аксесс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выполнена свои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Финансовые затраты не ве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Позволяет проявить своё умение в работе с бисеро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11" descr=""/>
          <p:cNvPicPr/>
          <p:nvPr/>
        </p:nvPicPr>
        <p:blipFill>
          <a:blip r:embed="rId4"/>
          <a:stretch/>
        </p:blipFill>
        <p:spPr>
          <a:xfrm>
            <a:off x="506520" y="920880"/>
            <a:ext cx="82897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000080" y="235116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Выбирая проблему для темы проекта, я поставила перед собой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Сделать аксессуар в технике бисеропле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Я должна совершенствовать свои умения в технике бисеропле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Я должна научиться алгоритму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8" descr=""/>
          <p:cNvPicPr/>
          <p:nvPr/>
        </p:nvPicPr>
        <p:blipFill>
          <a:blip r:embed="rId4"/>
          <a:stretch/>
        </p:blipFill>
        <p:spPr>
          <a:xfrm>
            <a:off x="347760" y="1047600"/>
            <a:ext cx="83995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К началу </a:t>
            </a:r>
            <a:r>
              <a:rPr b="1" lang="en-US" sz="2200" spc="-1" strike="noStrike">
                <a:solidFill>
                  <a:srgbClr val="000000"/>
                </a:solidFill>
                <a:latin typeface="Antiqua"/>
              </a:rPr>
              <a:t>XIX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ека в России начался настоя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бисерный б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 деревнях бисер и стеклярус стали чуть ли н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обязатель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крашением народного костю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Долгими вечерами крестьянки плел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ткали, выши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оротнички, делали бусы и ожерель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крашали голов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боры, пояса, празднич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сарафаны, соперничая в скорости да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спорости. Недаром считалос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что "бороной да иглой деревня стоит".</a:t>
            </a:r>
            <a:r>
              <a:rPr b="1" lang="ru-RU" sz="2400" spc="-1" strike="noStrike">
                <a:solidFill>
                  <a:srgbClr val="000000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4"/>
          <a:stretch/>
        </p:blipFill>
        <p:spPr>
          <a:xfrm>
            <a:off x="1566720" y="371520"/>
            <a:ext cx="58215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E:\флеш 16 гигов\работы бисер фото\P1020927.JPG"/>
          <p:cNvPicPr/>
          <p:nvPr/>
        </p:nvPicPr>
        <p:blipFill>
          <a:blip r:embed="rId4"/>
          <a:stretch/>
        </p:blipFill>
        <p:spPr>
          <a:xfrm>
            <a:off x="1206360" y="1566720"/>
            <a:ext cx="2013120" cy="2475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E:\документы с бука домашнего\фото\P1070435.JPG"/>
          <p:cNvPicPr/>
          <p:nvPr/>
        </p:nvPicPr>
        <p:blipFill>
          <a:blip r:embed="rId5"/>
          <a:stretch/>
        </p:blipFill>
        <p:spPr>
          <a:xfrm>
            <a:off x="4705200" y="1779480"/>
            <a:ext cx="2799000" cy="1798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E:\флеш 16 гигов\работы бисер фото\P1010019.JPG"/>
          <p:cNvPicPr/>
          <p:nvPr/>
        </p:nvPicPr>
        <p:blipFill>
          <a:blip r:embed="rId6"/>
          <a:stretch/>
        </p:blipFill>
        <p:spPr>
          <a:xfrm>
            <a:off x="5778360" y="3638520"/>
            <a:ext cx="1513080" cy="2652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F:\DCIM\112_PANA\P1120883.JPG"/>
          <p:cNvPicPr/>
          <p:nvPr/>
        </p:nvPicPr>
        <p:blipFill>
          <a:blip r:embed="rId7"/>
          <a:stretch/>
        </p:blipFill>
        <p:spPr>
          <a:xfrm>
            <a:off x="2779560" y="3925800"/>
            <a:ext cx="2005200" cy="22557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0" descr=""/>
          <p:cNvPicPr/>
          <p:nvPr/>
        </p:nvPicPr>
        <p:blipFill>
          <a:blip r:embed="rId8"/>
          <a:stretch/>
        </p:blipFill>
        <p:spPr>
          <a:xfrm>
            <a:off x="1901880" y="725400"/>
            <a:ext cx="45957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50920" y="26028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85920" y="1942200"/>
            <a:ext cx="642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Основной идеей выбора проекта является его полезность.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Изготовление работы в стиле бисероплетение не требует больших ресурсных затрат.  Для изготовления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в стиле бисероплетение не требуется дорогостоящих материалов только разнообразный бисер. В магазинах имеется достаточный выбор бисера, которые подходят по цене, качеству и можно подобрать необходимую цветовую га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Изготовление работ в стиле бисероплетение возможно своими силами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Но требует очень большого терпения и усид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9" descr=""/>
          <p:cNvPicPr/>
          <p:nvPr/>
        </p:nvPicPr>
        <p:blipFill>
          <a:blip r:embed="rId4"/>
          <a:stretch/>
        </p:blipFill>
        <p:spPr>
          <a:xfrm>
            <a:off x="1122480" y="974880"/>
            <a:ext cx="6802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1214280" y="2297880"/>
            <a:ext cx="671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Украшение,  не сложно в исполнении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получилась очень красивой и функциональной, я думаю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ее можно подарить в подарок.  При  изготовлении работы  требуется  терпение, внимание и усид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9" descr=""/>
          <p:cNvPicPr/>
          <p:nvPr/>
        </p:nvPicPr>
        <p:blipFill>
          <a:blip r:embed="rId4"/>
          <a:stretch/>
        </p:blipFill>
        <p:spPr>
          <a:xfrm>
            <a:off x="1768320" y="1011240"/>
            <a:ext cx="47358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чудо украш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1 реш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глядеть прек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з хлоп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асиво, элегант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л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" descr=""/>
          <p:cNvPicPr/>
          <p:nvPr/>
        </p:nvPicPr>
        <p:blipFill>
          <a:blip r:embed="rId4"/>
          <a:stretch/>
        </p:blipFill>
        <p:spPr>
          <a:xfrm>
            <a:off x="2451240" y="633240"/>
            <a:ext cx="3736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1285920" y="1788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Ценился бисер средь на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Он украшал наряд и б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285920" y="224640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Менялись –вкусы, стиль и м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Но бисер всё же не заб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7:04:14Z</dcterms:created>
  <dc:creator>н</dc:creator>
  <dc:description/>
  <dc:language>en-US</dc:language>
  <cp:lastModifiedBy>надежда</cp:lastModifiedBy>
  <dcterms:modified xsi:type="dcterms:W3CDTF">2012-07-22T17:34:34Z</dcterms:modified>
  <cp:revision>37</cp:revision>
  <dc:subject/>
  <dc:title>Слайд 1</dc:title>
</cp:coreProperties>
</file>