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02C8-B2BE-4FB3-ACF0-0722CF632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0A19-1450-4BDA-80B5-66A1476C0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273-8ECE-42A7-90FE-30BF5D9D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32A-8A20-4955-96C3-766E4AF4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EC6-C23E-4CFB-BF9D-F26E1FA7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77B-1BB0-4250-8D71-2D498F0B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515-65D2-4EF2-A25F-71EF24FB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2FA-6946-4101-B4ED-6731546B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04A-AE7F-42DD-B70A-7919B9B8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0E3-73A1-46FD-A0E5-3D83A136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E6D-9B53-4875-A5D8-743249AC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39B-D5CF-4C42-9218-E700C026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C1D-ED8B-40D0-A5E5-6EA259B1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A3B-4BF7-4625-890B-7C022C66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3816-EA50-4A6C-B3F4-E5371874E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28760" y="428760"/>
            <a:ext cx="8353440" cy="611964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Калашник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ца 7 класса МОУ СОШ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Пад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технологии МОУ СОШ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642960" y="2071800"/>
            <a:ext cx="784872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_RomanusCps"/>
              </a:rPr>
              <a:t>«Тысяча и одна ночь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928800" y="64296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редняя общеобразовательна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ворческий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F:\DCIM\112_PANA\P1120883.JPG"/>
          <p:cNvPicPr/>
          <p:nvPr/>
        </p:nvPicPr>
        <p:blipFill>
          <a:blip r:embed="rId4"/>
          <a:stretch/>
        </p:blipFill>
        <p:spPr>
          <a:xfrm>
            <a:off x="2193840" y="835200"/>
            <a:ext cx="43354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File0425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2125800" y="907920"/>
            <a:ext cx="4760640" cy="4826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File0433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2771640" y="620640"/>
            <a:ext cx="2698920" cy="568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File0435"/>
          <p:cNvPicPr/>
          <p:nvPr/>
        </p:nvPicPr>
        <p:blipFill>
          <a:blip r:embed="rId4">
            <a:lum contrast="78000"/>
          </a:blip>
          <a:stretch/>
        </p:blipFill>
        <p:spPr>
          <a:xfrm>
            <a:off x="2268360" y="907920"/>
            <a:ext cx="4268880" cy="4753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File0434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2484360" y="1125360"/>
            <a:ext cx="3973680" cy="482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5" descr=""/>
          <p:cNvPicPr/>
          <p:nvPr/>
        </p:nvPicPr>
        <p:blipFill>
          <a:blip r:embed="rId4"/>
          <a:stretch/>
        </p:blipFill>
        <p:spPr>
          <a:xfrm>
            <a:off x="249120" y="2212920"/>
            <a:ext cx="85345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28760" y="428760"/>
            <a:ext cx="8353440" cy="611964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928800" y="196416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9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ниверсальный аксессу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Работа выполнена своими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Финансовые затраты не вел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Позволяет проявить своё умение в работе с бисеро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11" descr=""/>
          <p:cNvPicPr/>
          <p:nvPr/>
        </p:nvPicPr>
        <p:blipFill>
          <a:blip r:embed="rId4"/>
          <a:stretch/>
        </p:blipFill>
        <p:spPr>
          <a:xfrm>
            <a:off x="506520" y="920880"/>
            <a:ext cx="82897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000080" y="2351160"/>
            <a:ext cx="8001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Выбирая проблему для темы проекта, я поставила перед собой следующ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Сделать аксессуар в технике бисеропле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Я должна совершенствовать свои умения в технике бисеропле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Я должна научиться алгоритму проект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8" descr=""/>
          <p:cNvPicPr/>
          <p:nvPr/>
        </p:nvPicPr>
        <p:blipFill>
          <a:blip r:embed="rId4"/>
          <a:stretch/>
        </p:blipFill>
        <p:spPr>
          <a:xfrm>
            <a:off x="347760" y="1047600"/>
            <a:ext cx="83995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К началу </a:t>
            </a:r>
            <a:r>
              <a:rPr b="1" lang="en-US" sz="2200" spc="-1" strike="noStrike">
                <a:solidFill>
                  <a:srgbClr val="000000"/>
                </a:solidFill>
                <a:latin typeface="Antiqua"/>
              </a:rPr>
              <a:t>XIX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века в России начался настоящ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бисерный б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В деревнях бисер и стеклярус стали чуть ли н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обязатель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украшением народного костю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Долгими вечерами крестьянки плел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ткали, вышив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Воротнички, делали бусы и ожерель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украшали голов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уборы, пояса, празднич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сарафаны, соперничая в скорости да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спорости. Недаром считалос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ntiqua"/>
              </a:rPr>
              <a:t>что "бороной да иглой деревня стоит".</a:t>
            </a:r>
            <a:r>
              <a:rPr b="1" lang="ru-RU" sz="2400" spc="-1" strike="noStrike">
                <a:solidFill>
                  <a:srgbClr val="000000"/>
                </a:solidFill>
                <a:latin typeface="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4"/>
          <a:stretch/>
        </p:blipFill>
        <p:spPr>
          <a:xfrm>
            <a:off x="1566720" y="371520"/>
            <a:ext cx="58215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E:\флеш 16 гигов\работы бисер фото\P1020927.JPG"/>
          <p:cNvPicPr/>
          <p:nvPr/>
        </p:nvPicPr>
        <p:blipFill>
          <a:blip r:embed="rId4"/>
          <a:stretch/>
        </p:blipFill>
        <p:spPr>
          <a:xfrm>
            <a:off x="1206360" y="1566720"/>
            <a:ext cx="2013120" cy="2475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E:\документы с бука домашнего\фото\P1070435.JPG"/>
          <p:cNvPicPr/>
          <p:nvPr/>
        </p:nvPicPr>
        <p:blipFill>
          <a:blip r:embed="rId5"/>
          <a:stretch/>
        </p:blipFill>
        <p:spPr>
          <a:xfrm>
            <a:off x="4705200" y="1779480"/>
            <a:ext cx="2799000" cy="1798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E:\флеш 16 гигов\работы бисер фото\P1010019.JPG"/>
          <p:cNvPicPr/>
          <p:nvPr/>
        </p:nvPicPr>
        <p:blipFill>
          <a:blip r:embed="rId6"/>
          <a:stretch/>
        </p:blipFill>
        <p:spPr>
          <a:xfrm>
            <a:off x="5778360" y="3638520"/>
            <a:ext cx="1513080" cy="26528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F:\DCIM\112_PANA\P1120883.JPG"/>
          <p:cNvPicPr/>
          <p:nvPr/>
        </p:nvPicPr>
        <p:blipFill>
          <a:blip r:embed="rId7"/>
          <a:stretch/>
        </p:blipFill>
        <p:spPr>
          <a:xfrm>
            <a:off x="2779560" y="3925800"/>
            <a:ext cx="2005200" cy="22557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0" descr=""/>
          <p:cNvPicPr/>
          <p:nvPr/>
        </p:nvPicPr>
        <p:blipFill>
          <a:blip r:embed="rId8"/>
          <a:stretch/>
        </p:blipFill>
        <p:spPr>
          <a:xfrm>
            <a:off x="1901880" y="725400"/>
            <a:ext cx="45957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50920" y="26028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285920" y="1942200"/>
            <a:ext cx="642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Основной идеей выбора проекта является его полезность.</a:t>
            </a:r>
            <a:r>
              <a:rPr b="0" lang="ru-RU" sz="20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Изготовление работы в стиле бисероплетение не требует больших ресурсных затрат.  Для изготовления работы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в стиле бисероплетение не требуется дорогостоящих материалов только разнообразный бисер. В магазинах имеется достаточный выбор бисера, которые подходят по цене, качеству и можно подобрать необходимую цветовую га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Изготовление работ в стиле бисероплетение возможно своими силами</a:t>
            </a:r>
            <a:r>
              <a:rPr b="0" lang="ru-RU" sz="2000" spc="-1" strike="noStrike">
                <a:solidFill>
                  <a:srgbClr val="ff0000"/>
                </a:solidFill>
                <a:latin typeface="Arial Narrow"/>
                <a:ea typeface="Calibri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Но требует очень большого терпения и усидч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9" descr=""/>
          <p:cNvPicPr/>
          <p:nvPr/>
        </p:nvPicPr>
        <p:blipFill>
          <a:blip r:embed="rId4"/>
          <a:stretch/>
        </p:blipFill>
        <p:spPr>
          <a:xfrm>
            <a:off x="1122480" y="974880"/>
            <a:ext cx="68022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1214280" y="2297880"/>
            <a:ext cx="671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8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Украшение,  не сложно в исполнении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Работа получилась очень красивой и функциональной, я думаю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ее можно подарить в подарок.  При  изготовлении работы  требуется  терпение, внимание и усидч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9" descr=""/>
          <p:cNvPicPr/>
          <p:nvPr/>
        </p:nvPicPr>
        <p:blipFill>
          <a:blip r:embed="rId4"/>
          <a:stretch/>
        </p:blipFill>
        <p:spPr>
          <a:xfrm>
            <a:off x="1768320" y="1011240"/>
            <a:ext cx="47358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то чудо украш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1 реш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глядеть прекрас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ез хлоп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асиво, элегант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углый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5" descr=""/>
          <p:cNvPicPr/>
          <p:nvPr/>
        </p:nvPicPr>
        <p:blipFill>
          <a:blip r:embed="rId4"/>
          <a:stretch/>
        </p:blipFill>
        <p:spPr>
          <a:xfrm>
            <a:off x="2451240" y="633240"/>
            <a:ext cx="37368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28760" y="428760"/>
            <a:ext cx="8353440" cy="6119640"/>
          </a:xfrm>
          <a:prstGeom prst="rect">
            <a:avLst/>
          </a:prstGeom>
          <a:gradFill rotWithShape="0">
            <a:gsLst>
              <a:gs pos="0">
                <a:srgbClr val="e9bd65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ecor160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-46080" y="-60660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decor160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757920" y="5084640"/>
            <a:ext cx="2386080" cy="23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1285920" y="178812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Ценился бисер средь нар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Он украшал наряд и б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285920" y="2246400"/>
            <a:ext cx="62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Менялись –вкусы, стиль и мо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Но бисер всё же не заб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7:04:14Z</dcterms:created>
  <dc:creator>н</dc:creator>
  <dc:description/>
  <dc:language>en-US</dc:language>
  <cp:lastModifiedBy>надежда</cp:lastModifiedBy>
  <dcterms:modified xsi:type="dcterms:W3CDTF">2012-07-22T17:34:34Z</dcterms:modified>
  <cp:revision>37</cp:revision>
  <dc:subject/>
  <dc:title>Слайд 1</dc:title>
</cp:coreProperties>
</file>