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20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8.gif" ContentType="image/gif"/>
  <Override PartName="/ppt/media/image19.png" ContentType="image/png"/>
  <Override PartName="/ppt/media/image16.gif" ContentType="image/gif"/>
  <Override PartName="/ppt/media/image1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C62-9309-45E5-8F77-A82C5F70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B18-E367-4AB2-8A98-C29B388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F81-ED62-4E8B-9454-C4BC18A7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925-0B11-4BC3-AA3B-7F89D30E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E3C-C118-4DF7-8570-0BA36C3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4DB-9054-4520-A1C9-3949B28F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07F-12A4-4549-9682-E25212F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CA0-6067-4359-86B8-E000FF1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67E-61BE-40EC-8F84-DCF79D0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6D66-6560-4080-A35E-4B70F2E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291-F638-4CAB-9AAD-10A4D3EB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96B-6A24-40A4-B95D-CBB7737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4B0-697A-49C4-9FC9-698612953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2008-11/1226526676_shkolni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9999"/>
              </a:solidFill>
              <a:latin typeface="Arial Narrow"/>
            </a:endParaRPr>
          </a:p>
        </p:txBody>
      </p:sp>
      <p:pic>
        <p:nvPicPr>
          <p:cNvPr id="42" name="Picture 2" descr="Картинка 66 из 310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352680" y="533520"/>
            <a:ext cx="57913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школа № 1 пос. Мостов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муниципального образования Мостов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Урок русского языка в 4 клас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Учитель Самойленко М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533520" y="152388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Без зарядк…,                к телефон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для маз…,                     от печал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к проруб…,                    к ноч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вокруг школ..,                с лиц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кроме матер…,             по пол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к сестр…,                      у братц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по тропинк…,                к дочер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после вьюг…,               по яблок..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до утр…,                       из тю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около пап…,                 к дяд…</a:t>
            </a: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Табличка 6"/>
          <p:cNvSpPr/>
          <p:nvPr/>
        </p:nvSpPr>
        <p:spPr>
          <a:xfrm>
            <a:off x="1676520" y="380880"/>
            <a:ext cx="6505560" cy="1067040"/>
          </a:xfrm>
          <a:custGeom>
            <a:avLst/>
            <a:gdLst>
              <a:gd name="textAreaLeft" fmla="*/ 125640 w 6505560"/>
              <a:gd name="textAreaRight" fmla="*/ 6379920 w 6505560"/>
              <a:gd name="textAreaTop" fmla="*/ 125640 h 1067040"/>
              <a:gd name="textAreaBottom" fmla="*/ 941400 h 1067040"/>
            </a:gdLst>
            <a:ahLst/>
            <a:rect l="textAreaLeft" t="textAreaTop" r="textAreaRight" b="textAreaBottom"/>
            <a:pathLst>
              <a:path w="1316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054" y="21600"/>
                </a:lnTo>
                <a:arcTo wR="3600" hR="3600" stAng="10800000" swAng="5400000"/>
                <a:lnTo>
                  <a:pt x="131654" y="3600"/>
                </a:lnTo>
                <a:arcTo wR="3600" hR="3600" stAng="5400000" swAng="5400000"/>
                <a:close/>
              </a:path>
            </a:pathLst>
          </a:custGeom>
          <a:solidFill>
            <a:srgbClr val="ffcc99"/>
          </a:solidFill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Rockwell Condensed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j0422988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nimated object 13"/>
          <p:cNvPicPr/>
          <p:nvPr/>
        </p:nvPicPr>
        <p:blipFill>
          <a:blip r:embed="rId2"/>
          <a:stretch/>
        </p:blipFill>
        <p:spPr>
          <a:xfrm rot="19034400">
            <a:off x="539640" y="62028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animated object 13"/>
          <p:cNvPicPr/>
          <p:nvPr/>
        </p:nvPicPr>
        <p:blipFill>
          <a:blip r:embed="rId3"/>
          <a:stretch/>
        </p:blipFill>
        <p:spPr>
          <a:xfrm rot="837600">
            <a:off x="7451280" y="522936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animated object 13"/>
          <p:cNvPicPr/>
          <p:nvPr/>
        </p:nvPicPr>
        <p:blipFill>
          <a:blip r:embed="rId4"/>
          <a:stretch/>
        </p:blipFill>
        <p:spPr>
          <a:xfrm rot="1008000">
            <a:off x="4572000" y="41497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animated object 13"/>
          <p:cNvPicPr/>
          <p:nvPr/>
        </p:nvPicPr>
        <p:blipFill>
          <a:blip r:embed="rId5"/>
          <a:stretch/>
        </p:blipFill>
        <p:spPr>
          <a:xfrm rot="1255200">
            <a:off x="7236000" y="620280"/>
            <a:ext cx="1064880" cy="1065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animated object 13"/>
          <p:cNvPicPr/>
          <p:nvPr/>
        </p:nvPicPr>
        <p:blipFill>
          <a:blip r:embed="rId6"/>
          <a:stretch/>
        </p:blipFill>
        <p:spPr>
          <a:xfrm rot="3338400">
            <a:off x="539280" y="515736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imated object 13"/>
          <p:cNvPicPr/>
          <p:nvPr/>
        </p:nvPicPr>
        <p:blipFill>
          <a:blip r:embed="rId7"/>
          <a:stretch/>
        </p:blipFill>
        <p:spPr>
          <a:xfrm rot="18021600">
            <a:off x="2987280" y="558936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nimated object 13"/>
          <p:cNvPicPr/>
          <p:nvPr/>
        </p:nvPicPr>
        <p:blipFill>
          <a:blip r:embed="rId8"/>
          <a:stretch/>
        </p:blipFill>
        <p:spPr>
          <a:xfrm rot="4977000">
            <a:off x="4500360" y="419040"/>
            <a:ext cx="1065240" cy="1064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animated object 13"/>
          <p:cNvPicPr/>
          <p:nvPr/>
        </p:nvPicPr>
        <p:blipFill>
          <a:blip r:embed="rId9"/>
          <a:stretch/>
        </p:blipFill>
        <p:spPr>
          <a:xfrm rot="3286200">
            <a:off x="684000" y="2637000"/>
            <a:ext cx="1064880" cy="1065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animated object 13"/>
          <p:cNvPicPr/>
          <p:nvPr/>
        </p:nvPicPr>
        <p:blipFill>
          <a:blip r:embed="rId10"/>
          <a:stretch/>
        </p:blipFill>
        <p:spPr>
          <a:xfrm rot="19034400">
            <a:off x="7020000" y="285228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animated object 13"/>
          <p:cNvPicPr/>
          <p:nvPr/>
        </p:nvPicPr>
        <p:blipFill>
          <a:blip r:embed="rId11"/>
          <a:stretch/>
        </p:blipFill>
        <p:spPr>
          <a:xfrm rot="19034400">
            <a:off x="3132000" y="24919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animated object 13"/>
          <p:cNvPicPr/>
          <p:nvPr/>
        </p:nvPicPr>
        <p:blipFill>
          <a:blip r:embed="rId12"/>
          <a:stretch/>
        </p:blipFill>
        <p:spPr>
          <a:xfrm rot="19034400">
            <a:off x="5651640" y="558936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animated object 13"/>
          <p:cNvPicPr/>
          <p:nvPr/>
        </p:nvPicPr>
        <p:blipFill>
          <a:blip r:embed="rId13"/>
          <a:stretch/>
        </p:blipFill>
        <p:spPr>
          <a:xfrm rot="19034400">
            <a:off x="5580000" y="16999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animated object 13"/>
          <p:cNvPicPr/>
          <p:nvPr/>
        </p:nvPicPr>
        <p:blipFill>
          <a:blip r:embed="rId14"/>
          <a:stretch/>
        </p:blipFill>
        <p:spPr>
          <a:xfrm rot="19034400">
            <a:off x="2556000" y="69192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animated object 13"/>
          <p:cNvPicPr/>
          <p:nvPr/>
        </p:nvPicPr>
        <p:blipFill>
          <a:blip r:embed="rId15"/>
          <a:stretch/>
        </p:blipFill>
        <p:spPr>
          <a:xfrm rot="19034400">
            <a:off x="2268360" y="4149360"/>
            <a:ext cx="1065240" cy="1065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1295280" y="3808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 Р О В Е Р Ь   С Е Б Я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1371600"/>
            <a:ext cx="86108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Роди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Rockwell Condensed"/>
              </a:rPr>
              <a:t>1 скл                   2 скл                3 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без зарядк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  с лиц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для маз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вокруг школ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из тюл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от печал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после вьюг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 до утр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кроме матер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около пап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  у братц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а      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в печ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1447920" y="38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 Р О В Е Р Ь  С Е Б Я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04920" y="1600200"/>
            <a:ext cx="86104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Да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Rockwell Condensed"/>
              </a:rPr>
              <a:t>1 скл                     2 скл                   3 с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по тропинк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е      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по яблок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к ноч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к сестр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е            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по пол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  к проруб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к дяд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е 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             к телефон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у       </a:t>
            </a:r>
            <a:r>
              <a:rPr b="0" lang="ru-RU" sz="2800" spc="-1" strike="noStrike">
                <a:solidFill>
                  <a:srgbClr val="000000"/>
                </a:solidFill>
                <a:latin typeface="Rockwell Condensed"/>
              </a:rPr>
              <a:t>к дочер</a:t>
            </a:r>
            <a:r>
              <a:rPr b="0" lang="ru-RU" sz="2800" spc="-1" strike="noStrike">
                <a:solidFill>
                  <a:srgbClr val="cc0000"/>
                </a:solidFill>
                <a:latin typeface="Rockwell Condensed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676520" y="5335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С Р А В Н И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1752480"/>
          <a:ext cx="6553080" cy="3300480"/>
        </p:xfrm>
        <a:graphic>
          <a:graphicData uri="http://schemas.openxmlformats.org/drawingml/2006/table">
            <a:tbl>
              <a:tblPr/>
              <a:tblGrid>
                <a:gridCol w="1422360"/>
                <a:gridCol w="513072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Р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го?  Чего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куда?  Где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Д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му?   Чему?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де?     Куда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Rectangle 5"/>
          <p:cNvSpPr/>
          <p:nvPr/>
        </p:nvSpPr>
        <p:spPr>
          <a:xfrm>
            <a:off x="2133720" y="4572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С Р А В Н И </a:t>
            </a:r>
            <a:r>
              <a:rPr b="1" lang="ru-RU" sz="4000" spc="-1" strike="noStrike">
                <a:solidFill>
                  <a:srgbClr val="cc3300"/>
                </a:solidFill>
                <a:latin typeface="Rockwell Condensed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1828800"/>
          <a:ext cx="8077320" cy="4595760"/>
        </p:xfrm>
        <a:graphic>
          <a:graphicData uri="http://schemas.openxmlformats.org/drawingml/2006/table">
            <a:tbl>
              <a:tblPr/>
              <a:tblGrid>
                <a:gridCol w="1575000"/>
                <a:gridCol w="650232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Р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С,  у,  в,  из,  до,  от,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без,  для,  около, после,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кроме,  вокруг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Д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К,  п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1905120" y="609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С Р А В Н И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828800"/>
          <a:ext cx="7924680" cy="3809880"/>
        </p:xfrm>
        <a:graphic>
          <a:graphicData uri="http://schemas.openxmlformats.org/drawingml/2006/table">
            <a:tbl>
              <a:tblPr/>
              <a:tblGrid>
                <a:gridCol w="1523880"/>
                <a:gridCol w="2052720"/>
                <a:gridCol w="2290680"/>
                <a:gridCol w="2057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1 ск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2 ск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3 ск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Р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Ы, 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А, -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ff9900"/>
                          </a:solidFill>
                          <a:latin typeface="Rockwell Condensed"/>
                        </a:rPr>
                        <a:t>Д.п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У, -Ю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8380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  </a:t>
            </a: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БУКВЕННЫЙ 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1447920"/>
          <a:ext cx="6324480" cy="4603680"/>
        </p:xfrm>
        <a:graphic>
          <a:graphicData uri="http://schemas.openxmlformats.org/drawingml/2006/table">
            <a:tbl>
              <a:tblPr/>
              <a:tblGrid>
                <a:gridCol w="2057400"/>
                <a:gridCol w="990720"/>
                <a:gridCol w="1295280"/>
                <a:gridCol w="198108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1 вариан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2 вариан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ff"/>
                          </a:solidFill>
                          <a:latin typeface="Rockwell Condensed"/>
                        </a:rPr>
                        <a:t>-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44792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 Р О В Е Р Ь  С Е Б Я 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-685800" y="2133720"/>
            <a:ext cx="9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Rockwell Condensed"/>
              </a:rPr>
              <a:t>1 вариант : </a:t>
            </a:r>
            <a:r>
              <a:rPr b="1" lang="ru-RU" sz="4000" spc="-1" strike="noStrike">
                <a:solidFill>
                  <a:srgbClr val="0000ff"/>
                </a:solidFill>
                <a:latin typeface="Rockwell Condensed"/>
              </a:rPr>
              <a:t>5, 1, 2, 4, 3, 1,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143000" y="3429000"/>
            <a:ext cx="75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Rockwell Condensed"/>
              </a:rPr>
              <a:t>2 вариант :</a:t>
            </a:r>
            <a:r>
              <a:rPr b="1" lang="ru-RU" sz="4000" spc="-1" strike="noStrike">
                <a:solidFill>
                  <a:srgbClr val="cc0000"/>
                </a:solidFill>
                <a:latin typeface="Rockwell Condensed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Rockwell Condensed"/>
              </a:rPr>
              <a:t>0, 6, 7, 9, 8, 6, 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natu002"/>
          <p:cNvPicPr/>
          <p:nvPr/>
        </p:nvPicPr>
        <p:blipFill>
          <a:blip r:embed="rId1"/>
          <a:stretch/>
        </p:blipFill>
        <p:spPr>
          <a:xfrm>
            <a:off x="0" y="0"/>
            <a:ext cx="2627280" cy="2852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1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894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f1e0ab6595fbb38cf9f927b4c66f1660"/>
          <p:cNvPicPr/>
          <p:nvPr/>
        </p:nvPicPr>
        <p:blipFill>
          <a:blip r:embed="rId3"/>
          <a:stretch/>
        </p:blipFill>
        <p:spPr>
          <a:xfrm>
            <a:off x="0" y="2852640"/>
            <a:ext cx="3182760" cy="400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f1e0ab6595fbb38cf9f927b4c66f1660"/>
          <p:cNvPicPr/>
          <p:nvPr/>
        </p:nvPicPr>
        <p:blipFill>
          <a:blip r:embed="rId4"/>
          <a:stretch/>
        </p:blipFill>
        <p:spPr>
          <a:xfrm>
            <a:off x="3124080" y="2852640"/>
            <a:ext cx="3003840" cy="400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f1e0ab6595fbb38cf9f927b4c66f1660"/>
          <p:cNvPicPr/>
          <p:nvPr/>
        </p:nvPicPr>
        <p:blipFill>
          <a:blip r:embed="rId5"/>
          <a:stretch/>
        </p:blipFill>
        <p:spPr>
          <a:xfrm>
            <a:off x="6084720" y="2852640"/>
            <a:ext cx="3059280" cy="4005360"/>
          </a:xfrm>
          <a:prstGeom prst="rect">
            <a:avLst/>
          </a:prstGeom>
          <a:ln w="0">
            <a:noFill/>
          </a:ln>
        </p:spPr>
      </p:pic>
      <p:pic>
        <p:nvPicPr>
          <p:cNvPr id="169" name="DJ_Slon_-_Финская_Полька.mp3" descr=""/>
          <p:cNvPicPr/>
          <p:nvPr/>
        </p:nvPicPr>
        <p:blipFill>
          <a:blip r:embed="rId6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0"/>
          <p:cNvSpPr/>
          <p:nvPr/>
        </p:nvSpPr>
        <p:spPr>
          <a:xfrm>
            <a:off x="2666880" y="9907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Arial"/>
              </a:rPr>
              <a:t>ОТДОХ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61485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905120" y="45720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380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Rockwell Condensed"/>
              </a:rPr>
              <a:t>    </a:t>
            </a:r>
            <a:r>
              <a:rPr b="1" lang="en-US" sz="3200" spc="-1" strike="noStrike">
                <a:solidFill>
                  <a:srgbClr val="cc3300"/>
                </a:solidFill>
                <a:latin typeface="Rockwell Condensed"/>
              </a:rPr>
              <a:t>ОРФОГРАФИЧЕСКАЯ  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-69840" y="2958840"/>
            <a:ext cx="93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Rockwell Condensed"/>
              </a:rPr>
              <a:t>    </a:t>
            </a:r>
            <a:r>
              <a:rPr b="1" i="1" lang="en-US" sz="2800" spc="-1" strike="noStrike">
                <a:solidFill>
                  <a:srgbClr val="0000ff"/>
                </a:solidFill>
                <a:latin typeface="Rockwell Condensed"/>
              </a:rPr>
              <a:t>Осторожно ветер из калитки вышел, постуч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Rockwell Condensed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Rockwell Condensed"/>
              </a:rPr>
              <a:t>в окошко, пробежал по кры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post-149122-1252932963.png"/>
          <p:cNvPicPr/>
          <p:nvPr/>
        </p:nvPicPr>
        <p:blipFill>
          <a:blip r:embed="rId2"/>
          <a:stretch/>
        </p:blipFill>
        <p:spPr>
          <a:xfrm>
            <a:off x="3581280" y="426708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User\Мои документы\Чубукина Ольга Юрьевна\Все картинки\Мои рисунки\img287.jpg"/>
          <p:cNvPicPr/>
          <p:nvPr/>
        </p:nvPicPr>
        <p:blipFill>
          <a:blip r:embed="rId3"/>
          <a:stretch/>
        </p:blipFill>
        <p:spPr>
          <a:xfrm>
            <a:off x="1523880" y="1143000"/>
            <a:ext cx="659448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5120" y="45720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609480" y="91440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Rockwell Condensed"/>
              </a:rPr>
              <a:t>Тест</a:t>
            </a:r>
            <a:br>
              <a:rPr sz="6000"/>
            </a:br>
            <a:r>
              <a:rPr b="1" i="1" lang="ru-RU" sz="6000" spc="-1" strike="noStrike">
                <a:solidFill>
                  <a:srgbClr val="cc3300"/>
                </a:solidFill>
                <a:latin typeface="Rockwell Condensed"/>
              </a:rPr>
              <a:t>“Правописание падежных окончаний существительных”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1219320" y="45720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1. Какое существительное отличается от других склонени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лош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к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457200" y="53352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Rockwell Condensed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Rockwell Condensed"/>
              </a:rPr>
              <a:t>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2. У какого существительного окончание не такое, как у друг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к тетрад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о сир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в альб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на стран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1905120" y="45720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762120" y="4572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Rockwell Condensed"/>
              </a:rPr>
              <a:t>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3. Где должно быть окончание существите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1- го склонения – 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держать на лад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жители дерев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остановиться в гор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гостить в дерев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152280" y="8380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           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4. В написании оконч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     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какого  существите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     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можно  ошиби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на ст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на ст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на с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на дере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609480" y="7621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Rockwell Condensed"/>
              </a:rPr>
              <a:t>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5. Где ошибк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Р.п.- кого? ч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П.п. – о ком? о чё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Д.п. – кем? 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В.п. – ког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880" y="68580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6. В предложном паде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окончание   – е   име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    </a:t>
            </a:r>
            <a:r>
              <a:rPr b="1" i="1" lang="ru-RU" sz="3600" spc="-1" strike="noStrike">
                <a:solidFill>
                  <a:srgbClr val="cc3300"/>
                </a:solidFill>
                <a:latin typeface="Rockwell Condensed"/>
              </a:rPr>
              <a:t>имена существ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а) 1 и 2 скло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б) только 1 скло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в) только 2 скло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Rockwell Condensed"/>
              </a:rPr>
              <a:t>г) 1 и 3 скло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990720" y="1905120"/>
          <a:ext cx="7086600" cy="2377800"/>
        </p:xfrm>
        <a:graphic>
          <a:graphicData uri="http://schemas.openxmlformats.org/drawingml/2006/table">
            <a:tbl>
              <a:tblPr/>
              <a:tblGrid>
                <a:gridCol w="3054240"/>
                <a:gridCol w="693720"/>
                <a:gridCol w="623880"/>
                <a:gridCol w="763560"/>
                <a:gridCol w="625680"/>
                <a:gridCol w="691920"/>
                <a:gridCol w="633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Номер  зад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6600"/>
                          </a:solidFill>
                          <a:latin typeface="Rockwell Condensed"/>
                        </a:rPr>
                        <a:t>Номер отв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ff"/>
                          </a:solidFill>
                          <a:latin typeface="Rockwell Condensed"/>
                          <a:ea typeface="MS Mincho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12"/>
          <p:cNvSpPr/>
          <p:nvPr/>
        </p:nvSpPr>
        <p:spPr>
          <a:xfrm>
            <a:off x="1600200" y="4572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  </a:t>
            </a: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 Р О В Е Р Ь   С Е Б Я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5" descr="post-149122-1252932963.png"/>
          <p:cNvPicPr/>
          <p:nvPr/>
        </p:nvPicPr>
        <p:blipFill>
          <a:blip r:embed="rId2"/>
          <a:stretch/>
        </p:blipFill>
        <p:spPr>
          <a:xfrm>
            <a:off x="4952880" y="449568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32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4876920" cy="47926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0"/>
          <p:cNvSpPr txBox="1"/>
          <p:nvPr/>
        </p:nvSpPr>
        <p:spPr>
          <a:xfrm>
            <a:off x="1752480" y="380880"/>
            <a:ext cx="7391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 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Рисунок1.png"/>
          <p:cNvPicPr/>
          <p:nvPr/>
        </p:nvPicPr>
        <p:blipFill>
          <a:blip r:embed="rId2"/>
          <a:stretch/>
        </p:blipFill>
        <p:spPr>
          <a:xfrm>
            <a:off x="1676520" y="1828800"/>
            <a:ext cx="4510080" cy="441972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4" descr=""/>
          <p:cNvPicPr/>
          <p:nvPr/>
        </p:nvPicPr>
        <p:blipFill>
          <a:blip r:embed="rId3"/>
          <a:stretch/>
        </p:blipFill>
        <p:spPr>
          <a:xfrm>
            <a:off x="3657600" y="-835200"/>
            <a:ext cx="495612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1447920" y="4572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Rockwell Condensed"/>
              </a:rPr>
              <a:t>Словарная 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6553080" y="2971800"/>
            <a:ext cx="1828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Ь</a:t>
            </a:r>
            <a:endParaRPr b="0" lang="en-US" sz="8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304920" y="2743200"/>
            <a:ext cx="1828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</a:t>
            </a:r>
            <a:endParaRPr b="0" lang="en-US" sz="8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5257800" y="121932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ГОРОДЬ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6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4224600" cy="150516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609480" y="2133720"/>
            <a:ext cx="49532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      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3276720" y="3200400"/>
            <a:ext cx="1143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6019920" y="3276720"/>
            <a:ext cx="1371600" cy="20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1905120" y="4572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Rockwell Condensed"/>
              </a:rPr>
              <a:t>Словарная 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14300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Rockwell Condensed"/>
              </a:rPr>
              <a:t>Словарная 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4" descr="f3617e4f5099.jpg"/>
          <p:cNvPicPr/>
          <p:nvPr/>
        </p:nvPicPr>
        <p:blipFill>
          <a:blip r:embed="rId2"/>
          <a:srcRect l="8114" t="0" r="55224" b="49541"/>
          <a:stretch/>
        </p:blipFill>
        <p:spPr>
          <a:xfrm>
            <a:off x="4419720" y="2819520"/>
            <a:ext cx="1571400" cy="1562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f3617e4f5099.jpg"/>
          <p:cNvPicPr/>
          <p:nvPr/>
        </p:nvPicPr>
        <p:blipFill>
          <a:blip r:embed="rId3"/>
          <a:srcRect l="55006" t="2314" r="11666" b="49238"/>
          <a:stretch/>
        </p:blipFill>
        <p:spPr>
          <a:xfrm>
            <a:off x="7467480" y="3048120"/>
            <a:ext cx="1428840" cy="1500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f3617e4f5099.jpg"/>
          <p:cNvPicPr/>
          <p:nvPr/>
        </p:nvPicPr>
        <p:blipFill>
          <a:blip r:embed="rId4"/>
          <a:srcRect l="70007" t="48471" r="3334" b="3082"/>
          <a:stretch/>
        </p:blipFill>
        <p:spPr>
          <a:xfrm>
            <a:off x="5715000" y="137160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f3617e4f5099.jpg"/>
          <p:cNvPicPr/>
          <p:nvPr/>
        </p:nvPicPr>
        <p:blipFill>
          <a:blip r:embed="rId5"/>
          <a:srcRect l="0" t="50773" r="71670" b="3082"/>
          <a:stretch/>
        </p:blipFill>
        <p:spPr>
          <a:xfrm>
            <a:off x="6019920" y="289548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f3617e4f5099.jpg"/>
          <p:cNvPicPr/>
          <p:nvPr/>
        </p:nvPicPr>
        <p:blipFill>
          <a:blip r:embed="rId6"/>
          <a:srcRect l="35008" t="50773" r="35008" b="768"/>
          <a:stretch/>
        </p:blipFill>
        <p:spPr>
          <a:xfrm>
            <a:off x="7086600" y="137160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f3617e4f5099.jpg"/>
          <p:cNvPicPr/>
          <p:nvPr/>
        </p:nvPicPr>
        <p:blipFill>
          <a:blip r:embed="rId7"/>
          <a:srcRect l="35008" t="50773" r="35008" b="768"/>
          <a:stretch/>
        </p:blipFill>
        <p:spPr>
          <a:xfrm>
            <a:off x="6400800" y="4343400"/>
            <a:ext cx="1285920" cy="1500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f3617e4f5099.jpg"/>
          <p:cNvPicPr/>
          <p:nvPr/>
        </p:nvPicPr>
        <p:blipFill>
          <a:blip r:embed="rId8"/>
          <a:srcRect l="35008" t="50773" r="35008" b="768"/>
          <a:stretch/>
        </p:blipFill>
        <p:spPr>
          <a:xfrm>
            <a:off x="4114800" y="1295280"/>
            <a:ext cx="1285920" cy="1500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f3617e4f5099.jpg"/>
          <p:cNvPicPr/>
          <p:nvPr/>
        </p:nvPicPr>
        <p:blipFill>
          <a:blip r:embed="rId9"/>
          <a:srcRect l="55006" t="2314" r="11666" b="49238"/>
          <a:stretch/>
        </p:blipFill>
        <p:spPr>
          <a:xfrm>
            <a:off x="5029200" y="4572000"/>
            <a:ext cx="1428840" cy="15001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17" descr=""/>
          <p:cNvPicPr/>
          <p:nvPr/>
        </p:nvPicPr>
        <p:blipFill>
          <a:blip r:embed="rId10"/>
          <a:stretch/>
        </p:blipFill>
        <p:spPr>
          <a:xfrm>
            <a:off x="96840" y="1805040"/>
            <a:ext cx="5018040" cy="1187280"/>
          </a:xfrm>
          <a:prstGeom prst="rect">
            <a:avLst/>
          </a:prstGeom>
          <a:ln w="0">
            <a:noFill/>
          </a:ln>
        </p:spPr>
      </p:pic>
      <p:sp>
        <p:nvSpPr>
          <p:cNvPr id="82" name="WordArt 25"/>
          <p:cNvSpPr txBox="1"/>
          <p:nvPr/>
        </p:nvSpPr>
        <p:spPr>
          <a:xfrm>
            <a:off x="1143000" y="3276720"/>
            <a:ext cx="2819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0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905120" y="45720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28600" y="2025360"/>
            <a:ext cx="89154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Rockwell Condensed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Нет изгороди    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Рад новой изгор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Вдали от Родины      Скучал по Р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Вернулся из столицы     Ездил по сто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post-149122-1252932963.png"/>
          <p:cNvPicPr/>
          <p:nvPr/>
        </p:nvPicPr>
        <p:blipFill>
          <a:blip r:embed="rId2"/>
          <a:stretch/>
        </p:blipFill>
        <p:spPr>
          <a:xfrm>
            <a:off x="3352680" y="4724280"/>
            <a:ext cx="1924200" cy="1924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2438280" y="5335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 О Д У М А Й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558720" y="1828800"/>
            <a:ext cx="7899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ПРАВОПИСАНИЕ БЕЗУДАРНЫХ ОКОНЧАНИЙ ИМЁН СУЩЕСТВИТЕЛЬНЫХ 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В РОДИТЕЛЬНОМ 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Rockwell Condensed"/>
              </a:rPr>
              <a:t>И ДАТЕЛЬНОМ ПАДЕЖ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7" name="Табличка 6"/>
          <p:cNvSpPr/>
          <p:nvPr/>
        </p:nvSpPr>
        <p:spPr>
          <a:xfrm>
            <a:off x="1828800" y="533520"/>
            <a:ext cx="6505560" cy="1143000"/>
          </a:xfrm>
          <a:custGeom>
            <a:avLst/>
            <a:gdLst>
              <a:gd name="textAreaLeft" fmla="*/ 134640 w 6505560"/>
              <a:gd name="textAreaRight" fmla="*/ 6370920 w 6505560"/>
              <a:gd name="textAreaTop" fmla="*/ 134640 h 1143000"/>
              <a:gd name="textAreaBottom" fmla="*/ 1008360 h 1143000"/>
            </a:gdLst>
            <a:ahLst/>
            <a:rect l="textAreaLeft" t="textAreaTop" r="textAreaRight" b="textAreaBottom"/>
            <a:pathLst>
              <a:path w="1229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308" y="21600"/>
                </a:lnTo>
                <a:arcTo wR="3600" hR="3600" stAng="10800000" swAng="5400000"/>
                <a:lnTo>
                  <a:pt x="122908" y="3600"/>
                </a:lnTo>
                <a:arcTo wR="3600" hR="3600" stAng="5400000" swAng="5400000"/>
                <a:close/>
              </a:path>
            </a:pathLst>
          </a:custGeom>
          <a:solidFill>
            <a:srgbClr val="ffcc99"/>
          </a:solidFill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Rockwell Condensed"/>
              </a:rPr>
              <a:t>Работа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12"/>
          <p:cNvSpPr/>
          <p:nvPr/>
        </p:nvSpPr>
        <p:spPr>
          <a:xfrm>
            <a:off x="1523880" y="2286000"/>
            <a:ext cx="1670040" cy="1295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12"/>
          <p:cNvSpPr/>
          <p:nvPr/>
        </p:nvSpPr>
        <p:spPr>
          <a:xfrm>
            <a:off x="4038480" y="2286000"/>
            <a:ext cx="1676520" cy="121932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C:\Documents and Settings\1\Local Settings\Temporary Internet Files\Content.IE5\5LU4WEED\MCj03433510000[1].wmf"/>
          <p:cNvPicPr/>
          <p:nvPr/>
        </p:nvPicPr>
        <p:blipFill>
          <a:blip r:embed="rId2"/>
          <a:stretch/>
        </p:blipFill>
        <p:spPr>
          <a:xfrm>
            <a:off x="2057400" y="4572000"/>
            <a:ext cx="2000160" cy="193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Documents and Settings\1\Local Settings\Temporary Internet Files\Content.IE5\5LU4WEED\MCj03433450000[1].wmf"/>
          <p:cNvPicPr/>
          <p:nvPr/>
        </p:nvPicPr>
        <p:blipFill>
          <a:blip r:embed="rId3"/>
          <a:stretch/>
        </p:blipFill>
        <p:spPr>
          <a:xfrm>
            <a:off x="4419720" y="4419720"/>
            <a:ext cx="2043000" cy="18874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4"/>
          <p:cNvSpPr/>
          <p:nvPr/>
        </p:nvSpPr>
        <p:spPr>
          <a:xfrm>
            <a:off x="160020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1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505320" y="3733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12"/>
          <p:cNvSpPr/>
          <p:nvPr/>
        </p:nvSpPr>
        <p:spPr>
          <a:xfrm>
            <a:off x="6324480" y="22096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0033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6400800" y="373392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3 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10666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Алгоритм для проверки безударных падеж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Rockwell Condensed"/>
              </a:rPr>
              <a:t>окончаний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62120" y="198108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1.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Ставлю существительное в начальную форму и определяю скло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По изгород…(что?) изгород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Rockwell Condensed"/>
              </a:rPr>
              <a:t>ь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, 3-е с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2.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Подбираю слово-помощник и став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его в ту же форму: степ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Rockwell Condensed"/>
              </a:rPr>
              <a:t>ь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– по степ</a:t>
            </a: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и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Пишу такое окончание, как у сло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помощ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4.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Проверяю написанно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по степ</a:t>
            </a: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и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 – по изгород</a:t>
            </a:r>
            <a:r>
              <a:rPr b="1" lang="ru-RU" sz="2800" spc="-1" strike="noStrike">
                <a:solidFill>
                  <a:srgbClr val="cc3300"/>
                </a:solidFill>
                <a:latin typeface="Rockwell Condensed"/>
              </a:rPr>
              <a:t>и</a:t>
            </a:r>
            <a:r>
              <a:rPr b="0" lang="ru-RU" sz="2800" spc="-1" strike="noStrike">
                <a:solidFill>
                  <a:srgbClr val="0000ff"/>
                </a:solidFill>
                <a:latin typeface="Rockwell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6-14T21:27:1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