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E53-4B29-4406-900A-BFAE2B3F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725-A091-4709-8BB2-0EFA3128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D29-2C24-4DDB-B5E1-12DC1956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563-BA39-4A4D-8BD4-E9AF1045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40D-6616-4E88-8A93-D77A00CF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E25-A38F-4D20-8F49-54FD5501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4C0-3291-4BFB-B310-F627F7D3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E07-F48E-4602-AA67-C8E2355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911-4EAD-4E0D-B207-D9C38A98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E02-8D16-4817-A8F8-F3406E4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B11-507D-4E65-8D40-4C64077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094-7D21-4A82-9473-E2F1C29A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9920-6CD5-4471-808F-BF1B0671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4.png"/><Relationship Id="rId3" Type="http://schemas.openxmlformats.org/officeDocument/2006/relationships/image" Target="../media/image1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762120" y="914400"/>
            <a:ext cx="746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астушка-зеркало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агические времена в истории народа не уменьшили тяготения к частушечному жанру. В годы Великой Отечественной войны частушка обрела сатирическую направлен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Car-0"/>
          <p:cNvPicPr/>
          <p:nvPr/>
        </p:nvPicPr>
        <p:blipFill>
          <a:blip r:embed="rId1"/>
          <a:stretch/>
        </p:blipFill>
        <p:spPr>
          <a:xfrm>
            <a:off x="6477120" y="152280"/>
            <a:ext cx="1814400" cy="2186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7" name="Picture 12" descr="Car-0"/>
          <p:cNvPicPr/>
          <p:nvPr/>
        </p:nvPicPr>
        <p:blipFill>
          <a:blip r:embed="rId2"/>
          <a:stretch/>
        </p:blipFill>
        <p:spPr>
          <a:xfrm>
            <a:off x="533520" y="4419720"/>
            <a:ext cx="3038400" cy="2187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8" name="Picture 21" descr="Car-0"/>
          <p:cNvPicPr/>
          <p:nvPr/>
        </p:nvPicPr>
        <p:blipFill>
          <a:blip r:embed="rId3"/>
          <a:stretch/>
        </p:blipFill>
        <p:spPr>
          <a:xfrm>
            <a:off x="5410080" y="4267080"/>
            <a:ext cx="2467080" cy="2405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9" name="Picture 25" descr="Car-0"/>
          <p:cNvPicPr/>
          <p:nvPr/>
        </p:nvPicPr>
        <p:blipFill>
          <a:blip r:embed="rId4"/>
          <a:stretch/>
        </p:blipFill>
        <p:spPr>
          <a:xfrm>
            <a:off x="3581280" y="152280"/>
            <a:ext cx="1498680" cy="2186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70" name="Picture 27" descr="Car-0"/>
          <p:cNvPicPr/>
          <p:nvPr/>
        </p:nvPicPr>
        <p:blipFill>
          <a:blip r:embed="rId5"/>
          <a:stretch/>
        </p:blipFill>
        <p:spPr>
          <a:xfrm>
            <a:off x="609480" y="228600"/>
            <a:ext cx="1322640" cy="2185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mordasova2"/>
          <p:cNvPicPr/>
          <p:nvPr/>
        </p:nvPicPr>
        <p:blipFill>
          <a:blip r:embed="rId1"/>
          <a:stretch/>
        </p:blipFill>
        <p:spPr>
          <a:xfrm>
            <a:off x="609480" y="304920"/>
            <a:ext cx="2752920" cy="3743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72" name="Picture 8" descr="Cover"/>
          <p:cNvPicPr/>
          <p:nvPr/>
        </p:nvPicPr>
        <p:blipFill>
          <a:blip r:embed="rId2"/>
          <a:stretch/>
        </p:blipFill>
        <p:spPr>
          <a:xfrm>
            <a:off x="4267080" y="1371600"/>
            <a:ext cx="4419720" cy="4419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poster-1977a"/>
          <p:cNvPicPr/>
          <p:nvPr/>
        </p:nvPicPr>
        <p:blipFill>
          <a:blip r:embed="rId1"/>
          <a:stretch/>
        </p:blipFill>
        <p:spPr>
          <a:xfrm>
            <a:off x="150840" y="533520"/>
            <a:ext cx="2071800" cy="3124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75" name="Picture 13" descr="6563a9be54c8t"/>
          <p:cNvPicPr/>
          <p:nvPr/>
        </p:nvPicPr>
        <p:blipFill>
          <a:blip r:embed="rId2"/>
          <a:stretch/>
        </p:blipFill>
        <p:spPr>
          <a:xfrm>
            <a:off x="2514600" y="1828800"/>
            <a:ext cx="2670120" cy="394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plakat12"/>
          <p:cNvPicPr/>
          <p:nvPr/>
        </p:nvPicPr>
        <p:blipFill>
          <a:blip r:embed="rId3"/>
          <a:stretch/>
        </p:blipFill>
        <p:spPr>
          <a:xfrm>
            <a:off x="5486400" y="3551400"/>
            <a:ext cx="3124080" cy="2506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77" name="Rectangle 15"/>
          <p:cNvSpPr/>
          <p:nvPr/>
        </p:nvSpPr>
        <p:spPr>
          <a:xfrm>
            <a:off x="2971800" y="-4806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М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йкало-Амур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гистра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il6.mp3" descr=""/>
          <p:cNvPicPr/>
          <p:nvPr/>
        </p:nvPicPr>
        <p:blipFill>
          <a:blip r:embed="rId4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368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ушки- выражение веселого нрава народа, его ясного взгляда на жизнь. В них много иронии ,а ирония признак 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ушки называют фельетоном в коротких штаниш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504b53af9ff2d80ed05430f71505f1b8"/>
          <p:cNvPicPr/>
          <p:nvPr/>
        </p:nvPicPr>
        <p:blipFill>
          <a:blip r:embed="rId1"/>
          <a:stretch/>
        </p:blipFill>
        <p:spPr>
          <a:xfrm rot="21372000">
            <a:off x="7620120" y="5715000"/>
            <a:ext cx="1191960" cy="94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hastushka_webvit_net"/>
          <p:cNvPicPr/>
          <p:nvPr/>
        </p:nvPicPr>
        <p:blipFill>
          <a:blip r:embed="rId2"/>
          <a:stretch/>
        </p:blipFill>
        <p:spPr>
          <a:xfrm>
            <a:off x="4419720" y="1828800"/>
            <a:ext cx="4267080" cy="2133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315200" y="63244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09480" y="380880"/>
            <a:ext cx="5200920" cy="1190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882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42670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ушки - это коротенькие песенки с юмористическим (смешным) содержанием. Частушка появилась сравнительно недавно: в конце 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. Невозможно сказать, кто придумал первую частушку. Поэтому и говорят, что частушки сложил русский на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148142"/>
          <p:cNvPicPr/>
          <p:nvPr/>
        </p:nvPicPr>
        <p:blipFill>
          <a:blip r:embed="rId1"/>
          <a:stretch/>
        </p:blipFill>
        <p:spPr>
          <a:xfrm>
            <a:off x="4952880" y="1066680"/>
            <a:ext cx="3748320" cy="3810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частуш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р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ические, пародии- несклад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ё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бло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cr_004"/>
          <p:cNvPicPr/>
          <p:nvPr/>
        </p:nvPicPr>
        <p:blipFill>
          <a:blip r:embed="rId1"/>
          <a:stretch/>
        </p:blipFill>
        <p:spPr>
          <a:xfrm>
            <a:off x="3962520" y="3429000"/>
            <a:ext cx="4267080" cy="3224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во же "частушка" употребил для названия этого жанра народного творчества русский писатель-публицист Глеб Иванович Успе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Успенский"/>
          <p:cNvPicPr/>
          <p:nvPr/>
        </p:nvPicPr>
        <p:blipFill>
          <a:blip r:embed="rId1"/>
          <a:stretch/>
        </p:blipFill>
        <p:spPr>
          <a:xfrm>
            <a:off x="4800600" y="380880"/>
            <a:ext cx="3546360" cy="5653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090301f956a7bdeb6462adcd137107f9"/>
          <p:cNvPicPr/>
          <p:nvPr/>
        </p:nvPicPr>
        <p:blipFill>
          <a:blip r:embed="rId1"/>
          <a:stretch/>
        </p:blipFill>
        <p:spPr>
          <a:xfrm>
            <a:off x="1523880" y="457200"/>
            <a:ext cx="6172200" cy="4613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55324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ушки появились в сельской мест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44956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е частушки пели исключительно молодые мужчины. Они собирались и исполняли эти озорные песенки. Сначала частушки были о любви, об отношениях между парнями и девушками. Со временем стали появляться частушки о войне, о политике, о жизни в деревне. Сейчас тематика частушек чрезвычайно ши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603600" cy="3733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5" name="Picture 4" descr="504b53af9ff2d80ed05430f71505f1b8"/>
          <p:cNvPicPr/>
          <p:nvPr/>
        </p:nvPicPr>
        <p:blipFill>
          <a:blip r:embed="rId2"/>
          <a:stretch/>
        </p:blipFill>
        <p:spPr>
          <a:xfrm rot="21372000">
            <a:off x="7620120" y="5715000"/>
            <a:ext cx="11919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39625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рмонь - музыкальный инструмент, под который исполняли и исполняют частуш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743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вы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гит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зунг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704ff0d62397d7b4e887f0ba176e8847"/>
          <p:cNvPicPr/>
          <p:nvPr/>
        </p:nvPicPr>
        <p:blipFill>
          <a:blip r:embed="rId1"/>
          <a:stretch/>
        </p:blipFill>
        <p:spPr>
          <a:xfrm>
            <a:off x="609480" y="541008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10-300x415"/>
          <p:cNvPicPr/>
          <p:nvPr/>
        </p:nvPicPr>
        <p:blipFill>
          <a:blip r:embed="rId2"/>
          <a:stretch/>
        </p:blipFill>
        <p:spPr>
          <a:xfrm>
            <a:off x="5562720" y="1752480"/>
            <a:ext cx="2857320" cy="3953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Urozhai"/>
          <p:cNvPicPr/>
          <p:nvPr/>
        </p:nvPicPr>
        <p:blipFill>
          <a:blip r:embed="rId1"/>
          <a:stretch/>
        </p:blipFill>
        <p:spPr>
          <a:xfrm>
            <a:off x="1143000" y="2895480"/>
            <a:ext cx="4419720" cy="3157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8077320" y="6019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57800" y="380880"/>
            <a:ext cx="3209760" cy="22654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82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2-08-04T08:31:5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