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14.jpeg" ContentType="image/jpeg"/>
  <Override PartName="/ppt/media/image4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png" ContentType="image/png"/>
  <Override PartName="/ppt/media/image39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9090-470B-4EAB-AD68-0CA90C6B4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9BAB-7B5F-4CAF-BA0D-AD775966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862D-793F-4581-8190-334746EB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A22D-07D9-41D6-BC23-A49D992C5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6C1B-74FC-400A-B086-E3637CE5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A718-7A68-479D-8F3B-FED91BA9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800F-4166-419B-8661-565A5F0A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3673-F95B-4CD5-8549-DB91F952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353E-9742-4477-997A-C754EF35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6952-AE60-4D8D-938B-54C7E8BC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E961-47E8-4C3A-A931-7523BF90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05DB-19B6-4975-BA8C-9A806F54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27C2-4781-43DB-A37E-FA0A42D90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jpeg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image" Target="../media/image6.jpeg"/><Relationship Id="rId14" Type="http://schemas.openxmlformats.org/officeDocument/2006/relationships/image" Target="../media/image7.jpe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9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image" Target="../media/image5.jpeg"/><Relationship Id="rId11" Type="http://schemas.openxmlformats.org/officeDocument/2006/relationships/image" Target="../media/image29.jpeg"/><Relationship Id="rId12" Type="http://schemas.openxmlformats.org/officeDocument/2006/relationships/image" Target="../media/image30.jpeg"/><Relationship Id="rId13" Type="http://schemas.openxmlformats.org/officeDocument/2006/relationships/image" Target="../media/image31.jpeg"/><Relationship Id="rId14" Type="http://schemas.openxmlformats.org/officeDocument/2006/relationships/image" Target="../media/image32.jpe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image" Target="../media/image53.jpeg"/><Relationship Id="rId9" Type="http://schemas.openxmlformats.org/officeDocument/2006/relationships/image" Target="../media/image54.jpeg"/><Relationship Id="rId10" Type="http://schemas.openxmlformats.org/officeDocument/2006/relationships/image" Target="../media/image55.jpeg"/><Relationship Id="rId11" Type="http://schemas.openxmlformats.org/officeDocument/2006/relationships/image" Target="../media/image56.jpeg"/><Relationship Id="rId12" Type="http://schemas.openxmlformats.org/officeDocument/2006/relationships/image" Target="../media/image57.jpeg"/><Relationship Id="rId13" Type="http://schemas.openxmlformats.org/officeDocument/2006/relationships/image" Target="../media/image58.jpeg"/><Relationship Id="rId14" Type="http://schemas.openxmlformats.org/officeDocument/2006/relationships/image" Target="../media/image9.jpe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24000" y="333360"/>
            <a:ext cx="8496000" cy="65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ргей          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ександрович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   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сенин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14"/>
          <a:stretch/>
        </p:blipFill>
        <p:spPr>
          <a:xfrm>
            <a:off x="826920" y="0"/>
            <a:ext cx="738036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15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xit" presetID="8" presetSubtype="16">
                                  <p:stCondLst>
                                    <p:cond delay="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" nodeType="afterEffect" fill="hold" presetClass="exit" presetID="2" presetSubtype="4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3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1500"/>
                            </p:stCondLst>
                            <p:childTnLst>
                              <p:par>
                                <p:cTn id="28" nodeType="afterEffect" fill="hold" presetClass="exit" presetID="4" presetSubtype="16">
                                  <p:stCondLst>
                                    <p:cond delay="5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15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9500"/>
                            </p:stCondLst>
                            <p:childTnLst>
                              <p:par>
                                <p:cTn id="38" nodeType="afterEffect" fill="hold" presetClass="exit" presetID="4" presetSubtype="16">
                                  <p:stCondLst>
                                    <p:cond delay="35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60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1500"/>
                            </p:stCondLst>
                            <p:childTnLst>
                              <p:par>
                                <p:cTn id="48" nodeType="afterEffect" fill="hold" presetClass="exit" presetID="4" presetSubtype="16">
                                  <p:stCondLst>
                                    <p:cond delay="3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50920" cy="3213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050920" y="1844640"/>
            <a:ext cx="45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ведь хулиг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итает Сергей Есе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580000" y="0"/>
            <a:ext cx="356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9450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90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26920" y="260280"/>
            <a:ext cx="7632720" cy="4969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050920" y="5157720"/>
            <a:ext cx="6266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А.Есенин в группе военнослужащих военно-санитарного поезда №143. 1916год фрагмент фотогра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. Лит. Музей 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5003640" cy="4392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692360" y="1268280"/>
            <a:ext cx="5327640" cy="4321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268360" y="2565360"/>
            <a:ext cx="6480360" cy="4292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0" y="2349360"/>
            <a:ext cx="4356000" cy="3816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2484360" y="2060640"/>
            <a:ext cx="5112000" cy="424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3708360" y="260280"/>
            <a:ext cx="5219640" cy="4753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2771640" y="260280"/>
            <a:ext cx="5399280" cy="2737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395280" y="260280"/>
            <a:ext cx="4392720" cy="4608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0"/>
          <a:stretch/>
        </p:blipFill>
        <p:spPr>
          <a:xfrm>
            <a:off x="3276720" y="620640"/>
            <a:ext cx="4464000" cy="3816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1"/>
          <a:stretch/>
        </p:blipFill>
        <p:spPr>
          <a:xfrm>
            <a:off x="179280" y="2205000"/>
            <a:ext cx="5077080" cy="4653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2"/>
          <a:stretch/>
        </p:blipFill>
        <p:spPr>
          <a:xfrm>
            <a:off x="4551480" y="765000"/>
            <a:ext cx="4592520" cy="3743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3"/>
          <a:stretch/>
        </p:blipFill>
        <p:spPr>
          <a:xfrm>
            <a:off x="1187280" y="189000"/>
            <a:ext cx="3672000" cy="3600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4"/>
          <a:stretch/>
        </p:blipFill>
        <p:spPr>
          <a:xfrm>
            <a:off x="4067280" y="2236680"/>
            <a:ext cx="4859280" cy="4621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5"/>
          <a:stretch/>
        </p:blipFill>
        <p:spPr>
          <a:xfrm>
            <a:off x="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12" dur="3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9500"/>
                            </p:stCondLst>
                            <p:childTnLst>
                              <p:par>
                                <p:cTn id="114" nodeType="after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5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8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" dur="3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3500"/>
                            </p:stCondLst>
                            <p:childTnLst>
                              <p:par>
                                <p:cTn id="12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3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7500"/>
                            </p:stCondLst>
                            <p:childTnLst>
                              <p:par>
                                <p:cTn id="13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6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37" dur="3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8500"/>
                            </p:stCondLst>
                            <p:childTnLst>
                              <p:par>
                                <p:cTn id="139" nodeType="after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0" dur="3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25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9500"/>
                            </p:stCondLst>
                            <p:childTnLst>
                              <p:par>
                                <p:cTn id="148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49" dur="3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3500"/>
                            </p:stCondLst>
                            <p:childTnLst>
                              <p:par>
                                <p:cTn id="151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2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7500"/>
                            </p:stCondLst>
                            <p:childTnLst>
                              <p:par>
                                <p:cTn id="155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4500"/>
                            </p:stCondLst>
                            <p:childTnLst>
                              <p:par>
                                <p:cTn id="159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60" dur="3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8500"/>
                            </p:stCondLst>
                            <p:childTnLst>
                              <p:par>
                                <p:cTn id="162" nodeType="afterEffect" fill="hold" presetClass="exit" presetID="8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3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72500"/>
                            </p:stCondLst>
                            <p:childTnLst>
                              <p:par>
                                <p:cTn id="166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9500"/>
                            </p:stCondLst>
                            <p:childTnLst>
                              <p:par>
                                <p:cTn id="1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4" dur="3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2500"/>
                            </p:stCondLst>
                            <p:childTnLst>
                              <p:par>
                                <p:cTn id="176" nodeType="afterEffect" fill="hold" presetClass="exit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7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6500"/>
                            </p:stCondLst>
                            <p:childTnLst>
                              <p:par>
                                <p:cTn id="180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3500"/>
                            </p:stCondLst>
                            <p:childTnLst>
                              <p:par>
                                <p:cTn id="187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88" dur="3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97500"/>
                            </p:stCondLst>
                            <p:childTnLst>
                              <p:par>
                                <p:cTn id="190" nodeType="afterEffect" fill="hold" presetClass="exit" presetID="6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1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1500"/>
                            </p:stCondLst>
                            <p:childTnLst>
                              <p:par>
                                <p:cTn id="194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8500"/>
                            </p:stCondLst>
                            <p:childTnLst>
                              <p:par>
                                <p:cTn id="198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99" dur="3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12500"/>
                            </p:stCondLst>
                            <p:childTnLst>
                              <p:par>
                                <p:cTn id="20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3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16500"/>
                            </p:stCondLst>
                            <p:childTnLst>
                              <p:par>
                                <p:cTn id="207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23500"/>
                            </p:stCondLst>
                            <p:childTnLst>
                              <p:par>
                                <p:cTn id="212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213" dur="3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27500"/>
                            </p:stCondLst>
                            <p:childTnLst>
                              <p:par>
                                <p:cTn id="215" nodeType="afterEffect" fill="hold" presetClass="exit" presetID="6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16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3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38500"/>
                            </p:stCondLst>
                            <p:childTnLst>
                              <p:par>
                                <p:cTn id="223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224" dur="3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42500"/>
                            </p:stCondLst>
                            <p:childTnLst>
                              <p:par>
                                <p:cTn id="226" nodeType="after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7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485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5500"/>
                            </p:stCondLst>
                            <p:childTnLst>
                              <p:par>
                                <p:cTn id="236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237" dur="3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9500"/>
                            </p:stCondLst>
                            <p:childTnLst>
                              <p:par>
                                <p:cTn id="239" nodeType="afterEffect" fill="hold" presetClass="exit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0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63500"/>
                            </p:stCondLst>
                            <p:childTnLst>
                              <p:par>
                                <p:cTn id="243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70500"/>
                            </p:stCondLst>
                            <p:childTnLst>
                              <p:par>
                                <p:cTn id="247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248" dur="3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74500"/>
                            </p:stCondLst>
                            <p:childTnLst>
                              <p:par>
                                <p:cTn id="250" nodeType="afterEffect" fill="hold" presetClass="exit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1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78500"/>
                            </p:stCondLst>
                            <p:childTnLst>
                              <p:par>
                                <p:cTn id="254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85500"/>
                            </p:stCondLst>
                            <p:childTnLst>
                              <p:par>
                                <p:cTn id="260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261" dur="3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89500"/>
                            </p:stCondLst>
                            <p:childTnLst>
                              <p:par>
                                <p:cTn id="263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4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93500"/>
                            </p:stCondLst>
                            <p:childTnLst>
                              <p:par>
                                <p:cTn id="267" nodeType="after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925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" dur="1925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2" dur="192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4" dur="192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500"/>
                            </p:stCondLst>
                            <p:childTnLst>
                              <p:par>
                                <p:cTn id="277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278" dur="3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4500"/>
                            </p:stCondLst>
                            <p:childTnLst>
                              <p:par>
                                <p:cTn id="280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1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21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225520" y="260280"/>
            <a:ext cx="469116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987640" y="260280"/>
            <a:ext cx="3816360" cy="5400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771640" y="5734080"/>
            <a:ext cx="54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гей Есенин и Айседора Дункан /1922г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324000" y="-380880"/>
            <a:ext cx="9753840" cy="7238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5327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63640" y="566100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тограф стихотворения С.А.Есенина «РУСЬ». 19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195640" y="260280"/>
            <a:ext cx="6121440" cy="5616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68360" y="5950080"/>
            <a:ext cx="56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.Райх с детьми -  Костей и Та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419640" y="260280"/>
            <a:ext cx="4392360" cy="6021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635280" y="64008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йседора Дунк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9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8" presetSubtype="16">
                                  <p:stCondLst>
                                    <p:cond delay="3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9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6500"/>
                            </p:stCondLst>
                            <p:childTnLst>
                              <p:par>
                                <p:cTn id="305" nodeType="afterEffect" fill="hold" presetClass="entr" presetID="4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197080" y="169920"/>
            <a:ext cx="3743280" cy="5851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843280" y="6237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енин с сестрой Ка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556000" y="0"/>
            <a:ext cx="3887640" cy="630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700360" y="189000"/>
            <a:ext cx="3527280" cy="5976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187280" y="6237360"/>
            <a:ext cx="79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алина Бениславская преданный друг С.Есен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692360" y="476280"/>
            <a:ext cx="7056360" cy="424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556000" y="5373720"/>
            <a:ext cx="61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.А.Есенин читает матери поэму «Анна Снегина». 19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4247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419640" y="549360"/>
            <a:ext cx="3097080" cy="4905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484360" y="603576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.Толстая  и С.Есенин 1925г сентяб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979640" y="4869000"/>
            <a:ext cx="56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.А. Есенин и В.И. Эрлих со студентами Сельхозинститута у памятника А. С. Пушкину. 1924, июль. Детское (Царское) С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763640" y="189000"/>
            <a:ext cx="612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547640" y="189000"/>
            <a:ext cx="6769440" cy="4365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979640" y="522936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508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.А.Есенин с друзьями-литераторами и родствен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08000" y="5013360"/>
            <a:ext cx="72360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ва направо (стоят): В.Ф. Наседкин, А.М.Сахаров. А.А.Есенина, С.А.Есен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дят: Е.А.Есенина, С.А.Есенина-Толст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92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4840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835280" y="5300640"/>
            <a:ext cx="73087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ната в гостинице «Англет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тография сделана сразу после обнаружения тела Есен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8280360" cy="532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195640" y="595008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щание с С.Есени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619280" y="189000"/>
            <a:ext cx="6265800" cy="5173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484360" y="5445000"/>
            <a:ext cx="54723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хороны С.А.Есен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памятника А.С.Пушкина в Москве /декабрь 1925г.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258920" y="369720"/>
            <a:ext cx="6842160" cy="478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050920" y="5229360"/>
            <a:ext cx="6337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стантиново. Бывшая усадьба Л.И.Каши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ыне размещена литературная экспозиция, посвященная С.А.Есен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6836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" dur="164990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2400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195640" y="551664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ПО ЕСЕНИНСКИМ МЕС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179280" y="260280"/>
            <a:ext cx="8569440" cy="6264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8640720" cy="63500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179280" y="333360"/>
            <a:ext cx="8640720" cy="6264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179280" y="260280"/>
            <a:ext cx="8534520" cy="6337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179280" y="333360"/>
            <a:ext cx="8713800" cy="6264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8"/>
          <a:stretch/>
        </p:blipFill>
        <p:spPr>
          <a:xfrm>
            <a:off x="250920" y="404640"/>
            <a:ext cx="8569080" cy="6120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250920" y="333360"/>
            <a:ext cx="8642160" cy="6120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0"/>
          <a:stretch/>
        </p:blipFill>
        <p:spPr>
          <a:xfrm>
            <a:off x="179280" y="260280"/>
            <a:ext cx="8713800" cy="6337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1"/>
          <a:stretch/>
        </p:blipFill>
        <p:spPr>
          <a:xfrm>
            <a:off x="250920" y="333360"/>
            <a:ext cx="8642160" cy="6191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2"/>
          <a:stretch/>
        </p:blipFill>
        <p:spPr>
          <a:xfrm>
            <a:off x="250920" y="333360"/>
            <a:ext cx="8642160" cy="61912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3"/>
          <a:stretch/>
        </p:blipFill>
        <p:spPr>
          <a:xfrm>
            <a:off x="250920" y="333360"/>
            <a:ext cx="8569080" cy="61912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4"/>
          <a:stretch/>
        </p:blipFill>
        <p:spPr>
          <a:xfrm>
            <a:off x="250920" y="260280"/>
            <a:ext cx="8642160" cy="6408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5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5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30" nodeType="afterEffect" fill="hold" presetClass="exit" presetID="4" presetSubtype="16">
                                  <p:stCondLst>
                                    <p:cond delay="55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1" dur="5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5500"/>
                            </p:stCondLst>
                            <p:childTnLst>
                              <p:par>
                                <p:cTn id="338" nodeType="afterEffect" fill="hold" presetClass="exit" presetID="3" presetSubtype="10">
                                  <p:stCondLst>
                                    <p:cond delay="5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9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5500"/>
                            </p:stCondLst>
                            <p:childTnLst>
                              <p:par>
                                <p:cTn id="342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5500"/>
                            </p:stCondLst>
                            <p:childTnLst>
                              <p:par>
                                <p:cTn id="346" nodeType="afterEffect" fill="hold" presetClass="exit" presetID="5" presetSubtype="10">
                                  <p:stCondLst>
                                    <p:cond delay="5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7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5500"/>
                            </p:stCondLst>
                            <p:childTnLst>
                              <p:par>
                                <p:cTn id="350" nodeType="afterEffect" fill="hold" presetClass="entr" presetID="53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66000"/>
                            </p:stCondLst>
                            <p:childTnLst>
                              <p:par>
                                <p:cTn id="356" nodeType="afterEffect" fill="hold" presetClass="exit" presetID="2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7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76000"/>
                            </p:stCondLst>
                            <p:childTnLst>
                              <p:par>
                                <p:cTn id="360" nodeType="afterEffect" fill="hold" presetClass="entr" presetID="4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86000"/>
                            </p:stCondLst>
                            <p:childTnLst>
                              <p:par>
                                <p:cTn id="364" nodeType="afterEffect" fill="hold" presetClass="exit" presetID="8" presetSubtype="16">
                                  <p:stCondLst>
                                    <p:cond delay="5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65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96000"/>
                            </p:stCondLst>
                            <p:childTnLst>
                              <p:par>
                                <p:cTn id="368" nodeType="afterEffect" fill="hold" presetClass="entr" presetID="2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0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6000"/>
                            </p:stCondLst>
                            <p:childTnLst>
                              <p:par>
                                <p:cTn id="372" nodeType="afterEffect" fill="hold" presetClass="exit" presetID="5" presetSubtype="10">
                                  <p:stCondLst>
                                    <p:cond delay="5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3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16000"/>
                            </p:stCondLst>
                            <p:childTnLst>
                              <p:par>
                                <p:cTn id="376" nodeType="afterEffect" fill="hold" presetClass="entr" presetID="37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4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26000"/>
                            </p:stCondLst>
                            <p:childTnLst>
                              <p:par>
                                <p:cTn id="383" nodeType="afterEffect" fill="hold" presetClass="exit" presetID="2" presetSubtype="4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4" dur="5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36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46500"/>
                            </p:stCondLst>
                            <p:childTnLst>
                              <p:par>
                                <p:cTn id="394" nodeType="afterEffect" fill="hold" presetClass="exit" presetID="8" presetSubtype="16">
                                  <p:stCondLst>
                                    <p:cond delay="6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5" dur="5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7500"/>
                            </p:stCondLst>
                            <p:childTnLst>
                              <p:par>
                                <p:cTn id="398" nodeType="afterEffect" fill="hold" presetClass="entr" presetID="16" presetSubtype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0" dur="5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67500"/>
                            </p:stCondLst>
                            <p:childTnLst>
                              <p:par>
                                <p:cTn id="402" nodeType="afterEffect" fill="hold" presetClass="exit" presetID="8" presetSubtype="16">
                                  <p:stCondLst>
                                    <p:cond delay="5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3" dur="5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77500"/>
                            </p:stCondLst>
                            <p:childTnLst>
                              <p:par>
                                <p:cTn id="406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87500"/>
                            </p:stCondLst>
                            <p:childTnLst>
                              <p:par>
                                <p:cTn id="411" nodeType="afterEffect" fill="hold" presetClass="exit" presetID="3" presetSubtype="10">
                                  <p:stCondLst>
                                    <p:cond delay="5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2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97500"/>
                            </p:stCondLst>
                            <p:childTnLst>
                              <p:par>
                                <p:cTn id="415" nodeType="afterEffect" fill="hold" presetClass="entr" presetID="16" presetSubtype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7" dur="5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7500"/>
                            </p:stCondLst>
                            <p:childTnLst>
                              <p:par>
                                <p:cTn id="419" nodeType="afterEffect" fill="hold" presetClass="exit" presetID="6" presetSubtype="16">
                                  <p:stCondLst>
                                    <p:cond delay="5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20" dur="5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17500"/>
                            </p:stCondLst>
                            <p:childTnLst>
                              <p:par>
                                <p:cTn id="423" nodeType="afterEffect" fill="hold" presetClass="entr" presetID="17" presetSubtype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951280" y="2898720"/>
            <a:ext cx="6192720" cy="3959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-181080" y="0"/>
            <a:ext cx="4862520" cy="4221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148360" y="4046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нстантиново. В избе Есени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64000" y="177336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ревянный сундучок, в котором поэт хранил любимые кни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929040" y="278604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08000" y="5373720"/>
            <a:ext cx="6985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дился С.А.Есенин 21сентября (3 октября) 1895 года в селе Константино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язанской губер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908000" y="0"/>
            <a:ext cx="4824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71640" y="189000"/>
            <a:ext cx="6624720" cy="4535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987640" y="5373720"/>
            <a:ext cx="4680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Н. и Т.Ф. Есенины, родители поэта. 1927год Фот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. Литературный музей. 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55640" y="260280"/>
            <a:ext cx="7704000" cy="4897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50920" y="5084640"/>
            <a:ext cx="6913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.Константиново Рязанской обл.Изба Есени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ыне Литературно-мемориальный музей С.А.Есен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11280" y="6093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39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7760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8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8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971640" y="0"/>
            <a:ext cx="7488000" cy="5040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619280" y="5122800"/>
            <a:ext cx="6985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енин в группе учеников и преподавателей спас-клепиковской школы 1911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агмент фото Гос. Литературный музей. 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8064360" cy="4964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24000" y="5373720"/>
            <a:ext cx="63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.А.Есенин в корректорской типографии И.Д.Сытина. 1916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050920" y="189000"/>
            <a:ext cx="4249800" cy="5400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484360" y="5734080"/>
            <a:ext cx="575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.А.Есенин и С.М.Городецкий. 191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тогра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3T02:54:12Z</dcterms:created>
  <dc:creator>user</dc:creator>
  <dc:description/>
  <dc:language>en-US</dc:language>
  <cp:lastModifiedBy>User</cp:lastModifiedBy>
  <dcterms:modified xsi:type="dcterms:W3CDTF">2012-03-17T16:31:01Z</dcterms:modified>
  <cp:revision>20</cp:revision>
  <dc:subject/>
  <dc:title>Слайд 1</dc:title>
</cp:coreProperties>
</file>