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3DD-88BB-4051-AEA1-5051CBC6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49E-485A-4C2E-B74E-D11ABA73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8A0B-407F-4928-AF48-4D86F692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04D-CC74-4CFA-A3EB-18B583B8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C1D8-0A56-4D98-BC6A-FE2886A7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AC7A-D4C5-4A64-A701-982C2AC1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4792-D6C3-42E7-AA54-90ECCF2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AF1E-5515-4122-9921-455EBB2B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F220-615E-46E7-8459-1F76F803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D15F-FC3E-42F7-8CBD-945B4E77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D5D5-E0F8-4FA1-9A55-BCCB3D01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EFA-8268-46D8-8C3C-A10A2B66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5836-0F0A-4400-82B6-6ECA1D56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5AE7-B5AF-45A8-88BF-FE323AD6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0614-B5AC-4E77-8909-BD91A657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E8A7-33B3-43F9-A51A-9BCA2DA1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B038-596A-4C85-8B9C-C697D925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921-6987-4B37-B305-D93A58E6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BAAE-0921-4CDA-AE7E-B2098D5A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B3E-683A-4808-B8F6-4F6F2C1E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228-3BCB-4D52-8BDA-4DB2E578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DDC-FDA2-4ED6-B731-DEDE06AD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096-0DCE-40F9-A764-CF19F91A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053-347B-4B25-8C6D-413A621D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A35E-946C-4C4A-9853-820E336F8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FB48-A9D4-41BA-AB53-D1BFB8E4F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029"/>
          <p:cNvPicPr/>
          <p:nvPr/>
        </p:nvPicPr>
        <p:blipFill>
          <a:blip r:embed="rId1"/>
          <a:srcRect l="0" t="0" r="0" b="7874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57913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рок  русского языка в 8 классе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Тире между подлежащим и сказуемым»</a:t>
            </a:r>
            <a:br>
              <a:rPr sz="36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заочная экскурсия в музей Царскосельского лицея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886200" y="609552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ОУ СОШ №2 г. Воронежа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Рязанцева Марина Михайловна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Где тире?</a:t>
            </a:r>
            <a:br>
              <a:rPr sz="20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1 вариант – с тире :                    2 вариант – без тире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Поэзия Пушкина мудра.                                                                                                                                                                                                                                     2.Богатство добыть  братство забыть.                                                                                          3.Ученье  свет, а неученье  тьма.                                                                                                    4.С другом и горе не бе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Пятнадцать  хороший возраст !                                                                                               6.Знания в юности это мудрость в старости.                                                                           7.Друзья прямые что братья родны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.Он преемник Держав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В библиотеке лицея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7" descr="photo15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8765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Спишите. Объясните, руководствуясь правилом, употребление или неупотребление тире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Я не уч..ный.  Я поэт.                                                                                                                             Поэзия моя судьба  и сила.                                                                                                                   Поэма  ода и сонет  вот лирики могучие св..тила.                                                                           Св..тить  задача мудреца.                                                                                                              Понятно всем, как дважды два   ч.тыре.                                                                                             Сл..гать  стихи  н..сти свой крест  Тв..рца.                                                                                                 Поэт не Бог.  Он  св..тофор.                                                                                                        Регул..ровщик   Лира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Провер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не учёный. Я поэт.                                                                                                   Поэзия – моя судьба  и сила.                                                                                      Поэма, ода и сонет – вот лирики могучие светила.                                                Светить – задача мудреца.                                                                                       Понятно всем, как дважды два – четыре.                                                                Слагать стихи – нести свой крест Творца.                                                                    Поэт не Бог. Он – светофор.                                                                          Регулировщик – Лира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Есть ли в стихотворении авторские знаки?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9" descr="1171"/>
          <p:cNvPicPr/>
          <p:nvPr/>
        </p:nvPicPr>
        <p:blipFill>
          <a:blip r:embed="rId1"/>
          <a:stretch/>
        </p:blipFill>
        <p:spPr>
          <a:xfrm>
            <a:off x="762120" y="1981080"/>
            <a:ext cx="7467480" cy="4724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68000"/>
            <a:ext cx="822960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арк лицея – место для отдыха, прогулок, обязательных гимнастических упражнений. Летом - купание, зимой, "окрылив ноги железом", по выражению А.Пушкина, катание на коньках.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Перестройте предложения так, </a:t>
            </a:r>
            <a:br>
              <a:rPr sz="3200"/>
            </a:b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чтобы между подлежащим и сказуемым стояло тире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Отличительной особенностью Царскосельского лицея являлась единая форма одежд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Любимым занятием лицеистов было катание на коньках по озер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Тридцать два года просуществовал Царскосельский лиц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9" descr="Vospitanniki"/>
          <p:cNvPicPr/>
          <p:nvPr/>
        </p:nvPicPr>
        <p:blipFill>
          <a:blip r:embed="rId1"/>
          <a:stretch/>
        </p:blipFill>
        <p:spPr>
          <a:xfrm>
            <a:off x="7238880" y="2133720"/>
            <a:ext cx="1741680" cy="2286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омашнее задание выбери сам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Написать сочинение-рассу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Зачем нужно тире?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Эссе «Дружба – это…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 также – выучи правило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liceum6"/>
          <p:cNvPicPr/>
          <p:nvPr/>
        </p:nvPicPr>
        <p:blipFill>
          <a:blip r:embed="rId1"/>
          <a:srcRect l="0" t="0" r="0" b="6729"/>
          <a:stretch/>
        </p:blipFill>
        <p:spPr>
          <a:xfrm>
            <a:off x="457200" y="152280"/>
            <a:ext cx="8153280" cy="4619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152280" y="4800600"/>
            <a:ext cx="883944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ким бывал зал по торжественным дням: стол, покрытый красным сукном, золоченые кресла, на столе лицейская грамота. В этом зале на переводном экзамене Александр Пушкин читал свои стих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. Р. Державин был в восхищении и назвал юного поэта своим преемником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урок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85800" y="1905120"/>
            <a:ext cx="78487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6"/>
          <p:cNvGrpSpPr/>
          <p:nvPr/>
        </p:nvGrpSpPr>
        <p:grpSpPr>
          <a:xfrm>
            <a:off x="6080040" y="2438280"/>
            <a:ext cx="3063960" cy="4418280"/>
            <a:chOff x="6080040" y="2438280"/>
            <a:chExt cx="3063960" cy="4418280"/>
          </a:xfrm>
        </p:grpSpPr>
        <p:sp>
          <p:nvSpPr>
            <p:cNvPr id="124" name="AutoShape 7"/>
            <p:cNvSpPr/>
            <p:nvPr/>
          </p:nvSpPr>
          <p:spPr>
            <a:xfrm>
              <a:off x="6129720" y="2495160"/>
              <a:ext cx="3006360" cy="42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" name="Picture 8" descr=""/>
            <p:cNvPicPr/>
            <p:nvPr/>
          </p:nvPicPr>
          <p:blipFill>
            <a:blip r:embed="rId1"/>
            <a:stretch/>
          </p:blipFill>
          <p:spPr>
            <a:xfrm>
              <a:off x="6080040" y="2438280"/>
              <a:ext cx="3063960" cy="441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2286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рузья мои, прекрасен наш союз!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н, как душа, неразделим и вечен -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колебим, свободен и беспечен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растался он под сенью дружных муз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уда бы нас ни бросила судьбин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 счастие куда б ни повело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сё те же мы: нам целый мир чужбина;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ечество нам Царское Се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Глинка - Увертюра к опере ''Руслан и Людмила''.mp3" descr=""/>
          <p:cNvPicPr/>
          <p:nvPr/>
        </p:nvPicPr>
        <p:blipFill>
          <a:blip r:embed="rId2"/>
          <a:stretch/>
        </p:blipFill>
        <p:spPr>
          <a:xfrm>
            <a:off x="5715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231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%d0%a6%d0%b0%d1%80%d1%81%d0%ba%d0%be%d1%81%d0%b5%d0%bb%d1%8c%d1%81%d0%ba%d0%b8%d0%b9_%d0%bb%d0%b8%d1%86%d0%b5%d0%b9_%d1%81%d0%be_%d1%81%d1%82%d0%be%d1%80%d0%be%d0%bd%d1%8b_%d1%86%d0%b5%d1%80%d0%ba%d0%b2%d0%b8"/>
          <p:cNvPicPr/>
          <p:nvPr/>
        </p:nvPicPr>
        <p:blipFill>
          <a:blip r:embed="rId1"/>
          <a:srcRect l="0" t="5906" r="0" b="0"/>
          <a:stretch/>
        </p:blipFill>
        <p:spPr>
          <a:xfrm>
            <a:off x="685800" y="1676520"/>
            <a:ext cx="7696080" cy="5006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 октября  - день Царскосельского лице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eec94"/>
                </a:solidFill>
                <a:latin typeface="Times New Roman"/>
              </a:rPr>
              <a:t>Повторяем теорию.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4560" y="28191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пиши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з музыкального фрагмента сказуемы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Песня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771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iceum7"/>
          <p:cNvPicPr/>
          <p:nvPr/>
        </p:nvPicPr>
        <p:blipFill>
          <a:blip r:embed="rId1"/>
          <a:srcRect l="0" t="0" r="0" b="13423"/>
          <a:stretch/>
        </p:blipFill>
        <p:spPr>
          <a:xfrm>
            <a:off x="685800" y="2590920"/>
            <a:ext cx="8077320" cy="4267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Здесь лицеистам предстояло </a:t>
            </a:r>
            <a:br>
              <a:rPr sz="3600"/>
            </a:b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оплотит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заветы учителей, </a:t>
            </a:r>
            <a:br>
              <a:rPr sz="3600"/>
            </a:b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ыразит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мысли словами,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существит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мечты.                                     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8600" y="60415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Учебные класс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СЛОВАРЬ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оплотит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Выразить в конкретной, реальной фор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ыразит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Воплотить, обнаружить         во внешнем проявл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Осуществит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– Привести в исполнение, воплотить в действите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228960" y="277920"/>
            <a:ext cx="937260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Определите, чем выражены подлежащее 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и сказуемое в предложениях, 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и сделайте вывод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Царскосельский дворец - архитектурное чудо своего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Пятью пять – двадцать пя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Четырнадцать – номер комнаты Пушкина в лице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Крепить лицейское братство – помнить об идеалах лице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Жить  «для  общей  пользы» - завет выпускников  лице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Дружба – вот непреходящая и непререкаемая цен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Девятнадцатое октября –  это День лице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Определите, чем выражены подлежащее 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и сказуемое в предложениях, 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и сделайте вывод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м без книги как птица без крыльев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еловек неученый что топор неточены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ни друзья с дет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альнее расстояние не помеха для дружб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Picture 11" descr="1801kvkjlap"/>
          <p:cNvPicPr/>
          <p:nvPr/>
        </p:nvPicPr>
        <p:blipFill>
          <a:blip r:embed="rId1"/>
          <a:stretch/>
        </p:blipFill>
        <p:spPr>
          <a:xfrm>
            <a:off x="4800600" y="228600"/>
            <a:ext cx="4071960" cy="62784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45" name="i-main-pic" descr="Картинка 406 из 1072"/>
          <p:cNvPicPr/>
          <p:nvPr/>
        </p:nvPicPr>
        <p:blipFill>
          <a:blip r:embed="rId2"/>
          <a:stretch/>
        </p:blipFill>
        <p:spPr>
          <a:xfrm>
            <a:off x="0" y="0"/>
            <a:ext cx="3733920" cy="24796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152280" y="2971800"/>
            <a:ext cx="4496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 каждого лицеиста полагался классный стол (конторка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мод и железная полированн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 медными украшениями кровать, обтянутая паруси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2-01-24T16:49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