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16.png" ContentType="image/png"/>
  <Override PartName="/ppt/media/image15.jpeg" ContentType="image/jpeg"/>
  <Override PartName="/ppt/media/image1.wmf" ContentType="image/x-wmf"/>
  <Override PartName="/ppt/media/image3.jpeg" ContentType="image/jpeg"/>
  <Override PartName="/ppt/media/image2.png" ContentType="image/pn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E4F3-D0AA-4597-9C71-54CF1CD28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2DC8-D9A6-4BDE-9689-1C5071EB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368F-A446-4819-8460-36C67FD0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680F-9401-4F33-BECC-D3DAA6A3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B64A-33E6-4331-A940-0B462CE4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E89E-44F3-4306-AA8C-3F422A28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486C-4FAA-4989-93EA-524FA9E1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7093-5A65-45CE-ABCF-FAC570F0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2D78-C673-4D14-8179-464D7777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4955-5320-4E21-AA15-DF740EB6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A493-3B1F-43DE-88A3-AA0BE9D2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590A-1A7E-4D63-917B-D0802801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4645-F7B1-448E-BB92-774A0DCD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D4CD-D9E1-45ED-8CEF-6B8F4FCA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459E-A662-4CC4-9EAC-726A9D8D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EA21-1FBC-450D-A90C-1A5585CD7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A983-EA1D-4880-9FD4-C5DB2278C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A729C-A141-40BF-B005-9502FC9B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D4D5E-03C3-4876-8E98-19444E14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24FBE-5AA9-433F-90A8-504C06CE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7B409-2528-4B98-B06D-9FD68C53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599B1-FEB2-4A33-AD48-5A30EB3B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C92F-A27A-490E-88AC-58259C94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2AFB6-CB18-48B7-AA76-854788F3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6A5BB-B2C0-4B64-B787-1DFEA38C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8DAB3-9D18-4753-B423-266E7BB5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52AB7-AB17-40AB-926F-A813D502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C455C-4CED-4105-B551-92C5C6B1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C055A-3A8F-490B-A63C-89DC0A67D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398C1-B989-4D27-A28F-39FD692F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8CE33-AB87-4C4E-98EF-EA1C4897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D1539-5A23-43A2-8F29-5B1410E0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F31F7-3327-4529-9A50-CFC91977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256A-FB4F-4827-BE90-99757120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7F64C-2BD2-499B-A442-5E4F4271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36C0B-EB72-468B-B652-45A28AF3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793EE-2B40-49AC-B686-D1CBCCC5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6B066-6B25-4C70-A2A8-A891CB34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18DC2-0C98-4C97-9179-05DFD7EC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58E39-BBBF-4ADC-AAE8-30B649D8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C5BF6-501C-439B-BEED-D31F0352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61673-54F7-4AC3-AE64-CE8CD5257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D17F2-4EB5-42B2-A336-C7F6525AA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0274F-5AE4-45E6-8109-8242B6515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405B-8111-43A8-9FB0-F37605E2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19EE6-5510-46C3-8F47-BFCAAA8F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EE1E7-FACC-47CF-9D0F-A0726086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D7CD2-0F0E-4EC9-A5FB-DBC3AB82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A74E6-32A4-4FB5-B396-82305F8F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42E20-5917-4F31-9230-A96174BB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4AE82-80DA-456C-B2F5-0245C179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FBD11-CE8E-4A06-8CCA-42321C90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21AF6-F227-431E-8A46-98CA1794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69AC5-494D-46A0-BB97-3530096A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F8658-4B2A-4FCC-B446-ED42BFA0F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8144-BA57-44BB-9F59-4F888BA7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97E37-1432-4FA2-85C8-9B45CA4B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29BFD-CA65-4FBB-B190-241F0953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1AC1D-5039-4997-8777-E96B8370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29F40-B446-45DC-B490-E13F45D0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867BB-1C3B-40BC-897C-837356EC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073FB-8E34-420F-B465-F5EC77CD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AC435-1C50-4F26-881E-6D4EE7BC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AC9AC-52EC-4D7C-8219-ABB634C5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402AD-5D93-4937-AEB8-5D958F74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EDDE3-8FA8-4083-A54C-252D2149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49FD-6095-4453-97F2-98CEFCF5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F4F9D-97DB-4B2F-81A6-587351B1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171C3-F620-427E-B303-76EDFA0B1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165B7-3DE9-4738-9F68-F1707DCF2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F5131-4534-465C-A675-DC634D56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B331B-523A-4F97-8201-92D20D56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5A744-2D6B-4284-BFB4-0F3356CF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CDB59-DE97-4F86-B8D4-3013B492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56969-C29A-4213-AF64-99C168EF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C1C84-83E8-4490-8143-472F3297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D4242-2DCB-44F1-949F-955E328D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7259-2053-4E46-B523-F1FD4461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85C7C-877F-4DD8-97EC-8CCC6482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767E6-504D-409F-9F16-49083A74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04610-2913-40AF-9ED8-C2D72ED9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EEF65-5B6D-4EE6-A597-44A15AE63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F494B-D35B-4D4A-B7BF-F5136C63A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1F91-047B-4D44-92B1-9A94EE3C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7DC6-F5A2-4B8D-9CD1-F870B3B27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d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34B3-224C-492D-A399-E3FCFBA9C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4ED7-8E97-4E80-95A1-8ACE61347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db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9FDE-D67B-4F13-8764-8C9B67C9A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a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F9C0-E5B1-4FFE-808C-FF0CFC445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40DB-EF10-4CEA-8ABB-838B87CA8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849D-4DC4-4CB8-95DA-5B65C5090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2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" Target="slide2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" Target="slide2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77480" cy="6885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3300"/>
                </a:solidFill>
                <a:latin typeface="Times New Roman"/>
              </a:rPr>
              <a:t>Тема:</a:t>
            </a:r>
            <a:br>
              <a:rPr sz="7200"/>
            </a:br>
            <a:r>
              <a:rPr b="0" lang="en-US" sz="7200" spc="-1" strike="noStrike">
                <a:solidFill>
                  <a:srgbClr val="663300"/>
                </a:solidFill>
                <a:latin typeface="Monotype Corsiva"/>
              </a:rPr>
              <a:t>«Камерная инструментальная музыка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d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329" name=""/>
          <p:cNvSpPr/>
          <p:nvPr/>
        </p:nvSpPr>
        <p:spPr>
          <a:xfrm>
            <a:off x="2651040" y="5562720"/>
            <a:ext cx="3973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5516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Винсент Ван Гог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1853-1890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) Нидерланды</a:t>
            </a:r>
            <a:br>
              <a:rPr sz="1800"/>
            </a:b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Пшеничное поле с жаворонками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2" descr="Нажмите, чтобы посмотреть в полный размер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1042920" y="907920"/>
            <a:ext cx="7056360" cy="4608720"/>
          </a:xfrm>
          <a:prstGeom prst="rect">
            <a:avLst/>
          </a:prstGeom>
          <a:ln w="38160">
            <a:solidFill>
              <a:srgbClr val="5a2d00"/>
            </a:solidFill>
            <a:miter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d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3300"/>
                </a:solidFill>
                <a:latin typeface="Monotype Corsiva"/>
              </a:rPr>
              <a:t>РОМАН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54200" y="1557360"/>
            <a:ext cx="7705440" cy="46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(испанское romance, от позднелатинского romanice, буквально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по - романски, т. е. по - испански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Камерное музыкально - поэтическое произведение для голоса с инструментальным сопровождением. В    романсах  раскрываются чувства   человека,   его  отношение    к жизни, к природ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db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5373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Милий Алексеевич Балакирев</a:t>
            </a:r>
            <a:br>
              <a:rPr sz="3200"/>
            </a:br>
            <a:r>
              <a:rPr b="0" lang="ru-RU" sz="2400" spc="-1" strike="noStrike">
                <a:solidFill>
                  <a:srgbClr val="663300"/>
                </a:solidFill>
                <a:latin typeface="Monotype Corsiva"/>
              </a:rPr>
              <a:t>(1837-1910)</a:t>
            </a:r>
            <a:br>
              <a:rPr sz="2400"/>
            </a:br>
            <a:r>
              <a:rPr b="1" lang="ru-RU" sz="2800" spc="-1" strike="noStrike">
                <a:solidFill>
                  <a:srgbClr val="663300"/>
                </a:solidFill>
                <a:latin typeface="Monotype Corsiva"/>
              </a:rPr>
              <a:t>«Жаворонок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rcRect l="0" t="1489" r="0" b="0"/>
          <a:stretch/>
        </p:blipFill>
        <p:spPr>
          <a:xfrm>
            <a:off x="2700360" y="476280"/>
            <a:ext cx="3794040" cy="4753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285626" fill="hold"/>
                                        <p:tgtEl>
                                          <p:spTgt spid="3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a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fdf8cb"/>
            </a:solidFill>
            <a:miter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632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7491f"/>
                </a:solidFill>
                <a:latin typeface="Times New Roman"/>
              </a:rPr>
              <a:t>«Когда играет Лист, не думаешь больше о преодолеваемых трудностях, рояль исчезает, и нам раскрывается музыка».</a:t>
            </a:r>
            <a:r>
              <a:rPr b="1" i="1" lang="en-US" sz="2800" spc="-1" strike="noStrike">
                <a:solidFill>
                  <a:srgbClr val="77491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77491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77491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77491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77491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77491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77491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77491f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77491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77491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77491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77491f"/>
                </a:solidFill>
                <a:latin typeface="Times New Roman"/>
              </a:rPr>
              <a:t>Г.Гей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rcRect l="0" t="675" r="4304" b="0"/>
          <a:stretch/>
        </p:blipFill>
        <p:spPr>
          <a:xfrm>
            <a:off x="4792680" y="1916280"/>
            <a:ext cx="3235320" cy="4073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342" name="" descr=""/>
          <p:cNvPicPr/>
          <p:nvPr/>
        </p:nvPicPr>
        <p:blipFill>
          <a:blip r:embed="rId3"/>
          <a:srcRect l="0" t="0" r="1403" b="0"/>
          <a:stretch/>
        </p:blipFill>
        <p:spPr>
          <a:xfrm>
            <a:off x="1187280" y="836640"/>
            <a:ext cx="3132360" cy="39607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2484360" y="5013360"/>
            <a:ext cx="2448000" cy="1509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5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0" y="47520"/>
            <a:ext cx="9177480" cy="681048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22900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Никколо Паганини</a:t>
            </a:r>
            <a:br>
              <a:rPr sz="3200"/>
            </a:br>
            <a:r>
              <a:rPr b="0" lang="ru-RU" sz="2400" spc="-1" strike="noStrike">
                <a:solidFill>
                  <a:srgbClr val="663300"/>
                </a:solidFill>
                <a:latin typeface="Monotype Corsiva"/>
              </a:rPr>
              <a:t>(1782-1840)</a:t>
            </a:r>
            <a:br>
              <a:rPr sz="2400"/>
            </a:br>
            <a:r>
              <a:rPr b="1" lang="ru-RU" sz="2800" spc="-1" strike="noStrike">
                <a:solidFill>
                  <a:srgbClr val="663300"/>
                </a:solidFill>
                <a:latin typeface="Monotype Corsiva"/>
              </a:rPr>
              <a:t>Каприс №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2771640" y="547560"/>
            <a:ext cx="3581640" cy="468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265639" fill="hold"/>
                                        <p:tgtEl>
                                          <p:spTgt spid="3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7708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663300"/>
                </a:solidFill>
                <a:latin typeface="Monotype Corsiva"/>
              </a:rPr>
              <a:t>КАПРИ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55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-  (французское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apric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е, буквально – каприз, прихоть, причуда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В музыке – произведение вида фантазии с причудливой, капризной темой и блестящим изложени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770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77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663300"/>
                </a:solidFill>
                <a:latin typeface="Monotype Corsiva"/>
              </a:rPr>
              <a:t>ВАРИАЦИИ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2266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- (латинское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variatio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, буквально - изменение, перемена, разнообразие).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Преобразование или развитие музыкальной темы при помощи мелодических, гармонических, полифонических, инструментально-тембровых средст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5157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Ференц Лист</a:t>
            </a:r>
            <a:br>
              <a:rPr sz="3200"/>
            </a:br>
            <a:r>
              <a:rPr b="0" lang="ru-RU" sz="2400" spc="-1" strike="noStrike">
                <a:solidFill>
                  <a:srgbClr val="663300"/>
                </a:solidFill>
                <a:latin typeface="Monotype Corsiva"/>
              </a:rPr>
              <a:t>(1811 - 1886)</a:t>
            </a:r>
            <a:br>
              <a:rPr sz="2400"/>
            </a:br>
            <a:r>
              <a:rPr b="1" lang="ru-RU" sz="2800" spc="-1" strike="noStrike">
                <a:solidFill>
                  <a:srgbClr val="663300"/>
                </a:solidFill>
                <a:latin typeface="Monotype Corsiva"/>
              </a:rPr>
              <a:t> Этюд по капрису №24 Н. Пагани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2778120" y="476280"/>
            <a:ext cx="3665520" cy="4537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d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359" name=""/>
          <p:cNvSpPr/>
          <p:nvPr/>
        </p:nvSpPr>
        <p:spPr>
          <a:xfrm>
            <a:off x="2651040" y="5562720"/>
            <a:ext cx="3973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99960" y="5190840"/>
            <a:ext cx="8204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Йозеф Ульрих Данхаузер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(1780-1829) Австрия</a:t>
            </a:r>
            <a:br>
              <a:rPr sz="1800"/>
            </a:b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Вечер у Ференца Листа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Лист за роялем, у его ног Мария д</a:t>
            </a:r>
            <a:r>
              <a:rPr b="1" i="1" lang="en-US" sz="1800" spc="-1" strike="noStrike">
                <a:solidFill>
                  <a:srgbClr val="663300"/>
                </a:solidFill>
                <a:latin typeface="Times New Roman"/>
              </a:rPr>
              <a:t>’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Агу, в креслах сидят </a:t>
            </a:r>
            <a:br>
              <a:rPr sz="1800"/>
            </a:b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Ж.Санд в мужском платье и А.Дюма, стоят (слева направо) </a:t>
            </a:r>
            <a:br>
              <a:rPr sz="1800"/>
            </a:b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В.Гюго, Н.Паганини, Дж.Россин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4" descr="C:\Documents and Settings\Танюшка\Рабочий стол\Для презентаций\Камерная инструм музыка\46076798_Liszt_at_the_Piano.jpg"/>
          <p:cNvPicPr/>
          <p:nvPr/>
        </p:nvPicPr>
        <p:blipFill>
          <a:blip r:embed="rId2"/>
          <a:stretch/>
        </p:blipFill>
        <p:spPr>
          <a:xfrm>
            <a:off x="1619280" y="620640"/>
            <a:ext cx="5800680" cy="432936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363" name="Text Box 3"/>
          <p:cNvSpPr/>
          <p:nvPr/>
        </p:nvSpPr>
        <p:spPr>
          <a:xfrm>
            <a:off x="762120" y="54864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Горизонтальный свиток 3"/>
          <p:cNvSpPr/>
          <p:nvPr/>
        </p:nvSpPr>
        <p:spPr>
          <a:xfrm>
            <a:off x="1116000" y="836640"/>
            <a:ext cx="6840720" cy="936720"/>
          </a:xfrm>
          <a:prstGeom prst="horizontalScroll">
            <a:avLst>
              <a:gd name="adj" fmla="val 12500"/>
            </a:avLst>
          </a:prstGeom>
          <a:solidFill>
            <a:srgbClr val="663300"/>
          </a:solidFill>
          <a:ln w="25560">
            <a:solidFill>
              <a:srgbClr val="bc6f00"/>
            </a:solidFill>
            <a:miter/>
          </a:ln>
          <a:effectLst>
            <a:outerShdw dist="107932" dir="13500000" blurRad="0" rotWithShape="0">
              <a:srgbClr val="66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900000" y="2611440"/>
            <a:ext cx="734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Запишите в «Творческую тетрадь» свои впечатления от этой музыки. Составьте схему развития музыкального образа  в форме вариа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d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3300"/>
                </a:solidFill>
                <a:latin typeface="Monotype Corsiva"/>
              </a:rPr>
              <a:t>КАМЕРНАЯ ИНСТРУМЕНТАЛЬНАЯ МУЗЫ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26920" y="2419200"/>
            <a:ext cx="73454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(итальянское camera, буквально - комната).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Музыка, написанная для небольших инструментальных ансамблей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, или солирующих инструментов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*, предназначенная для исполнения в небольшом помещении.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783640" y="6534000"/>
            <a:ext cx="360360" cy="324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2700360" y="476280"/>
            <a:ext cx="3828960" cy="4753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24000" y="5516640"/>
            <a:ext cx="8496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Monotype Corsiva"/>
              </a:rPr>
              <a:t>Франц Шуберт</a:t>
            </a:r>
            <a:br>
              <a:rPr sz="3200"/>
            </a:b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(1797-1828)</a:t>
            </a:r>
            <a:br>
              <a:rPr sz="2400"/>
            </a:br>
            <a:r>
              <a:rPr b="1" lang="en-US" sz="2800" spc="-1" strike="noStrike">
                <a:solidFill>
                  <a:srgbClr val="663300"/>
                </a:solidFill>
                <a:latin typeface="Monotype Corsiva"/>
              </a:rPr>
              <a:t>Баллада «Лесной царь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d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-33480" y="0"/>
            <a:ext cx="9177480" cy="6810480"/>
          </a:xfrm>
          <a:prstGeom prst="rect">
            <a:avLst/>
          </a:prstGeom>
          <a:ln w="9360">
            <a:solidFill>
              <a:srgbClr val="fdf8d1"/>
            </a:solidFill>
            <a:miter/>
          </a:ln>
        </p:spPr>
      </p:pic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682200" y="141264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Вспомните первую интонацию вступления баллады. Можете ли Вы определить характер всего произведения по этой интонаци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Что в ней заключено: покой, умиротворение, безмятежность или напряжение, волнение, тревог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2759040" y="404640"/>
            <a:ext cx="1236600" cy="92736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4140360" y="566640"/>
            <a:ext cx="1223640" cy="91764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5364000" y="404640"/>
            <a:ext cx="1225800" cy="9194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5"/>
          <a:srcRect l="14558" t="39369" r="54285" b="46559"/>
          <a:stretch/>
        </p:blipFill>
        <p:spPr>
          <a:xfrm>
            <a:off x="2195640" y="3429000"/>
            <a:ext cx="4859280" cy="1371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slow"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-11160" y="0"/>
            <a:ext cx="9177480" cy="68547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22440"/>
            <a:ext cx="77724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Александр Арнольдович Кошкин</a:t>
            </a:r>
            <a:r>
              <a:rPr b="0" lang="ru-RU" sz="1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(род. в 1952) Россия</a:t>
            </a:r>
            <a:br>
              <a:rPr sz="1800"/>
            </a:b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Лесной царь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1986</a:t>
            </a:r>
            <a:br>
              <a:rPr sz="1800"/>
            </a:br>
            <a:r>
              <a:rPr b="0" lang="ru-RU" sz="1200" spc="-1" strike="noStrike">
                <a:solidFill>
                  <a:srgbClr val="6a3a1c"/>
                </a:solidFill>
                <a:latin typeface="Times New Roman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2573280" y="476280"/>
            <a:ext cx="4010040" cy="53290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254413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d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3300"/>
                </a:solidFill>
                <a:latin typeface="Monotype Corsiva"/>
              </a:rPr>
              <a:t>БАЛЛАД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(итальянское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ballare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,       буквально танцевать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Литературный  термин, обозначавши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в  средние  века  народную  танцевальную песню,  позже  –  песню  о  драматических событиях, часто с элементами фантастики. В эпоху романтизма перешёл в вокальную музык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544500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Ференц Лист</a:t>
            </a:r>
            <a:br>
              <a:rPr sz="3200"/>
            </a:br>
            <a:r>
              <a:rPr b="0" lang="ru-RU" sz="2400" spc="-1" strike="noStrike">
                <a:solidFill>
                  <a:srgbClr val="663300"/>
                </a:solidFill>
                <a:latin typeface="Monotype Corsiva"/>
              </a:rPr>
              <a:t>(1811 - 1886)</a:t>
            </a:r>
            <a:br>
              <a:rPr sz="2400"/>
            </a:br>
            <a:r>
              <a:rPr b="1" lang="ru-RU" sz="2800" spc="-1" strike="noStrike">
                <a:solidFill>
                  <a:srgbClr val="663300"/>
                </a:solidFill>
                <a:latin typeface="Monotype Corsiva"/>
              </a:rPr>
              <a:t>«Лесной цар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2700360" y="476280"/>
            <a:ext cx="3825720" cy="4681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385" name="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748720" y="6453360"/>
            <a:ext cx="395280" cy="371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d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-33480" y="0"/>
            <a:ext cx="9177480" cy="6810480"/>
          </a:xfrm>
          <a:prstGeom prst="rect">
            <a:avLst/>
          </a:prstGeom>
          <a:ln w="9360">
            <a:solidFill>
              <a:srgbClr val="fdf8d1"/>
            </a:solidFill>
            <a:miter/>
          </a:ln>
        </p:spPr>
      </p:pic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612360" y="2131560"/>
            <a:ext cx="777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Какими средствами передаёт композитор содержание песни Шуберт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Что усилил Лист в своей пьес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- лириз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- драматиз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- трагизм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2759040" y="404640"/>
            <a:ext cx="1236600" cy="92736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4140360" y="566640"/>
            <a:ext cx="1223640" cy="91764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5364000" y="404640"/>
            <a:ext cx="1225800" cy="919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3"/>
          <p:cNvSpPr/>
          <p:nvPr/>
        </p:nvSpPr>
        <p:spPr>
          <a:xfrm>
            <a:off x="3851280" y="83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0" y="260280"/>
            <a:ext cx="91440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Автор проекта: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 </a:t>
            </a:r>
            <a:br>
              <a:rPr sz="3200"/>
            </a:br>
            <a:r>
              <a:rPr b="1" lang="ru-RU" sz="4400" spc="-1" strike="noStrike">
                <a:solidFill>
                  <a:srgbClr val="663300"/>
                </a:solidFill>
                <a:latin typeface="Monotype Corsiva"/>
              </a:rPr>
              <a:t>Никифорова Наталья Михайл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учитель музыки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высшей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Физико-математического лицея №239 Санкт-Петербур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5" descr="Я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3132000" y="2271600"/>
            <a:ext cx="2909880" cy="4181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294" name=""/>
          <p:cNvSpPr/>
          <p:nvPr/>
        </p:nvSpPr>
        <p:spPr>
          <a:xfrm>
            <a:off x="2651040" y="5562720"/>
            <a:ext cx="3973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55280" y="726840"/>
            <a:ext cx="403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Дирк Гальс</a:t>
            </a:r>
            <a:r>
              <a:rPr b="0" lang="ru-RU" sz="1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Домашний концерт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16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4103640" cy="330372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4427640" y="2060640"/>
            <a:ext cx="4032000" cy="32954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298" name=""/>
          <p:cNvSpPr/>
          <p:nvPr/>
        </p:nvSpPr>
        <p:spPr>
          <a:xfrm>
            <a:off x="4717080" y="5330880"/>
            <a:ext cx="34452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Татьяна Назаренко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Домашний концерт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19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783640" y="6534000"/>
            <a:ext cx="360360" cy="324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301" name=""/>
          <p:cNvSpPr/>
          <p:nvPr/>
        </p:nvSpPr>
        <p:spPr>
          <a:xfrm>
            <a:off x="2651040" y="5562720"/>
            <a:ext cx="3973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55640" y="726840"/>
            <a:ext cx="424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Джордж Гамильтон Баррабл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br>
              <a:rPr sz="1800"/>
            </a:b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Песня без слов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18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03640" y="5330880"/>
            <a:ext cx="2881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Эдуард Ма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Флейтист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18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1322280" y="1533600"/>
            <a:ext cx="2962440" cy="45594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003640" y="765000"/>
            <a:ext cx="2936880" cy="460872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30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783640" y="6534000"/>
            <a:ext cx="360360" cy="324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fdf8d1"/>
            </a:solidFill>
            <a:miter/>
          </a:ln>
        </p:spPr>
      </p:pic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1042920" y="1914120"/>
            <a:ext cx="367344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прелюдия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этюд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баркарола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романс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соната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76640" y="1916280"/>
            <a:ext cx="3267360" cy="40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серенада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каприс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ноктюрн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фуга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балл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2759040" y="404640"/>
            <a:ext cx="1236600" cy="9273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4140360" y="566640"/>
            <a:ext cx="1223640" cy="91764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4"/>
          <a:stretch/>
        </p:blipFill>
        <p:spPr>
          <a:xfrm>
            <a:off x="5364000" y="404640"/>
            <a:ext cx="1225800" cy="919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77480" cy="6885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63468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3300"/>
                </a:solidFill>
                <a:latin typeface="Monotype Corsiva"/>
              </a:rPr>
              <a:t>Транскрипция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db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770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0" y="836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663300"/>
                </a:solidFill>
                <a:latin typeface="Monotype Corsiva"/>
              </a:rPr>
              <a:t>ТРАНСКРИПЦ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5640" y="2060640"/>
            <a:ext cx="763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-       (латинское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ranscription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, буквально -переписывание).  </a:t>
            </a:r>
            <a:br>
              <a:rPr sz="3200"/>
            </a:b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   Обработка музыкального произведения</a:t>
            </a:r>
            <a:br>
              <a:rPr sz="3200"/>
            </a:b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с  целью  внесения  новых выразительных элементов   для   исполнения    на     ином инструменте,    а     иногда    и    идейно  -художественного перетолкования музы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db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319" name=""/>
          <p:cNvSpPr/>
          <p:nvPr/>
        </p:nvSpPr>
        <p:spPr>
          <a:xfrm>
            <a:off x="762120" y="54864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371600" y="5181480"/>
            <a:ext cx="6302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10920" y="5660640"/>
            <a:ext cx="78469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Monotype Corsiva"/>
              </a:rPr>
              <a:t>Михаил Иванович Глинка</a:t>
            </a:r>
            <a:br>
              <a:rPr sz="3200"/>
            </a:b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(1804-1857)</a:t>
            </a:r>
            <a:br>
              <a:rPr sz="2400"/>
            </a:br>
            <a:r>
              <a:rPr b="1" lang="en-US" sz="2800" spc="-1" strike="noStrike">
                <a:solidFill>
                  <a:srgbClr val="663300"/>
                </a:solidFill>
                <a:latin typeface="Monotype Corsiva"/>
              </a:rPr>
              <a:t>Романс «Жаворонок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2843280" y="476280"/>
            <a:ext cx="3606840" cy="4753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</p:spTree>
  </p:cSld>
  <p:transition spd="slow"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" fill="hold"/>
                                        <p:tgtEl>
                                          <p:spTgt spid="3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db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pic>
        <p:nvPicPr>
          <p:cNvPr id="325" name="" descr=""/>
          <p:cNvPicPr/>
          <p:nvPr/>
        </p:nvPicPr>
        <p:blipFill>
          <a:blip r:embed="rId2"/>
          <a:srcRect l="7955" t="28150" r="9520" b="32096"/>
          <a:stretch/>
        </p:blipFill>
        <p:spPr>
          <a:xfrm>
            <a:off x="1116000" y="836640"/>
            <a:ext cx="6985080" cy="1503360"/>
          </a:xfrm>
          <a:prstGeom prst="rect">
            <a:avLst/>
          </a:prstGeom>
          <a:ln w="12600">
            <a:solidFill>
              <a:srgbClr val="663300"/>
            </a:solidFill>
            <a:miter/>
          </a:ln>
        </p:spPr>
      </p:pic>
      <p:sp>
        <p:nvSpPr>
          <p:cNvPr id="326" name=""/>
          <p:cNvSpPr/>
          <p:nvPr/>
        </p:nvSpPr>
        <p:spPr>
          <a:xfrm>
            <a:off x="963000" y="2435400"/>
            <a:ext cx="3431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Times New Roman"/>
              </a:rPr>
              <a:t>Между небом и зем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Times New Roman"/>
              </a:rPr>
              <a:t>Песня раздае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Times New Roman"/>
              </a:rPr>
              <a:t>Неисходною стру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Times New Roman"/>
              </a:rPr>
              <a:t>Громче, громче ль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Times New Roman"/>
              </a:rPr>
              <a:t>Не видать певца поле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Times New Roman"/>
              </a:rPr>
              <a:t>Где поет так гром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Times New Roman"/>
              </a:rPr>
              <a:t>Над подружкою сво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Times New Roman"/>
              </a:rPr>
              <a:t>Жаворонок звон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73440" y="2421000"/>
            <a:ext cx="4021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Ветер песенку нес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А кому — не зн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Та, к кому она, пойм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От кого — узн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Лейся ж, песенка мо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Песнь надежды сладкой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Кто-то вспомнит про ме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И вздохнет украд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5:14:31Z</dcterms:created>
  <dc:creator>Татьяна Федоровна</dc:creator>
  <dc:description/>
  <dc:language>en-US</dc:language>
  <cp:lastModifiedBy>Adel</cp:lastModifiedBy>
  <dcterms:modified xsi:type="dcterms:W3CDTF">2012-03-08T18:40:01Z</dcterms:modified>
  <cp:revision>55</cp:revision>
  <dc:subject/>
  <dc:title>Камерная инструментальная музыка</dc:title>
</cp:coreProperties>
</file>