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gif" ContentType="image/gif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22.png" ContentType="image/png"/>
  <Override PartName="/ppt/media/image18.jpeg" ContentType="image/jpeg"/>
  <Override PartName="/ppt/media/image24.png" ContentType="image/png"/>
  <Override PartName="/ppt/media/image21.gif" ContentType="image/gif"/>
  <Override PartName="/ppt/media/image20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29.jpeg" ContentType="image/jpe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F5A-605C-41AD-86E5-7965BF23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782-8955-405C-9612-E9BE155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5E2-7E00-46D8-B0C3-2D977D75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D45-D6C7-4612-A9CC-7F5CA1A0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5F9-EED2-43EC-8E3B-02F54F7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800-7DEE-47E4-84F0-3F26649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35F-3C8C-41FA-B6F4-52803B2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D90-7D6B-4C87-AA51-E8408F5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3A6-2163-4067-B20E-B41476C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07D-1CDD-4FAE-B4B0-F81FA38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B9D-F410-40FA-919C-D86C3AF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BE-B6B4-480A-9B85-F2B16E2D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A89-D768-415D-8905-7DD39F16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pril4.vk.flv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il5.mp3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il6.mp3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il7.flv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pril2.mp3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il3.mp3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Людей неинтересных в мире нет…»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по рассказу Ю.Яковлева «Багульник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ТЕКСТУРЫ и фоны, клипарты\96fcfcd110f5.gif"/>
          <p:cNvPicPr/>
          <p:nvPr/>
        </p:nvPicPr>
        <p:blipFill>
          <a:blip r:embed="rId2"/>
          <a:stretch/>
        </p:blipFill>
        <p:spPr>
          <a:xfrm rot="20583000">
            <a:off x="7768800" y="158400"/>
            <a:ext cx="1244520" cy="10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857680" y="3286080"/>
            <a:ext cx="2535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стоящий боксёр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C:\Documents and Settings\Администратор\Рабочий стол\boxer.jpg"/>
          <p:cNvPicPr/>
          <p:nvPr/>
        </p:nvPicPr>
        <p:blipFill>
          <a:blip r:embed="rId2"/>
          <a:stretch/>
        </p:blipFill>
        <p:spPr>
          <a:xfrm>
            <a:off x="2143080" y="1000080"/>
            <a:ext cx="55008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ет, такс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28800" y="1285920"/>
            <a:ext cx="780408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G:\Ю. Яковлев\1.bmp"/>
          <p:cNvPicPr/>
          <p:nvPr/>
        </p:nvPicPr>
        <p:blipFill>
          <a:blip r:embed="rId2"/>
          <a:stretch/>
        </p:blipFill>
        <p:spPr>
          <a:xfrm>
            <a:off x="500040" y="1143000"/>
            <a:ext cx="8155080" cy="5345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071800" y="114624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ста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оддерживае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в них веру в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ыла ещё и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четвёрта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Documents and Settings\Администратор\Рабочий стол\3687266.jpg"/>
          <p:cNvPicPr/>
          <p:nvPr/>
        </p:nvPicPr>
        <p:blipFill>
          <a:blip r:embed="rId3"/>
          <a:stretch/>
        </p:blipFill>
        <p:spPr>
          <a:xfrm>
            <a:off x="1214280" y="114300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Администратор\Рабочий стол\senbernar.jpg"/>
          <p:cNvPicPr/>
          <p:nvPr/>
        </p:nvPicPr>
        <p:blipFill>
          <a:blip r:embed="rId4"/>
          <a:stretch/>
        </p:blipFill>
        <p:spPr>
          <a:xfrm>
            <a:off x="5857920" y="1428840"/>
            <a:ext cx="29192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обаки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всегда ждут. Даже погибших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Администратор\Рабочий стол\открытый урок\Dog_Monument,_Togliatti.JPG"/>
          <p:cNvPicPr/>
          <p:nvPr/>
        </p:nvPicPr>
        <p:blipFill>
          <a:blip r:embed="rId3"/>
          <a:stretch/>
        </p:blipFill>
        <p:spPr>
          <a:xfrm>
            <a:off x="1411200" y="1714680"/>
            <a:ext cx="3103560" cy="41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Администратор\Рабочий стол\открытый урок\1238888343_33ad4de2e023.jpg"/>
          <p:cNvPicPr/>
          <p:nvPr/>
        </p:nvPicPr>
        <p:blipFill>
          <a:blip r:embed="rId4"/>
          <a:stretch/>
        </p:blipFill>
        <p:spPr>
          <a:xfrm>
            <a:off x="4430880" y="1428840"/>
            <a:ext cx="3355920" cy="221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Администратор\Рабочий стол\открытый урок\1238888672_1202a613f84d.jpg"/>
          <p:cNvPicPr/>
          <p:nvPr/>
        </p:nvPicPr>
        <p:blipFill>
          <a:blip r:embed="rId5"/>
          <a:stretch/>
        </p:blipFill>
        <p:spPr>
          <a:xfrm>
            <a:off x="5214960" y="3929040"/>
            <a:ext cx="29383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peo-girl"/>
          <p:cNvPicPr/>
          <p:nvPr/>
        </p:nvPicPr>
        <p:blipFill>
          <a:blip r:embed="rId2">
            <a:lum contrast="18000"/>
          </a:blip>
          <a:stretch/>
        </p:blipFill>
        <p:spPr>
          <a:xfrm rot="21213000">
            <a:off x="630360" y="3373560"/>
            <a:ext cx="3263760" cy="2357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357120" y="1357200"/>
            <a:ext cx="77151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Личност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человек, имеющий свое лицо, свои взгляды на жизнь, свое мнение, совершающий значимые поступ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46720"/>
          <p:cNvPicPr/>
          <p:nvPr/>
        </p:nvPicPr>
        <p:blipFill>
          <a:blip r:embed="rId3">
            <a:lum contrast="18000"/>
          </a:blip>
          <a:srcRect l="35604" t="5201" r="35604" b="61206"/>
          <a:stretch/>
        </p:blipFill>
        <p:spPr>
          <a:xfrm rot="438600">
            <a:off x="5151600" y="3484440"/>
            <a:ext cx="2152440" cy="25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/>
          <p:cNvSpPr/>
          <p:nvPr/>
        </p:nvSpPr>
        <p:spPr>
          <a:xfrm>
            <a:off x="214200" y="14292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Эпиграф к урок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«… он менялся в её глазах, как веточка багульни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(Ю. Яковлев «Багуль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286080" y="2428920"/>
            <a:ext cx="4521240" cy="3093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35712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«Ко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357720" y="55720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«Багуль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:\Ю. Яковлев\3.bmp"/>
          <p:cNvPicPr/>
          <p:nvPr/>
        </p:nvPicPr>
        <p:blipFill>
          <a:blip r:embed="rId3"/>
          <a:stretch/>
        </p:blipFill>
        <p:spPr>
          <a:xfrm>
            <a:off x="285840" y="1857240"/>
            <a:ext cx="278604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14720" y="21384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Загла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28760" y="1214280"/>
            <a:ext cx="28573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ема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rbel"/>
              </a:rPr>
              <a:t>(о чем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714840" y="1214280"/>
            <a:ext cx="29289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д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rbel"/>
              </a:rPr>
              <a:t>(зачем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143080" y="3286080"/>
            <a:ext cx="5435640" cy="335448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7"/>
          <p:cNvCxnSpPr/>
          <p:nvPr/>
        </p:nvCxnSpPr>
        <p:spPr>
          <a:xfrm flipH="1">
            <a:off x="2285280" y="1000080"/>
            <a:ext cx="10724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9"/>
          <p:cNvCxnSpPr/>
          <p:nvPr/>
        </p:nvCxnSpPr>
        <p:spPr>
          <a:xfrm>
            <a:off x="4286160" y="1000080"/>
            <a:ext cx="822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8"/>
          <p:cNvSpPr/>
          <p:nvPr/>
        </p:nvSpPr>
        <p:spPr>
          <a:xfrm>
            <a:off x="571680" y="25718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«Ко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714840" y="2571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«Багуль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Евгений</a:t>
            </a:r>
            <a:r>
              <a:rPr b="0" lang="en-US" sz="4400" spc="-1" strike="noStrike">
                <a:solidFill>
                  <a:srgbClr val="11488b"/>
                </a:solidFill>
                <a:latin typeface="Calibri"/>
              </a:rPr>
              <a:t> Евтуш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00280" y="1500120"/>
            <a:ext cx="4857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дей неинтересных в мир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судьбы – как история пла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каждой всё особое, своё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нет планет, похожих на н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если кто-то незаметно ж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 этой незаметностью друж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интересен был сред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ю незаметностью сво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каждого – свой тайный личны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в мире этом самый лучший м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в мире этом самый страш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это всё неведомо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1857240"/>
            <a:ext cx="333864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9284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завтрашнего взрослого человека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Ю. Яковле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3286080" cy="435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4786200" y="2214720"/>
            <a:ext cx="2714760" cy="4271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142920" y="357120"/>
            <a:ext cx="785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f497d"/>
                </a:solidFill>
                <a:latin typeface="Calibri"/>
              </a:rPr>
              <a:t>В детях стараюсь разглядеть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6840" y="3567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5717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Мои книги - …моя душа. Все, что я пережил, перестрадал сам, - все это оставило след в моем творчестве… Я незримо присутствую в каждом рассказе, в мыслях и чувствах своих героев. Они сокровенные, но я открыл их тебе. Может быть, они помогут тебе в жизни…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3204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акого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завтрашнего человека видите в себе в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428840" y="1571760"/>
            <a:ext cx="5072040" cy="515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1428840" y="1706400"/>
            <a:ext cx="50720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7529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357280"/>
            <a:ext cx="684360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читать рассказ Ю.Яковлева «Он убил мою собаку»; сочинение-размышление «Человек-багульник… Я такого (не) встречал(а)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242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Юрий Яковлевич Яковл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785960" y="4143240"/>
            <a:ext cx="1974960" cy="2594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785760" y="1642680"/>
            <a:ext cx="435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Журналист. Сотрудничал в газетах и журналах , много ездил по стр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втор детских рассказов. Лучшие рассказы и повести разных лет вошли в сборник «Багульник», 1972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втор сценариев игровых и анимационных фильмов: «Умка», «Умка ищет друга», «Мальчик с коньками», «Девочка, хочешь сниматься в кино?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14200" y="1476360"/>
            <a:ext cx="237492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1720" y="500040"/>
            <a:ext cx="73864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67010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емся увидеть, как же удается писателю в ребенке разглядеть завтрашнего взрослого человека, попытаемся понять сокровенные мысли умного человека, услышать их нравственное звучание, постараемся понять, что в человеке главное – личность, а не внешний в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628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Багуль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405080" y="2786040"/>
            <a:ext cx="5167080" cy="3876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785880" y="1000080"/>
            <a:ext cx="72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Эпиграф к урок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«… он менялся в её глазах, как веточка багульни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(Ю. Яковлев «Багуль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1428840" y="2714760"/>
            <a:ext cx="516708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71520" y="4285800"/>
            <a:ext cx="5072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рвное состояние, недовольство и з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book"/>
          <p:cNvPicPr/>
          <p:nvPr/>
        </p:nvPicPr>
        <p:blipFill>
          <a:blip r:embed="rId2"/>
          <a:stretch/>
        </p:blipFill>
        <p:spPr>
          <a:xfrm>
            <a:off x="285840" y="4357800"/>
            <a:ext cx="2643120" cy="203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5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357880" y="1285920"/>
            <a:ext cx="257184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071720" y="150012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42920" y="178596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людимый, скрытный человек, никто не знает, что у него на уме: хорошее или плох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71680" y="1357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Молчальник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786120" y="385776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Раздражение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04840" y="298440"/>
            <a:ext cx="7653240" cy="5560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85840" y="6072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 О Л Ч А Л Ь Н И К  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 О Л Ш Е Б Н И К  !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 него ирландский сеттер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7551720" cy="49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.Шил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«Вдвое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Documents and Settings\Администратор\Рабочий стол\IMG.jpg"/>
          <p:cNvPicPr/>
          <p:nvPr/>
        </p:nvPicPr>
        <p:blipFill>
          <a:blip r:embed="rId3"/>
          <a:stretch/>
        </p:blipFill>
        <p:spPr>
          <a:xfrm>
            <a:off x="2871720" y="1600200"/>
            <a:ext cx="34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3:39:25Z</dcterms:created>
  <dc:creator>Zver</dc:creator>
  <dc:description>http://aida.ucoz.ru</dc:description>
  <dc:language>en-US</dc:language>
  <cp:lastModifiedBy>User</cp:lastModifiedBy>
  <dcterms:modified xsi:type="dcterms:W3CDTF">2012-02-19T10:11:08Z</dcterms:modified>
  <cp:revision>22</cp:revision>
  <dc:subject/>
  <dc:title>«Людей неинтересных в мире нет…»  (по рассказу Ю.Яковлева «Багульник»)</dc:title>
</cp:coreProperties>
</file>