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5D4-0A76-4A94-B825-A32811A6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FB3-7B25-4E87-A789-FC013B80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9CA-F838-441A-B478-E422B9DF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3A9-D4C5-4AAF-9DD7-FE63B5DC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C4B-30EF-41C9-A750-2B56A094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309-4F33-49C5-B969-5C428977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7B0-562C-4C35-9654-1662A81C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C47-F30A-4E23-9CD8-90B0E48D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5A1-0E3F-4E1C-BE0F-373ECA9C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C6B-B482-4ED2-A302-D7FC9AC9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4C3-4C94-4F83-A06C-2D91380E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85A-1EDD-43BF-8257-F21E2EE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B78A-762A-470A-BF6C-B406618A1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ultiki.arjlover.net/info/" TargetMode="External"/><Relationship Id="rId3" Type="http://schemas.openxmlformats.org/officeDocument/2006/relationships/hyperlink" Target="http://multiki.arjlover.net/info/" TargetMode="External"/><Relationship Id="rId4" Type="http://schemas.openxmlformats.org/officeDocument/2006/relationships/hyperlink" Target="http://stat18.privet.ru/lr/0a2de6f098ea8696345cb" TargetMode="External"/><Relationship Id="rId5" Type="http://schemas.openxmlformats.org/officeDocument/2006/relationships/hyperlink" Target="http://stat18.privet.ru/lr/0a2de6f098ea8696345cb" TargetMode="External"/><Relationship Id="rId6" Type="http://schemas.openxmlformats.org/officeDocument/2006/relationships/hyperlink" Target="http://900igr.net/photo/priroda/1-" TargetMode="External"/><Relationship Id="rId7" Type="http://schemas.openxmlformats.org/officeDocument/2006/relationships/hyperlink" Target="http://klopik.com/animaciya/856-" TargetMode="External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01400" y="1905120"/>
            <a:ext cx="6753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вописание сочета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чк, чн, щ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800600"/>
            <a:ext cx="8305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нина Елена Александровна №208-533-9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митриенко Светлана Анатольевна №228-478-0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БОУ «СОШ №48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30800" y="62085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.12.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79640" y="36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990720"/>
            <a:ext cx="45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Игра «Кто больше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1600" y="2023920"/>
            <a:ext cx="6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2560" y="205740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8200" y="1981080"/>
            <a:ext cx="8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щ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0470200">
            <a:off x="1219320" y="4571640"/>
            <a:ext cx="141264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438280" y="289548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114800" y="4648320"/>
            <a:ext cx="1219320" cy="1207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105520" y="2819520"/>
            <a:ext cx="1752480" cy="1320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400800" y="4495680"/>
            <a:ext cx="14479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84680" y="36972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чень источ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9120" y="1066680"/>
            <a:ext cx="45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multiki.arjlover.net/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kak.lvenok.i.cherepaha.peli.pesnyu.av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71000" y="182880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http://torrent.te.ua/details.php?id=137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7680" y="2362320"/>
            <a:ext cx="43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http://hiero.ru/Simona?category=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25080" y="2895480"/>
            <a:ext cx="51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stat18.privet.ru/lr/0a2de6f098ea8696345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d2efd82e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0" y="3581280"/>
            <a:ext cx="43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900igr.net/photo/priroda/1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esna-5.files/Vesna.-Mart-aprel-maj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24000" y="4343400"/>
            <a:ext cx="36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klopik.com/animaciya/856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cii-s-zhivotnymi-22-fo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66320" y="1033560"/>
            <a:ext cx="510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Что такое перед н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Две оглобли за уша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На глазах по колес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И селедка на но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76920" y="331956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оч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7920" y="838080"/>
            <a:ext cx="6400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4120" y="1828800"/>
            <a:ext cx="736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  Ш  Щ  ж  ш  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ук жужжит над абажур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27160" y="1082520"/>
            <a:ext cx="29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истопис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68360" y="137160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8520" y="13716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6240" y="609480"/>
            <a:ext cx="13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11120" y="137160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в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1320" y="609480"/>
            <a:ext cx="16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9520" y="60948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ловар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2760" y="6094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3040" y="1371600"/>
            <a:ext cx="16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аль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3320" y="144792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у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34240" y="225252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06240" y="217656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642E-006 L -0.23177 0.33071 E">
                                      <p:cBhvr>
                                        <p:cTn id="2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51064E-007 L 0.55834 0.22202 E">
                                      <p:cBhvr>
                                        <p:cTn id="3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6642E-006 L -0.43299 0.44172 E">
                                      <p:cBhvr>
                                        <p:cTn id="3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89824E-007 L 0.34653 0.33071 E">
                                      <p:cBhvr>
                                        <p:cTn id="4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6642E-006 L -0.6474 0.56383 E">
                                      <p:cBhvr>
                                        <p:cTn id="45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89824E-007 L 0.12569 0.44172 E">
                                      <p:cBhvr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9.89824E-007 L -0.53368 0.57493 E">
                                      <p:cBhvr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2239E-006 L -0.18594 0.56383 E">
                                      <p:cBhvr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743200" y="411480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91800" y="5000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чки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10960" y="53352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с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106668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1066680"/>
            <a:ext cx="68580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6920" y="990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60120" y="990720"/>
            <a:ext cx="26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гл., безу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11480" y="160020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1676520"/>
            <a:ext cx="609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75400" y="1490760"/>
            <a:ext cx="40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согл., глух., мя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1600200"/>
            <a:ext cx="5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11480" y="2209680"/>
            <a:ext cx="3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286000"/>
            <a:ext cx="68580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20960" y="2209680"/>
            <a:ext cx="4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1360" y="210024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., глух., мя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5280" y="27860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895480"/>
            <a:ext cx="609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20960" y="28195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4680" y="281952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гл., уд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4160" y="29718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29520" y="354816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б., 4 з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79640" y="36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58280" y="271440"/>
            <a:ext cx="665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Выпиши слова, в котор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согласный звук всегда мяг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2320" y="190512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4960" y="190512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3760" y="19051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ищ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2920" y="190512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6440" y="1905120"/>
            <a:ext cx="16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3960" y="26668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ч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5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18224E-006 L -0.1375 0.33071 E">
                                      <p:cBhvr>
                                        <p:cTn id="15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18224E-006 L -0.08403 0.31961 E">
                                      <p:cBhvr>
                                        <p:cTn id="15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85661E-006 L 0.32743 0.2086 E">
                                      <p:cBhvr>
                                        <p:cTn id="16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79640" y="36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43200" y="42861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86520" y="1033560"/>
            <a:ext cx="30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тская рук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6960" y="106668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7960" y="198108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ленькая дач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440" y="198108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а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62120" y="3090960"/>
            <a:ext cx="38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большая туч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7160" y="304812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у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79640" y="36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8680" y="68580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19440" y="2233440"/>
            <a:ext cx="1905120" cy="239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15000" y="2743200"/>
            <a:ext cx="2438280" cy="3448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5800" y="2971800"/>
            <a:ext cx="2444760" cy="3352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1600" y="1371600"/>
            <a:ext cx="6019920" cy="4815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696080" y="457200"/>
            <a:ext cx="8845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879640" y="36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8680" y="68580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619440" y="2233440"/>
            <a:ext cx="1905120" cy="2391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715000" y="2743200"/>
            <a:ext cx="2438280" cy="3448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85800" y="2971800"/>
            <a:ext cx="244476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447920" y="1371600"/>
            <a:ext cx="6324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6:54:41Z</dcterms:created>
  <dc:creator>Лена</dc:creator>
  <dc:description/>
  <dc:language>en-US</dc:language>
  <cp:lastModifiedBy>User</cp:lastModifiedBy>
  <dcterms:modified xsi:type="dcterms:W3CDTF">2012-02-08T20:10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