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546-32C9-4D30-A554-AD6786BD8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976-161E-43D2-B028-B887CC678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B83-7EF9-4F52-A703-559ECA8D2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6F9-5422-433C-A60D-EDF249480F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B9A9-A928-4957-A111-8E1A7D8A9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1450-544B-407A-B4D9-5F62F7321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A1A0-FABD-4809-8D71-39A3B8AC9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A976-64D9-4C4E-AB3B-46D199316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097B-B334-4F48-AEC8-5B1219571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325E-C39F-47D2-BB09-15BF06F75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E28-2C47-4F02-94E6-EE7441D0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E07-0C88-4B0F-93CE-A603E8E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AE6-7585-40A8-9655-4B5543AA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C89-C95B-4524-A9D5-27B6E1DD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C6E-BE5B-4D61-95E5-819D050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596-FAEF-4BEA-BA78-D0E1FFE4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138-8090-4B9B-AC45-580972F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F1E-D490-44CC-BB59-DB9B3B16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7F5-0990-4FEA-9858-580FB013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AEE-5EE5-480E-AA02-753FDF9D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7C2-842C-4B80-884C-E646ED08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FC0-9FC4-499E-A389-E48260E8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ff"/>
            </a:gs>
            <a:gs pos="100000">
              <a:srgbClr val="33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D49B-4771-4879-830E-05CE6897F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187280" y="1052640"/>
            <a:ext cx="7056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0" lang="en-US" sz="1400" spc="1" strike="noStrike">
              <a:ln w="9360">
                <a:solidFill>
                  <a:srgbClr val="33cccc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Учителя географии  г.Таганрога Ростовской обл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Чернова Л.А. МОБУ СОШ № 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Пономарева А.А. МОБУ СОШ №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512640"/>
            <a:ext cx="8674200" cy="3754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BookmanCTT"/>
              </a:rPr>
              <a:t>Можно ли заболеть от шу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7068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шу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нсивность звука в разных средах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ое и отрицательное влияние музыки на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ш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47840" y="236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187280" y="436572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manCTT"/>
              </a:rPr>
              <a:t>Эти вопросы рассматривают на уроках:</a:t>
            </a:r>
            <a:r>
              <a:rPr b="0" lang="ru-RU" sz="2400" spc="-1" strike="noStrike">
                <a:solidFill>
                  <a:srgbClr val="000000"/>
                </a:solidFill>
                <a:latin typeface="BookmanCT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логии,                 биоло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графии,              физ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и,                    ОБ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65008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Информационные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 ресурсы:</a:t>
            </a:r>
            <a:r>
              <a:rPr b="0" lang="en-US" sz="2800" spc="-1" strike="noStrike">
                <a:solidFill>
                  <a:srgbClr val="000000"/>
                </a:solidFill>
                <a:latin typeface="BookmanCT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Криксунов Е.А. Экология 9 кл. М. Дрофа 2007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Миркин Б.М., Наумова Л.Г. Экология России 9-11 к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Кучер Т.В., Колпащикова И.В. Медицинская география 10-11 кл. М. Просвещ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Кузнецов В.Н. Экология М. Дрофа 2002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О состоянии окружающей среды г. Таганрога 2010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Окружающая среда г. Таганрога на рубеже ХХ-ХХ</a:t>
            </a:r>
            <a:r>
              <a:rPr b="0" lang="en-US" sz="2200" spc="-1" strike="noStrike">
                <a:solidFill>
                  <a:srgbClr val="000000"/>
                </a:solidFill>
                <a:latin typeface="Bodoni MT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 в.в. Сборник статей . Таганрог 2000-2010г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http://tmn.fio.ru/works/40x/311/p02.htm  Влияние шумов на здоровье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doni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doni MT"/>
              </a:rPr>
              <a:t>http://schools.keldysh.ru/labmro/web2002/proekt1/zaklych.htm - факторы здоровь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15640" y="1052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Дидактические цели проект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ить знания детей в области естественных нау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ь у них познавательный интерес к проблемам большого города, в том числе            г. Таганрога, с целью личного вклада в решение этих пробл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чь в творческом поиске предложений по уменьшению шумовой нагрузки в г.Таганро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ь работу  со схемами, таблицами, статист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5832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Методические задач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влияние техногенных факторов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понятие ш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представление о последствиях воздействия шума на живые организмы,  в том числе на организм человека с целью профилактики болезней вызванных ш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ить обрабатывать и обобщать полученную информацию в результате проведенных опытов и экспери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116000" y="692280"/>
            <a:ext cx="7416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BookmanCTT"/>
              </a:rPr>
              <a:t>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CTT"/>
              </a:rPr>
              <a:t>самостоятельных исследований:</a:t>
            </a:r>
            <a:r>
              <a:rPr b="0" lang="ru-RU" sz="2800" spc="-1" strike="noStrike">
                <a:solidFill>
                  <a:srgbClr val="000000"/>
                </a:solidFill>
                <a:latin typeface="BookmanCT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м в прошлом и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м на произв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ияние шума на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 и здоровь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CTT"/>
              </a:rPr>
              <a:t>Результа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CTT"/>
              </a:rPr>
              <a:t>представления исследовани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«Шум и здоровье челове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кация «Влияние шума на здоровье челов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99640" y="116532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CTT"/>
              </a:rPr>
              <a:t>Этапы и ср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manCTT"/>
              </a:rPr>
              <a:t>проведения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ирование тем исследований уче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5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 для проведения исследований, выдвижение гипотез решения проблем. (2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    Выбор творческого названия проекта.(1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бсуждение со школьниками возможных источников информации. (2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Самостоятельная работа учащихся по обсуждению задания каждого в групп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амостоятельная работа групп по выполнению заданий. (1 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Подготовка школьниками презентации по отчету о проделанной работе. (3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Защита полученных результатов и выводов. (20 м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Материалы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 учебно-методического пакета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BookmanCTT"/>
              </a:rPr>
              <a:t>к исследовательск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19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Шум и здоровье челов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к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лияние шума на здоровье челов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вор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лияние шума на здоровье человека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09:36:59Z</dcterms:created>
  <dc:creator>Кравченко В. Ф.</dc:creator>
  <dc:description/>
  <dc:language>en-US</dc:language>
  <cp:lastModifiedBy>Алла</cp:lastModifiedBy>
  <dcterms:modified xsi:type="dcterms:W3CDTF">2011-12-21T12:26:22Z</dcterms:modified>
  <cp:revision>23</cp:revision>
  <dc:subject/>
  <dc:title>Тема учебного проекта:</dc:title>
</cp:coreProperties>
</file>