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1.jpeg" ContentType="image/jpeg"/>
  <Override PartName="/ppt/media/image32.wmf" ContentType="image/x-wmf"/>
  <Override PartName="/ppt/media/image20.jpeg" ContentType="image/jpeg"/>
  <Override PartName="/ppt/media/image29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30.wmf" ContentType="image/x-wmf"/>
  <Override PartName="/ppt/media/image6.jpeg" ContentType="image/jpeg"/>
  <Override PartName="/ppt/media/image34.jpeg" ContentType="image/jpeg"/>
  <Override PartName="/ppt/media/image44.jpeg" ContentType="image/jpeg"/>
  <Override PartName="/ppt/media/image46.jpeg" ContentType="image/jpeg"/>
  <Override PartName="/ppt/media/image49.jpeg" ContentType="image/jpeg"/>
  <Override PartName="/ppt/media/image47.jpeg" ContentType="image/jpeg"/>
  <Override PartName="/ppt/media/image52.jpeg" ContentType="image/jpeg"/>
  <Override PartName="/ppt/media/image48.jpeg" ContentType="image/jpeg"/>
  <Override PartName="/ppt/media/image53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7.jpeg" ContentType="image/jpeg"/>
  <Override PartName="/ppt/media/image38.jpeg" ContentType="image/jpeg"/>
  <Override PartName="/ppt/media/image3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9C8F-0A30-43EA-97A1-1C588AEC24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853C-248C-49EE-BA29-526BD6B0786B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AFEA-B649-4D22-B5F3-71533D0F3439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8A8F-4463-4E63-BC61-965A433A4532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4126-87EA-4888-9EDF-C7F2CAD8C98A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2C9E-A68B-47CE-B13A-E637026EAAFB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CCD8-B1F2-42C4-99DC-5F09A9E8DC32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6E94-11AE-4431-A242-C1B3644D2CC3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A37D-65D3-4A37-9337-E964D6123C42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3BF7-4F19-46C9-B4A6-071E091252C9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75FC-8CE8-408C-A314-71669896D15D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6E34-0807-4918-B268-79358B26FFBB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8C6C-65B4-49CA-AB65-06AB58494B61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8452-5F35-4DA6-B3FF-A37D004D112D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791B-4168-4124-8532-A40A5F0D6B2B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2B0C-9C23-47EF-82DF-855D9494F798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1147-46B9-4667-A3CB-A871EFA5CF42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9016-6C88-4E50-82BD-5FFAAFAF54D7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2066-16B0-4B20-B59F-4386B9F80B7A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F872-DBF3-4174-8C13-E986BC5C33A9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064D-6CD5-4906-810E-3DFAB255655A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A935-0CB8-41D0-8E9F-BB7B3456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C174-C2FC-4EC5-8F11-E7900BB9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09477-D96C-4130-A296-13EA262B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E10DF-BAB2-4D7F-A395-21F7339F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D9E01-E6B5-45A8-B266-BC20DB9B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0D31A-1CDA-4501-B8A2-6E5C79CB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71267-CE68-4FB9-9207-B91804EB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687A9-2B18-496E-BAB0-642031A0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BE356-B9F5-486A-B2ED-DF656D25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A6E6E-E776-49F4-864F-975CCB79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F82B6-79D4-4EBA-B4B5-6E1B7E86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F51BF-BB2D-4455-87A6-62705E64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4B84-8735-4603-967C-C7ABD776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0B693-0A37-4B6F-AA18-BECAA1B2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D0CAF-F0BC-4F02-A229-8CD20B74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014E7-3E2C-40CD-B352-8C0B5EF3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F2D15-3673-4686-8BB6-7C1A7603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EE47E-0F2C-4387-AC92-E7F4CB4F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942D3-6185-4B86-8D62-CA08E960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0D230-0293-411B-AE8C-C6BC337E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CC711-E0CE-4376-8BE0-5822B73E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12DC3-58AF-4138-897E-3971A25F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AB326-B718-4F4E-AFF5-8AEC6810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CA81-E9CB-481C-BEF0-304BB889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F8CD8-AADD-49DE-9ED4-676B7915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E6179-7344-4E2A-AB32-F097A8AD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8408D-2977-4CEC-996A-C8B9D7AC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1F6E2-9394-420A-85F5-2AFE4A20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720CD-BB51-425B-914C-8B76D39D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5123D-C581-450B-8A1D-ACA9E6C9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58C09-F8ED-471F-8968-EFCCE799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9F6B7-5BAA-4DE3-9B1B-0A2CEB1E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D36AC-BA42-414F-A374-C8640E06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E8D81-FD98-4DDE-8329-48CA7FC5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ADA8-0451-4702-BC9E-C5426886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25DC0-1A9E-44D9-9173-FF469335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1A23C-49AE-4E1F-85EB-7D422A20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B3F00-3C75-44C1-9A23-125FB4F6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CA0D3-2F31-482F-9F6A-E2A0844E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BC17B-A111-4E7B-8738-9F828F12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C390F-EE5B-4936-8A36-49C03BED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D2FB9-BECC-4BFB-BD31-48ECD37C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B20E7-34D1-4E83-836B-055E02ED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115F7-7DCF-448C-B4A0-E9CFCA18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486C8-AE9F-463D-BDE5-168919C1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6EAA-450D-4E34-8CC1-42D852D4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88E85-18CB-4101-A100-D1167C12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FC317-7D69-4E43-96A8-4819B82F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18444-A74C-4DBD-96E6-742C09C1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C5A35-82DA-459B-9EF2-A07BB94E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767360-8EDA-4A12-B50D-3CBC1476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80AC18-31DE-479C-A501-8E16F5B4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B1C305-279D-40A2-998C-AE4036C0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E7FA2A-1074-4234-9B1F-33BFACC2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284642-6CC2-4617-8381-29D9832D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B07805-8176-4443-A32B-F8E6DFF2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A376-2704-4915-94DE-EA0B7236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115475-F89D-4EC2-ACBF-7016A98C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37C5BD-340B-4B81-AF5C-4EDECAFF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30F6F5-C57B-4186-BCC8-EA6DE816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BC5358-68AB-4B47-81D3-77F88968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8033FF-8EB2-4197-8674-991F6C60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8D85C4-5419-4B69-9EBF-F1B551CD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571321-5B6B-44FE-9666-EEA9E669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5EC02B-1C70-422D-9F97-C28D5624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8483EC-21FD-4D19-98D6-3C36698D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C60394-F434-42B7-914E-D254A5B9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DBEC-199D-4477-8327-A7E7A2FB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FAB54E-6D85-4FAC-A319-6DB5F447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10BC74-6652-423F-8D1C-C09074F9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B1419C-D3F6-4BFE-A625-BA6DA769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10BB8E-5F2D-4FC7-A4ED-1CE34DF0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FC0160-2401-481F-953D-6E7211D4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325579-70F0-4259-9994-5B811472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E51131-E85F-4D11-96FA-3E9FCEF5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E47855-E56D-485E-9EED-8EE1820A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5C8827-4FAF-4250-B694-E4D4B760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4144-534D-4852-B6A8-F2540657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AD5A-E48E-4814-B973-A59E7D1C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FA64-3C8A-425A-8795-1FDA056B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3195-38E4-44E7-AE4F-C43E3967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681B-479F-421B-8B91-D4EF2B19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9966-F564-4FE5-ACDB-3CBA0C21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7EBD-3F66-4292-BA7B-C7232FBC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3199-3E36-48F1-A158-FF4867DC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B5D4-3130-4C8D-85C7-AE3EAB9D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0FAF7-BCCE-4562-865D-DA34632E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6B3C3-5846-4D8A-8CFE-B06668DA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97DBD-D656-4431-BAD1-1C8A415E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C2E6D-8C28-4D8A-9878-919807DC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CFE37-7BA3-48FE-ACA3-C39E312B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D99B-2CBC-4642-A546-7836718F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B37B6-D4A5-459C-B1EF-9603447C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510F4-0389-4FCA-8FAB-3E5200D3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AE545-4F29-4BC6-AA6D-A3E60A4F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EA4B8-C8CB-414F-AA38-AEAB9889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41EE0-DF66-4E61-BC23-B135290F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385D9-33F2-42EB-AF78-21A4E77C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0C5BF-E922-468E-AC99-1A43A9D7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C1880-4ADC-4EE0-B3FA-06CBC2F3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44A03-2824-4940-B454-A6F2B618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81E9C-4634-4388-99B6-6F04311E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50E3-7BFA-454B-A7CC-B2A90563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81300-074D-4638-BFB3-D17016D1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977C1-F58E-4B73-934C-E2393201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567F7-2DB4-4F26-8773-E19AAA60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0E52F-C8FF-47BF-9703-1C2F4242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87175-B664-47B6-B434-C577994E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42F10-372A-4D56-8FF8-2B896FE7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71F7C-8CF1-4321-989E-8B5A16E7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0728E-A209-47B7-BCBF-F0522E2C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5ECF7-5CA2-4686-A1A7-81E12271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CDB09-4ADE-4C12-B90D-FD7BFADD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8048-1068-4E11-90C1-5EDAC401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B0E25-CCA5-4AA5-ABD4-472AF13E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FFD7D-3F71-41EC-B95D-4A923035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8F5D1-57A3-4049-BEE7-234EA9C8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C366C-ADDC-4C6E-AD92-612C4BD7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76B59-B9D6-4DAC-A3D0-31759CC6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48E46-067B-4AAC-AC81-694539DB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2FFFC-9F92-42CA-8376-B1736D1F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01A28-7C9B-4A2E-B9C2-E3B2FC45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515A3-0B1E-4087-AEA3-AA1D7A3F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91F19-F983-4BCA-A175-45274C7E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BCF1-4C51-4063-AC02-1FF3DA95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C2ED6-FDB6-4B40-8036-7D81AB35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4E1B8-40CC-4EC2-8EED-A73CF7A8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E1AC6-80C8-49D8-A71C-FA08D998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AEAD9-A642-4A27-95BC-EA6D84C1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E7200-CCF3-4CE0-8373-E735E7CF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E5EAF-9015-4654-AC55-3FF50FD0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75858-BF08-41C7-87D1-1374903B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B94A1-BF8A-43CB-903D-AB4B29E0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C3824-7C1C-4478-AF47-AC14B034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46981-08DA-476F-9285-CDF98809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8429-7506-425E-A689-FC16CC9E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6062D-E0D4-4E0F-BF42-C0B5ADD0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CD30E-3FAD-41D8-A82D-088CCE88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39D73-56C2-41D5-83CF-1039CBC0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920EE-8805-4E91-9881-BA90C2C5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0B3CE-2771-449D-ACA4-B4343C4C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D292E-C3A5-4AC0-A5D5-9EC53A50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85DDC-E81B-4265-B71F-0438E8D6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F8D30-EB23-42E9-BA63-302940DF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A2AD9-2C97-40BD-A431-5A48B1E5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8B3A8-F220-4106-9E1B-AD8D5498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E0FD-7557-43C5-B2D4-1ED1C2CF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C84E5-5B0C-468D-B1B1-34CA24A7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F960B-A912-4A9E-B119-D6280628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5D75F-3F5D-44F6-A7B4-F39E9B98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FB530-80A0-428D-A663-521982A9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2F87B-84EB-4084-B3D7-7F34AE036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FF512-71AD-4DC7-AB42-F07420DF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921D1-D1F8-45C3-A477-CA40708B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5332C-5514-4356-9016-B2A457A4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AE5D5-DE02-4836-A03D-3738DB06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BF2D7-60D4-43A8-AAED-D145DBD6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6E8E-2589-40A1-9413-6C95D9BA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79585-2CD8-4DEE-807E-6392D4E6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CE305-D9B0-4D7A-99C2-6C27F7F9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E4D59-F922-4CEB-BB48-CDB3A057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2F4BB-DCE0-4C71-89CB-8B3351DE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EB94B-11CB-4CD0-B5D8-5B610E98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C42A5-9A0C-407A-A27C-2E38E127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1E5DE-7447-44CC-86C1-A3C5D4FA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9D6EB-A6BD-4FA5-A91D-129FC525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468CB-CC8A-480D-85FC-CB9E7910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94D16-431C-481D-B98F-010050EE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D67D-9F08-4190-B2D7-B1F0B65176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756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57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758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759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760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761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62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763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764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765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766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767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768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769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770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771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772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773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774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775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776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777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778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780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81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782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783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784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85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86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87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88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89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90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91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93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94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95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96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97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4FC0-803B-496E-8309-3FAB86BFF7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9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840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841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42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43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44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845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846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47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48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49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50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51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852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853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854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855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856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857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58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59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860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861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62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63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864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865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66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67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868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69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70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71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72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73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74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75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76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77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78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79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80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81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3DBD-2A4D-462C-999E-1FE9F6DA72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924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25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926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7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8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29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30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931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32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33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34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35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936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937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938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939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940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941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42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43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944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945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46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47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948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949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50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51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52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3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4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5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6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7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8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9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0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1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2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3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4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5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CC07-B153-4EEB-9FA9-1B982ABF9B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008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00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1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013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014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101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9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020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021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022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023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24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025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6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7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2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2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3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3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33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3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3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036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37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38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39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40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41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42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43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44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45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46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47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48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49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FD31-9EFE-4DF8-A9F2-955334A073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1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09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09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9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09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098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109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3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104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105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106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107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108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109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10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11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11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1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1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1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1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1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2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2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2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2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2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2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2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2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2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2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3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3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3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3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87FA-8245-4045-AB75-73F0DF047002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>
                  <a:gd name="textAreaLeft" fmla="*/ 0 w 2116800"/>
                  <a:gd name="textAreaRight" fmla="*/ 2117160 w 211680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>
                  <a:gd name="textAreaLeft" fmla="*/ 0 w 906840"/>
                  <a:gd name="textAreaRight" fmla="*/ 907200 w 90684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>
                  <a:gd name="textAreaLeft" fmla="*/ 0 w 177120"/>
                  <a:gd name="textAreaRight" fmla="*/ 177480 w 17712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>
                  <a:gd name="textAreaLeft" fmla="*/ 0 w 317160"/>
                  <a:gd name="textAreaRight" fmla="*/ 317520 w 317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49840"/>
                  <a:gd name="textAreaBottom" fmla="*/ 250200 h 2498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3677-1C2F-42D9-A9CC-A86759FE3E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68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6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7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73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74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17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9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80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81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82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83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84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5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86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87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8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8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9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93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96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7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8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9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0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1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2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3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4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5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6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7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8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9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696A-72C7-4BA3-B3D9-561B5D4ADD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25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5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5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5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58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25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3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264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265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6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7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68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269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0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1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7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7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7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7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8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F48B-B44F-4A9D-A3E0-F45320FF3F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336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337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38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39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40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341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342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343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44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45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46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47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348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349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350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351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52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353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54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55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356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357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58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59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360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361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62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63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364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5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6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7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8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9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0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1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2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3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4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5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6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7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E69A-A3E6-4E12-BFD6-E15F1B22BE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420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421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22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23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24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425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426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427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28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29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30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31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432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433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434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435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36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437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38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39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440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441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42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43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444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445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46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47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448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49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0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1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2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3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4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5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6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7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8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9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60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61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9A8A-CEF9-4257-ABD4-BD68D9981C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504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505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506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07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08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509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510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511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12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13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14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15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516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517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518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519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20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521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22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23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525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26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27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528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529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30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31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532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33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34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35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36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37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38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39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40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41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42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43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44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45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0A40-FD67-41E9-A210-C941B12B44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588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58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59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9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9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593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594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59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9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9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9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99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600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601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602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603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04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605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06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07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60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0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1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1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61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13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1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1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16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17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18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19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0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1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2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3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4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5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6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7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8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9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7A36-D50B-40D7-BB9F-159DA2D8B1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67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67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67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7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7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7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678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67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8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8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8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83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684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685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686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687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88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689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90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91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9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9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9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69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9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9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9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70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0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0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0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0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0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0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0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0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0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1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1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1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1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9F88-E776-4456-8929-73A985482E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2.wmf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45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WordArt 4"/>
          <p:cNvSpPr txBox="1"/>
          <p:nvPr/>
        </p:nvSpPr>
        <p:spPr>
          <a:xfrm>
            <a:off x="468360" y="189000"/>
            <a:ext cx="8280360" cy="17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"/>
              </a:rPr>
              <a:t>Шум и здоровье чело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1183" name="TextBox 9"/>
          <p:cNvSpPr/>
          <p:nvPr/>
        </p:nvSpPr>
        <p:spPr>
          <a:xfrm>
            <a:off x="1410840" y="5657760"/>
            <a:ext cx="647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Выполнили учител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г.Таганрога Ростовской области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Чернова Людмила Александровна МОБУ СОШ № 10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ономарева Алла Андреевна МОБУ СОШ № 32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184" name="Picture 19" descr="http://ecologico.ru/wp-content/uploads/2011/05/%D1%88%D1%83%D0%BC.jpg"/>
          <p:cNvPicPr/>
          <p:nvPr/>
        </p:nvPicPr>
        <p:blipFill>
          <a:blip r:embed="rId1"/>
          <a:stretch/>
        </p:blipFill>
        <p:spPr>
          <a:xfrm>
            <a:off x="1476360" y="1773360"/>
            <a:ext cx="6120000" cy="3897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50000">
              <a:srgbClr val="ffffcc"/>
            </a:gs>
            <a:gs pos="100000">
              <a:srgbClr val="ff7c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4"/>
          <p:cNvSpPr/>
          <p:nvPr/>
        </p:nvSpPr>
        <p:spPr>
          <a:xfrm>
            <a:off x="900000" y="1048680"/>
            <a:ext cx="7344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Социологический опрос, проведённый среди учеников 10 и 32 школ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об условиях их проживания (внешних факторов)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и влияние этих условий на их здоровье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1" name="WordArt 5"/>
          <p:cNvSpPr txBox="1"/>
          <p:nvPr/>
        </p:nvSpPr>
        <p:spPr>
          <a:xfrm>
            <a:off x="826920" y="333360"/>
            <a:ext cx="7429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Verdana"/>
              </a:rPr>
              <a:t>Наши исследован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262" name="Rectangle 6"/>
          <p:cNvSpPr/>
          <p:nvPr/>
        </p:nvSpPr>
        <p:spPr>
          <a:xfrm>
            <a:off x="250920" y="1772640"/>
            <a:ext cx="3887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прос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00"/>
                </a:solidFill>
                <a:latin typeface="Verdana"/>
              </a:rPr>
              <a:t>Пользуетесь ли вы общественным транспортом?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3" name="Rectangle 7"/>
          <p:cNvSpPr/>
          <p:nvPr/>
        </p:nvSpPr>
        <p:spPr>
          <a:xfrm>
            <a:off x="5102280" y="1843920"/>
            <a:ext cx="3271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прос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99"/>
                </a:solidFill>
                <a:latin typeface="Verdana"/>
              </a:rPr>
              <a:t>Сколько часов в день вы слушает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99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990099"/>
                </a:solidFill>
                <a:latin typeface="Verdana"/>
              </a:rPr>
              <a:t>музыку?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4" name="Rectangle 8"/>
          <p:cNvSpPr/>
          <p:nvPr/>
        </p:nvSpPr>
        <p:spPr>
          <a:xfrm>
            <a:off x="179280" y="4075920"/>
            <a:ext cx="381636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прос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Verdana"/>
              </a:rPr>
              <a:t>Какие крупные промышленные объекты находятся в вашем районе,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Verdana"/>
              </a:rPr>
              <a:t>или около него?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5" name="Rectangle 9"/>
          <p:cNvSpPr/>
          <p:nvPr/>
        </p:nvSpPr>
        <p:spPr>
          <a:xfrm>
            <a:off x="5003640" y="4004640"/>
            <a:ext cx="3849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прос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Verdana"/>
              </a:rPr>
              <a:t>Влияет этот шум на их здоровье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8000"/>
                </a:solidFill>
                <a:latin typeface="Verdana"/>
              </a:rPr>
              <a:t>мешает ли он учёбе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266" name="Object 10"/>
          <p:cNvGraphicFramePr/>
          <p:nvPr/>
        </p:nvGraphicFramePr>
        <p:xfrm>
          <a:off x="324000" y="2421000"/>
          <a:ext cx="3527280" cy="158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421000"/>
                    <a:ext cx="352728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8" name="Object 12"/>
          <p:cNvGraphicFramePr/>
          <p:nvPr/>
        </p:nvGraphicFramePr>
        <p:xfrm>
          <a:off x="4932360" y="2492280"/>
          <a:ext cx="3672000" cy="1505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69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2492280"/>
                    <a:ext cx="3672000" cy="15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0" name="Object 15"/>
          <p:cNvGraphicFramePr/>
          <p:nvPr/>
        </p:nvGraphicFramePr>
        <p:xfrm>
          <a:off x="4788000" y="4997520"/>
          <a:ext cx="3887640" cy="1611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71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8000" y="4997520"/>
                    <a:ext cx="388764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2" name="Object 18"/>
          <p:cNvGraphicFramePr/>
          <p:nvPr/>
        </p:nvGraphicFramePr>
        <p:xfrm>
          <a:off x="324000" y="5013360"/>
          <a:ext cx="3600360" cy="16765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73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000" y="5013360"/>
                    <a:ext cx="36003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4" name="9.wav" descr=""/>
          <p:cNvPicPr/>
          <p:nvPr/>
        </p:nvPicPr>
        <p:blipFill>
          <a:blip r:embed="rId9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7" dur="192980" fill="hold"/>
                                        <p:tgtEl>
                                          <p:spTgt spid="1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8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2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2" dur="2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2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5" dur="2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0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8">
                                  <p:stCondLst>
                                    <p:cond delay="18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0">
                                  <p:stCondLst>
                                    <p:cond delay="21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2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2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2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0">
                                  <p:stCondLst>
                                    <p:cond delay="26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99"/>
            </a:gs>
            <a:gs pos="100000">
              <a:srgbClr val="00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Verdana"/>
              </a:rPr>
              <a:t>Влияние музыки на организм челове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6" name="Rectangle 5"/>
          <p:cNvSpPr/>
          <p:nvPr/>
        </p:nvSpPr>
        <p:spPr>
          <a:xfrm>
            <a:off x="4572000" y="1557360"/>
            <a:ext cx="457200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«Непрерывный поток развлекательной музыки может привести к тому, что некоторая часть информации, заложенная в человеческом мозгу, становится недоступной или совсем стирается»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ерман Рух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7" name="Rectangle 6"/>
          <p:cNvSpPr/>
          <p:nvPr/>
        </p:nvSpPr>
        <p:spPr>
          <a:xfrm>
            <a:off x="1042920" y="4292640"/>
            <a:ext cx="73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пределенные формы развлекательной музыки способствуют выделению стрессового гормона и даже стирают некоторую часть запечатанной там информации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8" name="Rectangle 8"/>
          <p:cNvSpPr/>
          <p:nvPr/>
        </p:nvSpPr>
        <p:spPr>
          <a:xfrm>
            <a:off x="1042920" y="5229360"/>
            <a:ext cx="7632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пасность представляют не только громкая музыка, но и тихий музыкальный фон. Эффект его подобен алкоголю: восприятие его небольшими дозами, но систематически в течении длительного времени причиняет вред организму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279" name="Picture 15" descr="2"/>
          <p:cNvPicPr/>
          <p:nvPr/>
        </p:nvPicPr>
        <p:blipFill>
          <a:blip r:embed="rId1"/>
          <a:stretch/>
        </p:blipFill>
        <p:spPr>
          <a:xfrm>
            <a:off x="179280" y="1413000"/>
            <a:ext cx="4248360" cy="2663640"/>
          </a:xfrm>
          <a:prstGeom prst="rect">
            <a:avLst/>
          </a:prstGeom>
          <a:ln w="0">
            <a:noFill/>
          </a:ln>
        </p:spPr>
      </p:pic>
      <p:pic>
        <p:nvPicPr>
          <p:cNvPr id="1280" name="10.rmi" descr=""/>
          <p:cNvPicPr/>
          <p:nvPr/>
        </p:nvPicPr>
        <p:blipFill>
          <a:blip r:embed="rId2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6" dur="157500" fill="hold"/>
                                        <p:tgtEl>
                                          <p:spTgt spid="1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7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2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1" presetSubtype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8" dur="2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2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18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WordArt 9"/>
          <p:cNvSpPr txBox="1"/>
          <p:nvPr/>
        </p:nvSpPr>
        <p:spPr>
          <a:xfrm>
            <a:off x="755640" y="692280"/>
            <a:ext cx="7704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Как поднять себе настроение</a:t>
            </a:r>
            <a:endParaRPr b="0" lang="en-US" sz="1800" spc="1" strike="noStrike">
              <a:ln cap="rnd"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282" name="Rectangle 13"/>
          <p:cNvSpPr/>
          <p:nvPr/>
        </p:nvSpPr>
        <p:spPr>
          <a:xfrm>
            <a:off x="3635280" y="3790080"/>
            <a:ext cx="53294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Музыка сопутствует человеку всю жизнь. Бурные и спокойные, грустные и веселые мелодии благотворно действуют на нервную систему, восстанавливают ее, создают хорошее настроение, если они подаются вовремя и в меру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3" name="Rectangle 14"/>
          <p:cNvSpPr/>
          <p:nvPr/>
        </p:nvSpPr>
        <p:spPr>
          <a:xfrm>
            <a:off x="2627280" y="2205000"/>
            <a:ext cx="706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Verdana"/>
              </a:rPr>
              <a:t>Секреты музыкальной гармони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284" name="Picture 15" descr="J0289421"/>
          <p:cNvPicPr/>
          <p:nvPr/>
        </p:nvPicPr>
        <p:blipFill>
          <a:blip r:embed="rId1"/>
          <a:stretch/>
        </p:blipFill>
        <p:spPr>
          <a:xfrm>
            <a:off x="324000" y="2133720"/>
            <a:ext cx="2966760" cy="4449600"/>
          </a:xfrm>
          <a:prstGeom prst="rect">
            <a:avLst/>
          </a:prstGeom>
          <a:ln w="0">
            <a:noFill/>
          </a:ln>
        </p:spPr>
      </p:pic>
      <p:pic>
        <p:nvPicPr>
          <p:cNvPr id="1285" name="11.wav" descr=""/>
          <p:cNvPicPr/>
          <p:nvPr/>
        </p:nvPicPr>
        <p:blipFill>
          <a:blip r:embed="rId2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" dur="190060" fill="hold"/>
                                        <p:tgtEl>
                                          <p:spTgt spid="1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5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8" presetSubtype="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2" dur="2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3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2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edfad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6" name="Picture 4" descr="Моцарт"/>
          <p:cNvPicPr/>
          <p:nvPr/>
        </p:nvPicPr>
        <p:blipFill>
          <a:blip r:embed="rId1"/>
          <a:stretch/>
        </p:blipFill>
        <p:spPr>
          <a:xfrm>
            <a:off x="1547640" y="2565360"/>
            <a:ext cx="2802240" cy="3600360"/>
          </a:xfrm>
          <a:prstGeom prst="rect">
            <a:avLst/>
          </a:prstGeom>
          <a:ln w="0">
            <a:noFill/>
          </a:ln>
        </p:spPr>
      </p:pic>
      <p:sp>
        <p:nvSpPr>
          <p:cNvPr id="1287" name="Rectangle 12"/>
          <p:cNvSpPr/>
          <p:nvPr/>
        </p:nvSpPr>
        <p:spPr>
          <a:xfrm>
            <a:off x="2124000" y="90792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Все 40 симфоний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В.А. Моцарта влияю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на интеллектуальное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развитие дете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288" name="Picture 13" descr="J0175029"/>
          <p:cNvPicPr/>
          <p:nvPr/>
        </p:nvPicPr>
        <p:blipFill>
          <a:blip r:embed="rId2"/>
          <a:stretch/>
        </p:blipFill>
        <p:spPr>
          <a:xfrm>
            <a:off x="6084720" y="981000"/>
            <a:ext cx="2438640" cy="3657600"/>
          </a:xfrm>
          <a:prstGeom prst="rect">
            <a:avLst/>
          </a:prstGeom>
          <a:ln w="0">
            <a:noFill/>
          </a:ln>
        </p:spPr>
      </p:pic>
      <p:pic>
        <p:nvPicPr>
          <p:cNvPr id="1289" name="12.MID" descr=""/>
          <p:cNvPicPr/>
          <p:nvPr/>
        </p:nvPicPr>
        <p:blipFill>
          <a:blip r:embed="rId3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7" dur="68234" fill="hold"/>
                                        <p:tgtEl>
                                          <p:spTgt spid="1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2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0" name="Picture 4" descr="Бах"/>
          <p:cNvPicPr/>
          <p:nvPr/>
        </p:nvPicPr>
        <p:blipFill>
          <a:blip r:embed="rId1"/>
          <a:stretch/>
        </p:blipFill>
        <p:spPr>
          <a:xfrm>
            <a:off x="3059280" y="1557360"/>
            <a:ext cx="2376360" cy="3040200"/>
          </a:xfrm>
          <a:prstGeom prst="rect">
            <a:avLst/>
          </a:prstGeom>
          <a:ln w="0">
            <a:noFill/>
          </a:ln>
        </p:spPr>
      </p:pic>
      <p:sp>
        <p:nvSpPr>
          <p:cNvPr id="1291" name="Rectangle 8"/>
          <p:cNvSpPr/>
          <p:nvPr/>
        </p:nvSpPr>
        <p:spPr>
          <a:xfrm>
            <a:off x="1619280" y="69228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Произведения И.С. Баха влияют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2" name="Rectangle 9"/>
          <p:cNvSpPr/>
          <p:nvPr/>
        </p:nvSpPr>
        <p:spPr>
          <a:xfrm>
            <a:off x="2195640" y="5373720"/>
            <a:ext cx="47955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«Бранденбургский концерт» -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на физиологическую активност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3" name="Rectangle 10"/>
          <p:cNvSpPr/>
          <p:nvPr/>
        </p:nvSpPr>
        <p:spPr>
          <a:xfrm>
            <a:off x="395280" y="27082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«Прелюдии» - уравновешиваю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4" name="Rectangle 12"/>
          <p:cNvSpPr/>
          <p:nvPr/>
        </p:nvSpPr>
        <p:spPr>
          <a:xfrm>
            <a:off x="5724360" y="2781360"/>
            <a:ext cx="34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«Итальянский концерт» - смягчает гне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295" name="13.wav" descr=""/>
          <p:cNvPicPr/>
          <p:nvPr/>
        </p:nvPicPr>
        <p:blipFill>
          <a:blip r:embed="rId2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4" dur="250464" fill="hold"/>
                                        <p:tgtEl>
                                          <p:spTgt spid="1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2" dur="2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2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3" dur="2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4" descr="Шопен"/>
          <p:cNvPicPr/>
          <p:nvPr/>
        </p:nvPicPr>
        <p:blipFill>
          <a:blip r:embed="rId1"/>
          <a:stretch/>
        </p:blipFill>
        <p:spPr>
          <a:xfrm>
            <a:off x="5580000" y="1052640"/>
            <a:ext cx="2737080" cy="3384360"/>
          </a:xfrm>
          <a:prstGeom prst="rect">
            <a:avLst/>
          </a:prstGeom>
          <a:ln w="0">
            <a:noFill/>
          </a:ln>
        </p:spPr>
      </p:pic>
      <p:sp>
        <p:nvSpPr>
          <p:cNvPr id="1297" name="Rectangle 9"/>
          <p:cNvSpPr/>
          <p:nvPr/>
        </p:nvSpPr>
        <p:spPr>
          <a:xfrm>
            <a:off x="1692360" y="1268280"/>
            <a:ext cx="36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Мазурки Шопена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однимают настроен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3913200" y="4869000"/>
            <a:ext cx="2457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Ноктюрн ре-мино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нижает давлен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299" name="Picture 12" descr="J0175042"/>
          <p:cNvPicPr/>
          <p:nvPr/>
        </p:nvPicPr>
        <p:blipFill>
          <a:blip r:embed="rId2"/>
          <a:stretch/>
        </p:blipFill>
        <p:spPr>
          <a:xfrm>
            <a:off x="1042920" y="2565360"/>
            <a:ext cx="2438640" cy="3657600"/>
          </a:xfrm>
          <a:prstGeom prst="rect">
            <a:avLst/>
          </a:prstGeom>
          <a:ln w="0">
            <a:noFill/>
          </a:ln>
        </p:spPr>
      </p:pic>
      <p:pic>
        <p:nvPicPr>
          <p:cNvPr id="1300" name="14.MID" descr=""/>
          <p:cNvPicPr/>
          <p:nvPr/>
        </p:nvPicPr>
        <p:blipFill>
          <a:blip r:embed="rId3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9" dur="107712" fill="hold"/>
                                        <p:tgtEl>
                                          <p:spTgt spid="1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3" presetSubtype="16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3" presetSubtype="16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2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3" dur="2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edfad2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1" name="Picture 4" descr="Штраус"/>
          <p:cNvPicPr/>
          <p:nvPr/>
        </p:nvPicPr>
        <p:blipFill>
          <a:blip r:embed="rId1"/>
          <a:stretch/>
        </p:blipFill>
        <p:spPr>
          <a:xfrm>
            <a:off x="5796000" y="1268280"/>
            <a:ext cx="2233440" cy="295272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5" descr="вальс Штраус"/>
          <p:cNvPicPr/>
          <p:nvPr/>
        </p:nvPicPr>
        <p:blipFill>
          <a:blip r:embed="rId2"/>
          <a:stretch/>
        </p:blipFill>
        <p:spPr>
          <a:xfrm>
            <a:off x="1908000" y="3645000"/>
            <a:ext cx="2159280" cy="2305080"/>
          </a:xfrm>
          <a:prstGeom prst="rect">
            <a:avLst/>
          </a:prstGeom>
          <a:ln w="0">
            <a:noFill/>
          </a:ln>
        </p:spPr>
      </p:pic>
      <p:sp>
        <p:nvSpPr>
          <p:cNvPr id="1303" name="Rectangle 8"/>
          <p:cNvSpPr/>
          <p:nvPr/>
        </p:nvSpPr>
        <p:spPr>
          <a:xfrm>
            <a:off x="1979640" y="1341360"/>
            <a:ext cx="38894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Вальсы Штраус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отгоняют тревогу, успокаивают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расслабляю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304" name="15.WAV" descr=""/>
          <p:cNvPicPr/>
          <p:nvPr/>
        </p:nvPicPr>
        <p:blipFill>
          <a:blip r:embed="rId3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9" dur="154037" fill="hold"/>
                                        <p:tgtEl>
                                          <p:spTgt spid="1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2" dur="2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5" dur="2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1" presetSubtype="2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38" dur="2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/>
          </p:nvPr>
        </p:nvSpPr>
        <p:spPr>
          <a:xfrm>
            <a:off x="3058920" y="1125000"/>
            <a:ext cx="58338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Музыка П.И. Чайковского из балета «Лебединое озеро»  и «4 концерт»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нижают уровень агрессивности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тревожност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306" name="Picture 4" descr="Чайковский"/>
          <p:cNvPicPr/>
          <p:nvPr/>
        </p:nvPicPr>
        <p:blipFill>
          <a:blip r:embed="rId2"/>
          <a:stretch/>
        </p:blipFill>
        <p:spPr>
          <a:xfrm>
            <a:off x="468360" y="476280"/>
            <a:ext cx="2838240" cy="352908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5" descr="Балет"/>
          <p:cNvPicPr/>
          <p:nvPr/>
        </p:nvPicPr>
        <p:blipFill>
          <a:blip r:embed="rId3"/>
          <a:stretch/>
        </p:blipFill>
        <p:spPr>
          <a:xfrm>
            <a:off x="4788000" y="3284640"/>
            <a:ext cx="4103640" cy="291780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7" descr="балет"/>
          <p:cNvPicPr/>
          <p:nvPr/>
        </p:nvPicPr>
        <p:blipFill>
          <a:blip r:embed="rId4"/>
          <a:stretch/>
        </p:blipFill>
        <p:spPr>
          <a:xfrm>
            <a:off x="1476360" y="4508640"/>
            <a:ext cx="2592360" cy="2058840"/>
          </a:xfrm>
          <a:prstGeom prst="rect">
            <a:avLst/>
          </a:prstGeom>
          <a:ln w="0">
            <a:noFill/>
          </a:ln>
        </p:spPr>
      </p:pic>
      <p:pic>
        <p:nvPicPr>
          <p:cNvPr id="1309" name="16.wav" descr=""/>
          <p:cNvPicPr/>
          <p:nvPr/>
        </p:nvPicPr>
        <p:blipFill>
          <a:blip r:embed="rId5"/>
          <a:stretch/>
        </p:blipFill>
        <p:spPr>
          <a:xfrm>
            <a:off x="-404640" y="6453360"/>
            <a:ext cx="404640" cy="404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4" dur="61951" fill="hold"/>
                                        <p:tgtEl>
                                          <p:spTgt spid="1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7" dur="2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1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1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5" dur="20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1" presetSubtype="4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8" dur="2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Picture 4" descr="Бетховен"/>
          <p:cNvPicPr/>
          <p:nvPr/>
        </p:nvPicPr>
        <p:blipFill>
          <a:blip r:embed="rId1"/>
          <a:stretch/>
        </p:blipFill>
        <p:spPr>
          <a:xfrm>
            <a:off x="5148360" y="1844640"/>
            <a:ext cx="3108240" cy="4032360"/>
          </a:xfrm>
          <a:prstGeom prst="rect">
            <a:avLst/>
          </a:prstGeom>
          <a:ln w="0">
            <a:noFill/>
          </a:ln>
        </p:spPr>
      </p:pic>
      <p:sp>
        <p:nvSpPr>
          <p:cNvPr id="1311" name="Rectangle 8"/>
          <p:cNvSpPr/>
          <p:nvPr/>
        </p:nvSpPr>
        <p:spPr>
          <a:xfrm>
            <a:off x="4932360" y="54936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5 симфония Бетховена улучшает работу серд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312" name="Picture 14" descr="1"/>
          <p:cNvPicPr/>
          <p:nvPr/>
        </p:nvPicPr>
        <p:blipFill>
          <a:blip r:embed="rId2"/>
          <a:stretch/>
        </p:blipFill>
        <p:spPr>
          <a:xfrm>
            <a:off x="826920" y="836640"/>
            <a:ext cx="3389400" cy="5326200"/>
          </a:xfrm>
          <a:prstGeom prst="rect">
            <a:avLst/>
          </a:prstGeom>
          <a:ln w="0">
            <a:noFill/>
          </a:ln>
        </p:spPr>
      </p:pic>
      <p:pic>
        <p:nvPicPr>
          <p:cNvPr id="1313" name="17.wma" descr=""/>
          <p:cNvPicPr/>
          <p:nvPr/>
        </p:nvPicPr>
        <p:blipFill>
          <a:blip r:embed="rId3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4" dur="1" fill="hold"/>
                                        <p:tgtEl>
                                          <p:spTgt spid="1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7" dur="2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0" dur="2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7" presetSubtype="8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4" name="Picture 4" descr="Бабкина"/>
          <p:cNvPicPr/>
          <p:nvPr/>
        </p:nvPicPr>
        <p:blipFill>
          <a:blip r:embed="rId1"/>
          <a:stretch/>
        </p:blipFill>
        <p:spPr>
          <a:xfrm>
            <a:off x="395280" y="3860640"/>
            <a:ext cx="1665360" cy="223236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5" descr="джаз"/>
          <p:cNvPicPr/>
          <p:nvPr/>
        </p:nvPicPr>
        <p:blipFill>
          <a:blip r:embed="rId2"/>
          <a:stretch/>
        </p:blipFill>
        <p:spPr>
          <a:xfrm>
            <a:off x="3348000" y="2060640"/>
            <a:ext cx="1944720" cy="158256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6" descr="Кадышева"/>
          <p:cNvPicPr/>
          <p:nvPr/>
        </p:nvPicPr>
        <p:blipFill>
          <a:blip r:embed="rId3"/>
          <a:stretch/>
        </p:blipFill>
        <p:spPr>
          <a:xfrm>
            <a:off x="7020000" y="4869000"/>
            <a:ext cx="1452600" cy="18000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8" descr="рок-н-рол"/>
          <p:cNvPicPr/>
          <p:nvPr/>
        </p:nvPicPr>
        <p:blipFill>
          <a:blip r:embed="rId4"/>
          <a:stretch/>
        </p:blipFill>
        <p:spPr>
          <a:xfrm>
            <a:off x="5796000" y="1700280"/>
            <a:ext cx="2879640" cy="179208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9" descr="Русская песня"/>
          <p:cNvPicPr/>
          <p:nvPr/>
        </p:nvPicPr>
        <p:blipFill>
          <a:blip r:embed="rId5"/>
          <a:stretch/>
        </p:blipFill>
        <p:spPr>
          <a:xfrm>
            <a:off x="3492360" y="5373720"/>
            <a:ext cx="2230560" cy="1293840"/>
          </a:xfrm>
          <a:prstGeom prst="rect">
            <a:avLst/>
          </a:prstGeom>
          <a:ln w="0">
            <a:noFill/>
          </a:ln>
        </p:spPr>
      </p:pic>
      <p:sp>
        <p:nvSpPr>
          <p:cNvPr id="1319" name="Rectangle 11"/>
          <p:cNvSpPr/>
          <p:nvPr/>
        </p:nvSpPr>
        <p:spPr>
          <a:xfrm>
            <a:off x="4140360" y="549360"/>
            <a:ext cx="439236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Легкая лирическая музыка гармонизирует эмоциональное состояние, нейтрализует, уравновешива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0" name="Rectangle 12"/>
          <p:cNvSpPr/>
          <p:nvPr/>
        </p:nvSpPr>
        <p:spPr>
          <a:xfrm>
            <a:off x="6948360" y="350028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Рок-н-рол активизирует моторную деятельность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1" name="Rectangle 13"/>
          <p:cNvSpPr/>
          <p:nvPr/>
        </p:nvSpPr>
        <p:spPr>
          <a:xfrm>
            <a:off x="468360" y="2276640"/>
            <a:ext cx="23032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99"/>
                </a:solidFill>
                <a:latin typeface="Verdana"/>
              </a:rPr>
              <a:t>Джазовая музыка развивает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99"/>
                </a:solidFill>
                <a:latin typeface="Verdana"/>
              </a:rPr>
              <a:t>чувственные наклонност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2" name="Rectangle 14"/>
          <p:cNvSpPr/>
          <p:nvPr/>
        </p:nvSpPr>
        <p:spPr>
          <a:xfrm>
            <a:off x="2556000" y="3645000"/>
            <a:ext cx="417672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Verdana"/>
              </a:rPr>
              <a:t>Фольклорная музыка (конкретно соответстующая национальности матери) развивает эмоционально, но только до полной смены у ребенка зубов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323" name="Picture 15" descr="3"/>
          <p:cNvPicPr/>
          <p:nvPr/>
        </p:nvPicPr>
        <p:blipFill>
          <a:blip r:embed="rId6"/>
          <a:stretch/>
        </p:blipFill>
        <p:spPr>
          <a:xfrm>
            <a:off x="179280" y="189000"/>
            <a:ext cx="3384720" cy="1950840"/>
          </a:xfrm>
          <a:prstGeom prst="rect">
            <a:avLst/>
          </a:prstGeom>
          <a:ln w="0">
            <a:noFill/>
          </a:ln>
        </p:spPr>
      </p:pic>
      <p:pic>
        <p:nvPicPr>
          <p:cNvPr id="1324" name="18.wav" descr=""/>
          <p:cNvPicPr/>
          <p:nvPr/>
        </p:nvPicPr>
        <p:blipFill>
          <a:blip r:embed="rId7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2" dur="185700" fill="hold"/>
                                        <p:tgtEl>
                                          <p:spTgt spid="1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5" dur="2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8" dur="2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1" dur="2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8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7" dur="20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2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0" dur="2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2">
                                  <p:stCondLst>
                                    <p:cond delay="205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0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8" dur="2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0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1" dur="2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0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4" dur="2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5" name="Picture 9" descr="motorcycles"/>
          <p:cNvPicPr/>
          <p:nvPr/>
        </p:nvPicPr>
        <p:blipFill>
          <a:blip r:embed="rId1"/>
          <a:stretch/>
        </p:blipFill>
        <p:spPr>
          <a:xfrm>
            <a:off x="4716360" y="2708280"/>
            <a:ext cx="4427640" cy="395748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10" descr="TRUCK2"/>
          <p:cNvPicPr/>
          <p:nvPr/>
        </p:nvPicPr>
        <p:blipFill>
          <a:blip r:embed="rId2"/>
          <a:stretch/>
        </p:blipFill>
        <p:spPr>
          <a:xfrm>
            <a:off x="465120" y="3429000"/>
            <a:ext cx="4286160" cy="342900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11" descr="light_rail"/>
          <p:cNvPicPr/>
          <p:nvPr/>
        </p:nvPicPr>
        <p:blipFill>
          <a:blip r:embed="rId3"/>
          <a:stretch/>
        </p:blipFill>
        <p:spPr>
          <a:xfrm>
            <a:off x="0" y="0"/>
            <a:ext cx="4284720" cy="3429000"/>
          </a:xfrm>
          <a:prstGeom prst="rect">
            <a:avLst/>
          </a:prstGeom>
          <a:ln w="0">
            <a:noFill/>
          </a:ln>
        </p:spPr>
      </p:pic>
      <p:sp>
        <p:nvSpPr>
          <p:cNvPr id="1188" name="Rectangle 12"/>
          <p:cNvSpPr/>
          <p:nvPr/>
        </p:nvSpPr>
        <p:spPr>
          <a:xfrm>
            <a:off x="4572000" y="987480"/>
            <a:ext cx="417672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Шум действует на все органы и системы органов человека. 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И поэтому является одним из опасных загрязнителей окружающей среды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189" name="1.wav" descr=""/>
          <p:cNvPicPr/>
          <p:nvPr/>
        </p:nvPicPr>
        <p:blipFill>
          <a:blip r:embed="rId4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9551" fill="hold"/>
                                        <p:tgtEl>
                                          <p:spTgt spid="1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" dur="2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1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1" presetSubtype="4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6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3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Rectangle 4"/>
          <p:cNvSpPr/>
          <p:nvPr/>
        </p:nvSpPr>
        <p:spPr>
          <a:xfrm>
            <a:off x="1692360" y="1139400"/>
            <a:ext cx="5759280" cy="28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 нашей работе мы, по возможности, показали факторы влияющие на здоровье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опытались дать рекомендации, каким образом улучшить наше и ваше самочувстви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И, наверное, можно добавить только одно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6" name="Rectangle 5"/>
          <p:cNvSpPr/>
          <p:nvPr/>
        </p:nvSpPr>
        <p:spPr>
          <a:xfrm>
            <a:off x="1908000" y="3645000"/>
            <a:ext cx="51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3300"/>
                </a:solidFill>
                <a:latin typeface="Verdana"/>
              </a:rPr>
              <a:t>БУДЬТЕ ЗДОРОВЫ!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327" name="19.wav" descr=""/>
          <p:cNvPicPr/>
          <p:nvPr/>
        </p:nvPicPr>
        <p:blipFill>
          <a:blip r:embed="rId1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0" dur="237900" fill="hold"/>
                                        <p:tgtEl>
                                          <p:spTgt spid="13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2000"/>
                                        <p:tgtEl>
                                          <p:spTgt spid="1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2000"/>
                                        <p:tgtEl>
                                          <p:spTgt spid="1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2000"/>
                                        <p:tgtEl>
                                          <p:spTgt spid="1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3" presetSubtype="1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30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30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/>
          </p:nvPr>
        </p:nvSpPr>
        <p:spPr>
          <a:xfrm>
            <a:off x="0" y="26370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Bodoni MT"/>
              </a:rPr>
              <a:t>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Bodoni MT"/>
              </a:rPr>
              <a:t>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Bodoni MT"/>
              </a:rPr>
              <a:t>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1" name="Rectangle 5"/>
          <p:cNvSpPr/>
          <p:nvPr/>
        </p:nvSpPr>
        <p:spPr>
          <a:xfrm>
            <a:off x="395280" y="476280"/>
            <a:ext cx="52578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Шум – комплекс звуков, вызывающий неприятно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ощущение или болезненные реакци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2" name="Rectangle 6"/>
          <p:cNvSpPr/>
          <p:nvPr/>
        </p:nvSpPr>
        <p:spPr>
          <a:xfrm>
            <a:off x="4466520" y="3068640"/>
            <a:ext cx="44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Verdana"/>
              </a:rPr>
              <a:t>Шум мешает нормальному отдыху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3" name="Rectangle 7"/>
          <p:cNvSpPr/>
          <p:nvPr/>
        </p:nvSpPr>
        <p:spPr>
          <a:xfrm>
            <a:off x="1471320" y="6021360"/>
            <a:ext cx="26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Verdana"/>
              </a:rPr>
              <a:t>Музыка – тоже шум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194" name="Picture 9" descr="J0149047"/>
          <p:cNvPicPr/>
          <p:nvPr/>
        </p:nvPicPr>
        <p:blipFill>
          <a:blip r:embed="rId1"/>
          <a:stretch/>
        </p:blipFill>
        <p:spPr>
          <a:xfrm>
            <a:off x="5003640" y="260280"/>
            <a:ext cx="3888000" cy="2611440"/>
          </a:xfrm>
          <a:prstGeom prst="rect">
            <a:avLst/>
          </a:prstGeom>
          <a:ln w="0">
            <a:noFill/>
          </a:ln>
        </p:spPr>
      </p:pic>
      <p:pic>
        <p:nvPicPr>
          <p:cNvPr id="1195" name="Picture 11" descr="J0149061"/>
          <p:cNvPicPr/>
          <p:nvPr/>
        </p:nvPicPr>
        <p:blipFill>
          <a:blip r:embed="rId2"/>
          <a:stretch/>
        </p:blipFill>
        <p:spPr>
          <a:xfrm>
            <a:off x="971640" y="1773360"/>
            <a:ext cx="2954160" cy="3992400"/>
          </a:xfrm>
          <a:prstGeom prst="rect">
            <a:avLst/>
          </a:prstGeom>
          <a:ln w="0">
            <a:noFill/>
          </a:ln>
        </p:spPr>
      </p:pic>
      <p:pic>
        <p:nvPicPr>
          <p:cNvPr id="1196" name="Picture 14" descr="J0178685"/>
          <p:cNvPicPr/>
          <p:nvPr/>
        </p:nvPicPr>
        <p:blipFill>
          <a:blip r:embed="rId3"/>
          <a:stretch/>
        </p:blipFill>
        <p:spPr>
          <a:xfrm>
            <a:off x="4427640" y="3500280"/>
            <a:ext cx="4535280" cy="3040200"/>
          </a:xfrm>
          <a:prstGeom prst="rect">
            <a:avLst/>
          </a:prstGeom>
          <a:ln w="0">
            <a:noFill/>
          </a:ln>
        </p:spPr>
      </p:pic>
      <p:pic>
        <p:nvPicPr>
          <p:cNvPr id="1197" name="2.wav" descr=""/>
          <p:cNvPicPr/>
          <p:nvPr/>
        </p:nvPicPr>
        <p:blipFill>
          <a:blip r:embed="rId4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21990" fill="hold"/>
                                        <p:tgtEl>
                                          <p:spTgt spid="1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2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17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20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ad2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WordArt 6"/>
          <p:cNvSpPr txBox="1"/>
          <p:nvPr/>
        </p:nvSpPr>
        <p:spPr>
          <a:xfrm>
            <a:off x="1979640" y="476280"/>
            <a:ext cx="5076720" cy="79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Шум в прошл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sp>
        <p:nvSpPr>
          <p:cNvPr id="1199" name="Rectangle 7"/>
          <p:cNvSpPr/>
          <p:nvPr/>
        </p:nvSpPr>
        <p:spPr>
          <a:xfrm>
            <a:off x="5292720" y="1700280"/>
            <a:ext cx="3672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По свидетельству римского сатирика Ювенала, в столице трудно было заснуть - мешали скрип, громыхание обозов на узких улицах, брань возниц. "Большая часть больных, - писал Ювенал, - умирает в Риме от бессонницы"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0" name="Rectangle 8"/>
          <p:cNvSpPr/>
          <p:nvPr/>
        </p:nvSpPr>
        <p:spPr>
          <a:xfrm>
            <a:off x="900000" y="1125360"/>
            <a:ext cx="712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Юлий Цезарь в 50 г. до н. э. вынужден был запретить ночное движение экипажей по городу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1" name="Rectangle 9"/>
          <p:cNvSpPr/>
          <p:nvPr/>
        </p:nvSpPr>
        <p:spPr>
          <a:xfrm>
            <a:off x="468360" y="4581360"/>
            <a:ext cx="3816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Королева Англии Елизавета I, заботясь о ночном покое своих подданных, запретила любые схватки и громкие семейные ссоры после 22 часов. В те счастливые времена супружеские разлады были, чуть ли не единственным источником шума!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202" name="Picture 10" descr="1"/>
          <p:cNvPicPr/>
          <p:nvPr/>
        </p:nvPicPr>
        <p:blipFill>
          <a:blip r:embed="rId1"/>
          <a:stretch/>
        </p:blipFill>
        <p:spPr>
          <a:xfrm>
            <a:off x="395280" y="1700280"/>
            <a:ext cx="4537080" cy="264960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12" descr="J0163886"/>
          <p:cNvPicPr/>
          <p:nvPr/>
        </p:nvPicPr>
        <p:blipFill>
          <a:blip r:embed="rId2"/>
          <a:stretch/>
        </p:blipFill>
        <p:spPr>
          <a:xfrm>
            <a:off x="4427640" y="3573360"/>
            <a:ext cx="4537080" cy="2963880"/>
          </a:xfrm>
          <a:prstGeom prst="rect">
            <a:avLst/>
          </a:prstGeom>
          <a:ln w="0">
            <a:noFill/>
          </a:ln>
        </p:spPr>
      </p:pic>
      <p:pic>
        <p:nvPicPr>
          <p:cNvPr id="1204" name="3.mp3" descr=""/>
          <p:cNvPicPr/>
          <p:nvPr/>
        </p:nvPicPr>
        <p:blipFill>
          <a:blip r:embed="rId3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99471" fill="hold"/>
                                        <p:tgtEl>
                                          <p:spTgt spid="1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2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0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0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cc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WordArt 4"/>
          <p:cNvSpPr txBox="1"/>
          <p:nvPr/>
        </p:nvSpPr>
        <p:spPr>
          <a:xfrm>
            <a:off x="1403280" y="333360"/>
            <a:ext cx="4416480" cy="461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Verdana"/>
              </a:rPr>
              <a:t>Шум в настоящее врем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Verdana"/>
              <a:ea typeface="Verdana"/>
            </a:endParaRPr>
          </a:p>
        </p:txBody>
      </p:sp>
      <p:sp>
        <p:nvSpPr>
          <p:cNvPr id="1206" name="Rectangle 5"/>
          <p:cNvSpPr/>
          <p:nvPr/>
        </p:nvSpPr>
        <p:spPr>
          <a:xfrm>
            <a:off x="3348000" y="4005720"/>
            <a:ext cx="17272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Напряжения, накапливающиеся за много лет таких ситуаций, могут повредить здоровью. Поэтому необходимы меры по ограничению шумовой нагрузки на нашу психику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7" name="Rectangle 6"/>
          <p:cNvSpPr/>
          <p:nvPr/>
        </p:nvSpPr>
        <p:spPr>
          <a:xfrm>
            <a:off x="3635280" y="907920"/>
            <a:ext cx="295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В наше время на человека в течении дня воздействуют самые разнообразные шумы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8" name="Rectangle 7"/>
          <p:cNvSpPr/>
          <p:nvPr/>
        </p:nvSpPr>
        <p:spPr>
          <a:xfrm>
            <a:off x="6516720" y="260280"/>
            <a:ext cx="23050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Если после работы или учебы мы проводим свободное время под громкие звуки магнитофонной музыки или телевизионного детектива, в котором сыщики и детективы обмениваются громкими выстрелами, состояние стресса не покидает нас и в период отдыха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209" name="Picture 11" descr="J0178707"/>
          <p:cNvPicPr/>
          <p:nvPr/>
        </p:nvPicPr>
        <p:blipFill>
          <a:blip r:embed="rId1"/>
          <a:stretch/>
        </p:blipFill>
        <p:spPr>
          <a:xfrm>
            <a:off x="3635280" y="2060640"/>
            <a:ext cx="2865600" cy="1914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12" descr="J0180965"/>
          <p:cNvPicPr/>
          <p:nvPr/>
        </p:nvPicPr>
        <p:blipFill>
          <a:blip r:embed="rId2"/>
          <a:stretch/>
        </p:blipFill>
        <p:spPr>
          <a:xfrm>
            <a:off x="5292720" y="4292640"/>
            <a:ext cx="3657600" cy="2401920"/>
          </a:xfrm>
          <a:prstGeom prst="rect">
            <a:avLst/>
          </a:prstGeom>
          <a:ln w="0">
            <a:noFill/>
          </a:ln>
        </p:spPr>
      </p:pic>
      <p:pic>
        <p:nvPicPr>
          <p:cNvPr id="1211" name="Picture 15" descr="GALLER~2"/>
          <p:cNvPicPr/>
          <p:nvPr/>
        </p:nvPicPr>
        <p:blipFill>
          <a:blip r:embed="rId3"/>
          <a:stretch/>
        </p:blipFill>
        <p:spPr>
          <a:xfrm>
            <a:off x="179280" y="3933720"/>
            <a:ext cx="3059280" cy="236700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16" descr="bullettrain"/>
          <p:cNvPicPr/>
          <p:nvPr/>
        </p:nvPicPr>
        <p:blipFill>
          <a:blip r:embed="rId4"/>
          <a:stretch/>
        </p:blipFill>
        <p:spPr>
          <a:xfrm>
            <a:off x="179280" y="907920"/>
            <a:ext cx="3384720" cy="2708280"/>
          </a:xfrm>
          <a:prstGeom prst="rect">
            <a:avLst/>
          </a:prstGeom>
          <a:ln w="0">
            <a:noFill/>
          </a:ln>
        </p:spPr>
      </p:pic>
      <p:pic>
        <p:nvPicPr>
          <p:cNvPr id="1213" name="4.mid" descr=""/>
          <p:cNvPicPr/>
          <p:nvPr/>
        </p:nvPicPr>
        <p:blipFill>
          <a:blip r:embed="rId5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85683" fill="hold"/>
                                        <p:tgtEl>
                                          <p:spTgt spid="1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9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0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0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0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0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24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2dffd"/>
            </a:gs>
            <a:gs pos="100000">
              <a:srgbClr val="cc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5"/>
          <p:cNvSpPr/>
          <p:nvPr/>
        </p:nvSpPr>
        <p:spPr>
          <a:xfrm>
            <a:off x="179280" y="4757760"/>
            <a:ext cx="4465800" cy="17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Шумы оказывают вредное влияние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на зрительный и вестибулярный    анализаторы,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снижает рефлекторную деятельность,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что часто становится причиной несчастных случаев и травм на производстве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5" name="Rectangle 6"/>
          <p:cNvSpPr/>
          <p:nvPr/>
        </p:nvSpPr>
        <p:spPr>
          <a:xfrm>
            <a:off x="3635280" y="1051920"/>
            <a:ext cx="5256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Длительное воздействие производственного шума может привести к развитию комплекса патологических нарушений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6" name="Rectangle 7"/>
          <p:cNvSpPr/>
          <p:nvPr/>
        </p:nvSpPr>
        <p:spPr>
          <a:xfrm>
            <a:off x="6012000" y="1700280"/>
            <a:ext cx="2952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изменения со стороны слухового анализатора,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центральной нервной системы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сердечно - сосудистой системы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7" name="WordArt 8"/>
          <p:cNvSpPr txBox="1"/>
          <p:nvPr/>
        </p:nvSpPr>
        <p:spPr>
          <a:xfrm>
            <a:off x="2987640" y="476280"/>
            <a:ext cx="561672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Verdana"/>
              </a:rPr>
              <a:t>Шум на производств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Verdana"/>
              <a:ea typeface="Verdana"/>
            </a:endParaRPr>
          </a:p>
        </p:txBody>
      </p:sp>
      <p:pic>
        <p:nvPicPr>
          <p:cNvPr id="1218" name="Picture 9" descr="J0148971"/>
          <p:cNvPicPr/>
          <p:nvPr/>
        </p:nvPicPr>
        <p:blipFill>
          <a:blip r:embed="rId1"/>
          <a:stretch/>
        </p:blipFill>
        <p:spPr>
          <a:xfrm>
            <a:off x="179280" y="404640"/>
            <a:ext cx="2694240" cy="403236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18" descr="_1867818_steel_ap300"/>
          <p:cNvPicPr/>
          <p:nvPr/>
        </p:nvPicPr>
        <p:blipFill>
          <a:blip r:embed="rId2"/>
          <a:stretch/>
        </p:blipFill>
        <p:spPr>
          <a:xfrm>
            <a:off x="2050920" y="1773360"/>
            <a:ext cx="4033800" cy="2435040"/>
          </a:xfrm>
          <a:prstGeom prst="rect">
            <a:avLst/>
          </a:prstGeom>
          <a:ln w="0">
            <a:noFill/>
          </a:ln>
        </p:spPr>
      </p:pic>
      <p:pic>
        <p:nvPicPr>
          <p:cNvPr id="1220" name="Picture 19" descr="058580-002"/>
          <p:cNvPicPr/>
          <p:nvPr/>
        </p:nvPicPr>
        <p:blipFill>
          <a:blip r:embed="rId3"/>
          <a:stretch/>
        </p:blipFill>
        <p:spPr>
          <a:xfrm>
            <a:off x="4067280" y="2997360"/>
            <a:ext cx="3816360" cy="253836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20" descr="J0180794"/>
          <p:cNvPicPr/>
          <p:nvPr/>
        </p:nvPicPr>
        <p:blipFill>
          <a:blip r:embed="rId4"/>
          <a:stretch/>
        </p:blipFill>
        <p:spPr>
          <a:xfrm>
            <a:off x="5486400" y="4456080"/>
            <a:ext cx="3657600" cy="2401920"/>
          </a:xfrm>
          <a:prstGeom prst="rect">
            <a:avLst/>
          </a:prstGeom>
          <a:ln w="0">
            <a:noFill/>
          </a:ln>
        </p:spPr>
      </p:pic>
      <p:pic>
        <p:nvPicPr>
          <p:cNvPr id="1222" name="5.mid" descr=""/>
          <p:cNvPicPr/>
          <p:nvPr/>
        </p:nvPicPr>
        <p:blipFill>
          <a:blip r:embed="rId5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201503" fill="hold"/>
                                        <p:tgtEl>
                                          <p:spTgt spid="1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20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0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1" presetSubtype="3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35" dur="2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2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8" presetSubtype="6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" dur="2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9">
                                  <p:stCondLst>
                                    <p:cond delay="22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2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27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30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9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2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35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38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40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3" name="Picture 4" descr="bz1"/>
          <p:cNvPicPr/>
          <p:nvPr/>
        </p:nvPicPr>
        <p:blipFill>
          <a:blip r:embed="rId1"/>
          <a:stretch/>
        </p:blipFill>
        <p:spPr>
          <a:xfrm>
            <a:off x="539640" y="907920"/>
            <a:ext cx="2051280" cy="2735280"/>
          </a:xfrm>
          <a:prstGeom prst="rect">
            <a:avLst/>
          </a:prstGeom>
          <a:ln w="0">
            <a:noFill/>
          </a:ln>
        </p:spPr>
      </p:pic>
      <p:sp>
        <p:nvSpPr>
          <p:cNvPr id="1224" name="WordArt 5"/>
          <p:cNvSpPr txBox="1"/>
          <p:nvPr/>
        </p:nvSpPr>
        <p:spPr>
          <a:xfrm>
            <a:off x="971640" y="404640"/>
            <a:ext cx="4895640" cy="100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От шума можно заболет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225" name="Rectangle 6"/>
          <p:cNvSpPr/>
          <p:nvPr/>
        </p:nvSpPr>
        <p:spPr>
          <a:xfrm>
            <a:off x="2627280" y="3403080"/>
            <a:ext cx="252108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Monotype Corsiva"/>
              </a:rPr>
              <a:t>Пять лет регулярных дискотек - и каждый четвертый посетитель теряет слух</a:t>
            </a:r>
            <a:r>
              <a:rPr b="1" i="1" lang="en-US" sz="2000" spc="-1" strike="noStrike">
                <a:solidFill>
                  <a:srgbClr val="ff6600"/>
                </a:solidFill>
                <a:latin typeface="Monotype Corsiva"/>
              </a:rPr>
              <a:t>.</a:t>
            </a:r>
            <a:r>
              <a:rPr b="1" i="1" lang="en-US" sz="1800" spc="-1" strike="noStrike">
                <a:solidFill>
                  <a:srgbClr val="ff6600"/>
                </a:solidFill>
                <a:latin typeface="Monotype Corsiva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Monotype Corsiva"/>
              </a:rPr>
              <a:t> 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6" name="Rectangle 7"/>
          <p:cNvSpPr/>
          <p:nvPr/>
        </p:nvSpPr>
        <p:spPr>
          <a:xfrm>
            <a:off x="468360" y="5473800"/>
            <a:ext cx="608472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33"/>
                </a:solidFill>
                <a:latin typeface="Verdana"/>
              </a:rPr>
              <a:t>Непрерывная шумовая нагрузка постепенно разрушает здоровье. Человек, постоянно подвергающийся воздействию шума, быстро переутомляется и становится раздражительным, забывчивым, чаще страдает от слабости и головокружения, которым не может найти объяснения. </a:t>
            </a:r>
            <a:br>
              <a:rPr sz="1400"/>
            </a:b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7" name="Rectangle 8"/>
          <p:cNvSpPr/>
          <p:nvPr/>
        </p:nvSpPr>
        <p:spPr>
          <a:xfrm>
            <a:off x="539640" y="3789360"/>
            <a:ext cx="1728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Verdana"/>
              </a:rPr>
              <a:t>Все, что звучит громче спокойного разговора,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Verdana"/>
              </a:rPr>
              <a:t>для организма уже нагрузка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8" name="Rectangle 9"/>
          <p:cNvSpPr/>
          <p:nvPr/>
        </p:nvSpPr>
        <p:spPr>
          <a:xfrm>
            <a:off x="6191280" y="260280"/>
            <a:ext cx="2628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33"/>
                </a:solidFill>
                <a:latin typeface="Verdana"/>
              </a:rPr>
              <a:t>Гул транспорта, громкая музыка, шум работающей стиральной машины или пылесоса безобидны, если они - явление временное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9" name="Rectangle 10"/>
          <p:cNvSpPr/>
          <p:nvPr/>
        </p:nvSpPr>
        <p:spPr>
          <a:xfrm>
            <a:off x="6622920" y="4902840"/>
            <a:ext cx="252108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Verdana"/>
              </a:rPr>
              <a:t>Шумовая нагрузка приводит к ослаблению иммунитета и открывает путь болезням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230" name="Picture 15" descr="121"/>
          <p:cNvPicPr/>
          <p:nvPr/>
        </p:nvPicPr>
        <p:blipFill>
          <a:blip r:embed="rId2"/>
          <a:stretch/>
        </p:blipFill>
        <p:spPr>
          <a:xfrm>
            <a:off x="5256360" y="2205000"/>
            <a:ext cx="3887640" cy="2376360"/>
          </a:xfrm>
          <a:prstGeom prst="rect">
            <a:avLst/>
          </a:prstGeom>
          <a:ln w="0">
            <a:noFill/>
          </a:ln>
        </p:spPr>
      </p:pic>
      <p:pic>
        <p:nvPicPr>
          <p:cNvPr id="1231" name="Picture 16" descr="1"/>
          <p:cNvPicPr/>
          <p:nvPr/>
        </p:nvPicPr>
        <p:blipFill>
          <a:blip r:embed="rId3"/>
          <a:stretch/>
        </p:blipFill>
        <p:spPr>
          <a:xfrm>
            <a:off x="2700360" y="1052640"/>
            <a:ext cx="2982960" cy="274788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17"/>
          <p:cNvSpPr/>
          <p:nvPr/>
        </p:nvSpPr>
        <p:spPr>
          <a:xfrm>
            <a:off x="1476360" y="1341360"/>
            <a:ext cx="62658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Verdana"/>
              </a:rPr>
              <a:t>Шум способен сокращать продолжительность жизни человека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i="1" lang="en-US" sz="4000" spc="-1" strike="noStrike">
                <a:solidFill>
                  <a:srgbClr val="ff0066"/>
                </a:solidFill>
                <a:latin typeface="Verdana"/>
              </a:rPr>
              <a:t>почти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Verdana"/>
              </a:rPr>
              <a:t>на 10 лет.</a:t>
            </a: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233" name="6.MID" descr=""/>
          <p:cNvPicPr/>
          <p:nvPr/>
        </p:nvPicPr>
        <p:blipFill>
          <a:blip r:embed="rId4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99136" fill="hold"/>
                                        <p:tgtEl>
                                          <p:spTgt spid="1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9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2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9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2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9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2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0">
                                  <p:stCondLst>
                                    <p:cond delay="19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0">
                                  <p:stCondLst>
                                    <p:cond delay="22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" dur="3000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3000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3000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0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3000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3000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3000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0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3000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3000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0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3000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ccff99"/>
            </a:gs>
            <a:gs pos="100000">
              <a:srgbClr val="ff6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4" name=""/>
          <p:cNvGraphicFramePr/>
          <p:nvPr/>
        </p:nvGraphicFramePr>
        <p:xfrm>
          <a:off x="56443680" y="55440"/>
          <a:ext cx="5486400" cy="698688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</a:tblGrid>
              <a:tr h="94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сточники шума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овень шума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лияние на организм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епот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вреден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громкий разгово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-40 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худшается сон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омкий разгово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-60 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нижается внимание, ухудшается зрен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ремена в школ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менение кровотока кожи, возбуждение организ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тоцикл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тобус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 производств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ктивный самолет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 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 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 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рушение слуха, утомляемость, головная боль, заболевания сердц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зры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-150 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левые ощущения, смерт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5" name=""/>
          <p:cNvGraphicFramePr/>
          <p:nvPr/>
        </p:nvGraphicFramePr>
        <p:xfrm>
          <a:off x="56443680" y="55440"/>
          <a:ext cx="5486400" cy="698688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</a:tblGrid>
              <a:tr h="94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сточники шума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овень шума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лияние на организм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епот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вреден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громкий разгово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-40 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худшается сон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омкий разгово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-60 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нижается внимание, ухудшается зрен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ремена в школ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менение кровотока кожи, возбуждение организ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тоцикл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тобус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 производств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ктивный самолет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 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 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 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рушение слуха, утомляемость, головная боль, заболевания сердц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зры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-150 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левые ощущения, смерт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6" name=""/>
          <p:cNvGraphicFramePr/>
          <p:nvPr/>
        </p:nvGraphicFramePr>
        <p:xfrm>
          <a:off x="56443680" y="55440"/>
          <a:ext cx="5486400" cy="698688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</a:tblGrid>
              <a:tr h="94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сточники шума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овень шума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лияние на организм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епот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вреден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громкий разгово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-40 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худшается сон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омкий разгово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-60 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нижается внимание, ухудшается зрен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ремена в школ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менение кровотока кожи, возбуждение организ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тоцикл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тобус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 производств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ктивный самолет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 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 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 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рушение слуха, утомляемость, головная боль, заболевания сердц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зры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-150 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левые ощущения, смерт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7" name="WordArt 293"/>
          <p:cNvSpPr txBox="1"/>
          <p:nvPr/>
        </p:nvSpPr>
        <p:spPr>
          <a:xfrm>
            <a:off x="395280" y="189000"/>
            <a:ext cx="5014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Влияние уровня шум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на организм челове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pic>
        <p:nvPicPr>
          <p:cNvPr id="1238" name="Picture 296" descr="J0178681"/>
          <p:cNvPicPr/>
          <p:nvPr/>
        </p:nvPicPr>
        <p:blipFill>
          <a:blip r:embed="rId1"/>
          <a:stretch/>
        </p:blipFill>
        <p:spPr>
          <a:xfrm>
            <a:off x="5867280" y="115920"/>
            <a:ext cx="3097440" cy="1976400"/>
          </a:xfrm>
          <a:prstGeom prst="rect">
            <a:avLst/>
          </a:prstGeom>
          <a:ln w="0">
            <a:noFill/>
          </a:ln>
        </p:spPr>
      </p:pic>
      <p:pic>
        <p:nvPicPr>
          <p:cNvPr id="1239" name="Picture 301" descr="J0178744"/>
          <p:cNvPicPr/>
          <p:nvPr/>
        </p:nvPicPr>
        <p:blipFill>
          <a:blip r:embed="rId2"/>
          <a:stretch/>
        </p:blipFill>
        <p:spPr>
          <a:xfrm>
            <a:off x="5580000" y="2276640"/>
            <a:ext cx="3024360" cy="202716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302" descr="J0185179"/>
          <p:cNvPicPr/>
          <p:nvPr/>
        </p:nvPicPr>
        <p:blipFill>
          <a:blip r:embed="rId3"/>
          <a:stretch/>
        </p:blipFill>
        <p:spPr>
          <a:xfrm>
            <a:off x="5724360" y="4508640"/>
            <a:ext cx="3262320" cy="216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1" name=""/>
          <p:cNvGraphicFramePr/>
          <p:nvPr/>
        </p:nvGraphicFramePr>
        <p:xfrm>
          <a:off x="250920" y="1268280"/>
          <a:ext cx="4968720" cy="628920"/>
        </p:xfrm>
        <a:graphic>
          <a:graphicData uri="http://schemas.openxmlformats.org/drawingml/2006/table">
            <a:tbl>
              <a:tblPr/>
              <a:tblGrid>
                <a:gridCol w="1512720"/>
                <a:gridCol w="1224000"/>
                <a:gridCol w="22320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сточники шума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ровень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шума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лияние на организм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2" name=""/>
          <p:cNvGraphicFramePr/>
          <p:nvPr/>
        </p:nvGraphicFramePr>
        <p:xfrm>
          <a:off x="250920" y="1916280"/>
          <a:ext cx="4968720" cy="388800"/>
        </p:xfrm>
        <a:graphic>
          <a:graphicData uri="http://schemas.openxmlformats.org/drawingml/2006/table">
            <a:tbl>
              <a:tblPr/>
              <a:tblGrid>
                <a:gridCol w="1512720"/>
                <a:gridCol w="1224000"/>
                <a:gridCol w="223200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шепот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езвреден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3" name=""/>
          <p:cNvGraphicFramePr/>
          <p:nvPr/>
        </p:nvGraphicFramePr>
        <p:xfrm>
          <a:off x="250920" y="2276640"/>
          <a:ext cx="4968720" cy="604800"/>
        </p:xfrm>
        <a:graphic>
          <a:graphicData uri="http://schemas.openxmlformats.org/drawingml/2006/table">
            <a:tbl>
              <a:tblPr/>
              <a:tblGrid>
                <a:gridCol w="1512720"/>
                <a:gridCol w="1224000"/>
                <a:gridCol w="22320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громкий разгово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0-40 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худшается сон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4" name=""/>
          <p:cNvGraphicFramePr/>
          <p:nvPr/>
        </p:nvGraphicFramePr>
        <p:xfrm>
          <a:off x="250920" y="2852640"/>
          <a:ext cx="4968720" cy="677880"/>
        </p:xfrm>
        <a:graphic>
          <a:graphicData uri="http://schemas.openxmlformats.org/drawingml/2006/table">
            <a:tbl>
              <a:tblPr/>
              <a:tblGrid>
                <a:gridCol w="1512720"/>
                <a:gridCol w="1224000"/>
                <a:gridCol w="22320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Громкий разгово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-60 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нижается внимание, ухудшается зрен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5" name=""/>
          <p:cNvGraphicFramePr/>
          <p:nvPr/>
        </p:nvGraphicFramePr>
        <p:xfrm>
          <a:off x="250920" y="3500280"/>
          <a:ext cx="4968720" cy="863640"/>
        </p:xfrm>
        <a:graphic>
          <a:graphicData uri="http://schemas.openxmlformats.org/drawingml/2006/table">
            <a:tbl>
              <a:tblPr/>
              <a:tblGrid>
                <a:gridCol w="1492200"/>
                <a:gridCol w="1244520"/>
                <a:gridCol w="22320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еремена в школ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0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зменение кровотока кожи, возбуждение организ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6" name=""/>
          <p:cNvGraphicFramePr/>
          <p:nvPr/>
        </p:nvGraphicFramePr>
        <p:xfrm>
          <a:off x="250920" y="4292640"/>
          <a:ext cx="4968720" cy="1568520"/>
        </p:xfrm>
        <a:graphic>
          <a:graphicData uri="http://schemas.openxmlformats.org/drawingml/2006/table">
            <a:tbl>
              <a:tblPr/>
              <a:tblGrid>
                <a:gridCol w="1512720"/>
                <a:gridCol w="1224000"/>
                <a:gridCol w="2232000"/>
              </a:tblGrid>
              <a:tr h="15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отоцикл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втобус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а производств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еактивный самолет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86 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91 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10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02 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арушение слуха, утомляемость,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головная боль, заболевания сердц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7" name=""/>
          <p:cNvGraphicFramePr/>
          <p:nvPr/>
        </p:nvGraphicFramePr>
        <p:xfrm>
          <a:off x="250920" y="5805360"/>
          <a:ext cx="4968720" cy="619200"/>
        </p:xfrm>
        <a:graphic>
          <a:graphicData uri="http://schemas.openxmlformats.org/drawingml/2006/table">
            <a:tbl>
              <a:tblPr/>
              <a:tblGrid>
                <a:gridCol w="1512720"/>
                <a:gridCol w="1224000"/>
                <a:gridCol w="2232000"/>
              </a:tblGrid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зры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30-150 дБ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олевые ощущения, смерт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48" name="7.wav" descr=""/>
          <p:cNvPicPr/>
          <p:nvPr/>
        </p:nvPicPr>
        <p:blipFill>
          <a:blip r:embed="rId4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223730" fill="hold"/>
                                        <p:tgtEl>
                                          <p:spTgt spid="1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7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2">
                                  <p:stCondLst>
                                    <p:cond delay="19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22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0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0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2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0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2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ccffff"/>
            </a:gs>
            <a:gs pos="100000">
              <a:srgbClr val="66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4"/>
          <p:cNvSpPr/>
          <p:nvPr/>
        </p:nvSpPr>
        <p:spPr>
          <a:xfrm>
            <a:off x="6265800" y="4301280"/>
            <a:ext cx="287820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1400" spc="-1" strike="noStrike">
                <a:solidFill>
                  <a:srgbClr val="990099"/>
                </a:solidFill>
                <a:latin typeface="Verdana"/>
              </a:rPr>
              <a:t>В автомобилях звукопоглощающими материалами покрывать стенки, днища, багажник и место расположения двигателя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99"/>
                </a:solidFill>
                <a:latin typeface="Verdana"/>
              </a:rPr>
              <a:t>     </a:t>
            </a:r>
            <a:r>
              <a:rPr b="1" lang="ru-RU" sz="1400" spc="-1" strike="noStrike">
                <a:solidFill>
                  <a:srgbClr val="990099"/>
                </a:solidFill>
                <a:latin typeface="Verdana"/>
              </a:rPr>
              <a:t>При этом шум уменьшается не только в салоне автомобиля, но и в окружающей среде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0" name="WordArt 5"/>
          <p:cNvSpPr txBox="1"/>
          <p:nvPr/>
        </p:nvSpPr>
        <p:spPr>
          <a:xfrm>
            <a:off x="2556000" y="333360"/>
            <a:ext cx="5657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99"/>
                </a:solidFill>
                <a:latin typeface="Verdana"/>
              </a:rPr>
              <a:t>Защита от шу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99"/>
              </a:solidFill>
              <a:latin typeface="Verdana"/>
              <a:ea typeface="Verdana"/>
            </a:endParaRPr>
          </a:p>
        </p:txBody>
      </p:sp>
      <p:sp>
        <p:nvSpPr>
          <p:cNvPr id="1251" name="Rectangle 6"/>
          <p:cNvSpPr/>
          <p:nvPr/>
        </p:nvSpPr>
        <p:spPr>
          <a:xfrm>
            <a:off x="2411280" y="765000"/>
            <a:ext cx="410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1400" spc="-1" strike="noStrike">
                <a:solidFill>
                  <a:srgbClr val="ff0066"/>
                </a:solidFill>
                <a:latin typeface="Verdana"/>
              </a:rPr>
              <a:t>Строить автодороги в туннелях или закрывать их спецнадстройками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2" name="Rectangle 7"/>
          <p:cNvSpPr/>
          <p:nvPr/>
        </p:nvSpPr>
        <p:spPr>
          <a:xfrm>
            <a:off x="5940360" y="1484280"/>
            <a:ext cx="3527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При постройке домов учитывать их расположение относительно автомобильных и железных  дорог. Санитарно-защитная зона от жилых домов до продольной оси пути, например, железной дороги должна быть не менее 200 метров, а в районах мостов– 300 метров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3" name="Rectangle 8"/>
          <p:cNvSpPr/>
          <p:nvPr/>
        </p:nvSpPr>
        <p:spPr>
          <a:xfrm>
            <a:off x="324000" y="2565360"/>
            <a:ext cx="2124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1400" spc="-1" strike="noStrike">
                <a:solidFill>
                  <a:srgbClr val="993300"/>
                </a:solidFill>
                <a:latin typeface="Verdana"/>
              </a:rPr>
              <a:t>Использовать зеленые насаждения как содействующие уменьшению интенсивности шума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4" name="Rectangle 9"/>
          <p:cNvSpPr/>
          <p:nvPr/>
        </p:nvSpPr>
        <p:spPr>
          <a:xfrm>
            <a:off x="2484360" y="3429000"/>
            <a:ext cx="3959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336600"/>
                </a:solidFill>
                <a:latin typeface="Verdana"/>
              </a:rPr>
              <a:t>При застеклении домов на шумных улицах использовать звукоизолирующие оконные конструкции, имеющие средний коэффициент звукоизоляции свыше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00"/>
                </a:solidFill>
                <a:latin typeface="Verdana"/>
              </a:rPr>
              <a:t>      </a:t>
            </a:r>
            <a:r>
              <a:rPr b="1" lang="ru-RU" sz="1400" spc="-1" strike="noStrike">
                <a:solidFill>
                  <a:srgbClr val="336600"/>
                </a:solidFill>
                <a:latin typeface="Verdana"/>
              </a:rPr>
              <a:t>50 дБ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255" name="Picture 15" descr="railtunnel"/>
          <p:cNvPicPr/>
          <p:nvPr/>
        </p:nvPicPr>
        <p:blipFill>
          <a:blip r:embed="rId1"/>
          <a:stretch/>
        </p:blipFill>
        <p:spPr>
          <a:xfrm>
            <a:off x="179280" y="620640"/>
            <a:ext cx="2160720" cy="1728720"/>
          </a:xfrm>
          <a:prstGeom prst="rect">
            <a:avLst/>
          </a:prstGeom>
          <a:ln w="0">
            <a:noFill/>
          </a:ln>
        </p:spPr>
      </p:pic>
      <p:pic>
        <p:nvPicPr>
          <p:cNvPr id="1256" name="Picture 16" descr="plane_landing"/>
          <p:cNvPicPr/>
          <p:nvPr/>
        </p:nvPicPr>
        <p:blipFill>
          <a:blip r:embed="rId2"/>
          <a:stretch/>
        </p:blipFill>
        <p:spPr>
          <a:xfrm>
            <a:off x="2916360" y="1254240"/>
            <a:ext cx="2808000" cy="2246040"/>
          </a:xfrm>
          <a:prstGeom prst="rect">
            <a:avLst/>
          </a:prstGeom>
          <a:ln w="0">
            <a:noFill/>
          </a:ln>
        </p:spPr>
      </p:pic>
      <p:pic>
        <p:nvPicPr>
          <p:cNvPr id="1257" name="Picture 18" descr="00000065"/>
          <p:cNvPicPr/>
          <p:nvPr/>
        </p:nvPicPr>
        <p:blipFill>
          <a:blip r:embed="rId3"/>
          <a:stretch/>
        </p:blipFill>
        <p:spPr>
          <a:xfrm>
            <a:off x="0" y="4221000"/>
            <a:ext cx="2916360" cy="2421000"/>
          </a:xfrm>
          <a:prstGeom prst="rect">
            <a:avLst/>
          </a:prstGeom>
          <a:ln w="0">
            <a:noFill/>
          </a:ln>
        </p:spPr>
      </p:pic>
      <p:pic>
        <p:nvPicPr>
          <p:cNvPr id="1258" name="Picture 19" descr="29025"/>
          <p:cNvPicPr/>
          <p:nvPr/>
        </p:nvPicPr>
        <p:blipFill>
          <a:blip r:embed="rId4"/>
          <a:stretch/>
        </p:blipFill>
        <p:spPr>
          <a:xfrm>
            <a:off x="3708360" y="4581360"/>
            <a:ext cx="2808360" cy="2063880"/>
          </a:xfrm>
          <a:prstGeom prst="rect">
            <a:avLst/>
          </a:prstGeom>
          <a:ln w="0">
            <a:noFill/>
          </a:ln>
        </p:spPr>
      </p:pic>
      <p:pic>
        <p:nvPicPr>
          <p:cNvPr id="1259" name="8.wav" descr=""/>
          <p:cNvPicPr/>
          <p:nvPr/>
        </p:nvPicPr>
        <p:blipFill>
          <a:blip r:embed="rId5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299980" fill="hold"/>
                                        <p:tgtEl>
                                          <p:spTgt spid="1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7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1" presetSubtype="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43" dur="2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7" presetSubtype="2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2" dur="2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1" presetSubtype="3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60" dur="20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2">
                                  <p:stCondLst>
                                    <p:cond delay="24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8" presetSubtype="12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8" dur="2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0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09:03:02Z</dcterms:created>
  <dc:creator>Кравченко В. Ф.</dc:creator>
  <dc:description/>
  <dc:language>en-US</dc:language>
  <cp:lastModifiedBy>Adel</cp:lastModifiedBy>
  <dcterms:modified xsi:type="dcterms:W3CDTF">2012-08-12T09:57:40Z</dcterms:modified>
  <cp:revision>36</cp:revision>
  <dc:subject/>
  <dc:title>Слайд 1</dc:title>
</cp:coreProperties>
</file>