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gif" ContentType="image/gif"/>
  <Override PartName="/ppt/media/image16.jpeg" ContentType="image/jpeg"/>
  <Override PartName="/ppt/media/image7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5.png" ContentType="image/png"/>
  <Override PartName="/ppt/media/image10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CD2-42D7-4CF9-920F-1898A4E8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21F-2478-4BAF-969F-9B8E04C3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721-3BCD-4693-BFEE-E0E24241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C4F-6980-43A6-9191-A81297DF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632E-23AC-4959-8CAC-5B5C1642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08D-05B5-475A-A9A0-36C952F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78E-B993-47FF-8052-D7D7EEA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33B0-A46F-486D-990A-3CEF891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EC36-3442-4521-8C74-EDE1148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738B-09F8-48CE-862C-7855200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544D-CE79-4DE9-B155-1E74D756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905-081E-47C4-86DD-09A594B3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EB4B-73B8-4B43-8ECB-AAACC67A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B6E-0F7A-4741-902E-A8871FC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EA94-4FF7-4747-9DFC-1C198729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C317-2BA7-4E30-AE3B-F2E3745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0AF8-731E-47DF-9387-BEDCCE6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0A4E-AE83-4BE7-BCB4-FAF720B3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042D-B175-467A-A134-B4697A5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0B78-2C41-4189-A260-5C52871E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9D03-5FBC-4EC9-B84F-BF8A931E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6452-9BFD-41E7-AC35-CDDFD47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500-4AA0-4CFD-93A8-CFCB4743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DA517-22CB-49EE-A1A8-5ADDF304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C1AB-5213-4024-98A6-992C6E3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21B7C-E940-4CFF-AA5A-043BF44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21493-9184-406A-B9E3-BAB101B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185B-6C0B-4CCA-A0B4-8ED75FCF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8B9B-D127-46A1-AF09-0216F607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0B03-18F2-421C-A76D-E56D33F6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26120-02C8-4194-904B-902AF34B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D7079-1842-4226-B1D5-9BAA038A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64947-3E1A-4723-9666-A718433F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D33-1D8E-4D7B-9C72-2608565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1E2EC-E239-4D1F-9205-7F565D75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87ADCE-DF7D-4829-85E8-BF1B6BAF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4B523-7720-4E67-996B-1EC934B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41807-18DA-44FF-AB0A-F6945B0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1AA1B-47F3-4991-B58A-56B9B9C6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D1B593-6D47-412B-91AA-BB457DA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22E24-759B-473F-B64C-F0F988B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290E1-3756-4039-835B-53658D4D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5C74A-1274-4ABA-84BD-FAD8E53F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4299F-4C4B-4BC4-895F-3069983C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586-A258-424E-8D10-F04FECA1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7F50-7B75-456F-8BC9-1C01975B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275F1-5D9C-4C7D-AEC2-86749D53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C35FC-A2A6-43CB-AAB6-2A480CE0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2F766-A3BE-41FC-8364-5B7C51E8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2B0E-0D1D-4770-B85F-91F560C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E5AC-33D8-4A58-833E-976A725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28A3-C0A3-4598-BD13-556B429A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6187C-0BDC-42B9-B4DB-80247ECA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A914-4CFE-45DC-9819-84B56C0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D5D7-4907-423A-95FC-87A4438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352-9BAE-461C-8899-B3A5AAE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C78B-7CB2-42C3-8900-D667BDB4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B72F-8C99-43BB-9324-82A5789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7EA-DC35-409C-898C-A4609B62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13F-9832-4BAD-A75E-A7658B3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B1E-5356-4867-B273-3B5B89CB8C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07F-78DC-40B3-8797-ED5864CEE1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944-7B11-4AA7-9A16-1807B7427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4FF9-A642-4482-A932-BB1A230200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3AFB-615F-4B6C-BD48-FDD567613C9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85A4B592"/>
          <p:cNvPicPr/>
          <p:nvPr/>
        </p:nvPicPr>
        <p:blipFill>
          <a:blip r:embed="rId1"/>
          <a:stretch/>
        </p:blipFill>
        <p:spPr>
          <a:xfrm>
            <a:off x="971640" y="404640"/>
            <a:ext cx="78580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Тритон и саламанд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Line 14"/>
          <p:cNvSpPr/>
          <p:nvPr/>
        </p:nvSpPr>
        <p:spPr>
          <a:xfrm flipH="1">
            <a:off x="4500720" y="3284640"/>
            <a:ext cx="2016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7"/>
          <p:cNvSpPr/>
          <p:nvPr/>
        </p:nvSpPr>
        <p:spPr>
          <a:xfrm>
            <a:off x="2556000" y="2349360"/>
            <a:ext cx="360360" cy="43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8"/>
          <p:cNvSpPr/>
          <p:nvPr/>
        </p:nvSpPr>
        <p:spPr>
          <a:xfrm>
            <a:off x="2556000" y="1197000"/>
            <a:ext cx="360360" cy="64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2484360" y="4005360"/>
            <a:ext cx="1656000" cy="50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4"/>
          <p:cNvSpPr/>
          <p:nvPr/>
        </p:nvSpPr>
        <p:spPr>
          <a:xfrm flipH="1" flipV="1">
            <a:off x="6156000" y="5877000"/>
            <a:ext cx="86364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B2076B7"/>
          <p:cNvPicPr/>
          <p:nvPr/>
        </p:nvPicPr>
        <p:blipFill>
          <a:blip r:embed="rId1"/>
          <a:stretch/>
        </p:blipFill>
        <p:spPr>
          <a:xfrm>
            <a:off x="714240" y="1214280"/>
            <a:ext cx="7504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6720" y="244440"/>
            <a:ext cx="3765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Криптограмм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6720" y="1904760"/>
            <a:ext cx="4067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Тайное письмо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шифровать 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мощью циф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IMG"/>
          <p:cNvPicPr/>
          <p:nvPr/>
        </p:nvPicPr>
        <p:blipFill>
          <a:blip r:embed="rId1"/>
          <a:stretch/>
        </p:blipFill>
        <p:spPr>
          <a:xfrm>
            <a:off x="395280" y="189000"/>
            <a:ext cx="397044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1332000" y="5445000"/>
          <a:ext cx="7000920" cy="1168560"/>
        </p:xfrm>
        <a:graphic>
          <a:graphicData uri="http://schemas.openxmlformats.org/drawingml/2006/table">
            <a:tbl>
              <a:tblPr/>
              <a:tblGrid>
                <a:gridCol w="662040"/>
                <a:gridCol w="661680"/>
                <a:gridCol w="649440"/>
                <a:gridCol w="712800"/>
                <a:gridCol w="712800"/>
                <a:gridCol w="712800"/>
                <a:gridCol w="722160"/>
                <a:gridCol w="722520"/>
                <a:gridCol w="722160"/>
                <a:gridCol w="72252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Земноводные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Rectangle 12"/>
          <p:cNvSpPr/>
          <p:nvPr/>
        </p:nvSpPr>
        <p:spPr>
          <a:xfrm>
            <a:off x="4842000" y="5265720"/>
            <a:ext cx="400356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838080" y="5265720"/>
            <a:ext cx="400392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скул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4842000" y="3933720"/>
            <a:ext cx="400356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838080" y="3933720"/>
            <a:ext cx="400392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троения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842000" y="2600280"/>
            <a:ext cx="4003560" cy="133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838080" y="2600280"/>
            <a:ext cx="4003920" cy="133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внешнего стр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4842000" y="1268280"/>
            <a:ext cx="400356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38080" y="1268280"/>
            <a:ext cx="4003920" cy="133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838080" y="1268280"/>
            <a:ext cx="8007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838080" y="260028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838080" y="393372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6"/>
          <p:cNvSpPr/>
          <p:nvPr/>
        </p:nvSpPr>
        <p:spPr>
          <a:xfrm>
            <a:off x="838080" y="526572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7"/>
          <p:cNvSpPr/>
          <p:nvPr/>
        </p:nvSpPr>
        <p:spPr>
          <a:xfrm>
            <a:off x="838080" y="6597720"/>
            <a:ext cx="8007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8"/>
          <p:cNvSpPr/>
          <p:nvPr/>
        </p:nvSpPr>
        <p:spPr>
          <a:xfrm>
            <a:off x="838080" y="1268280"/>
            <a:ext cx="0" cy="532944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4842000" y="1268280"/>
            <a:ext cx="0" cy="5329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0"/>
          <p:cNvSpPr/>
          <p:nvPr/>
        </p:nvSpPr>
        <p:spPr>
          <a:xfrm>
            <a:off x="8845560" y="1268280"/>
            <a:ext cx="0" cy="532944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 Black"/>
              </a:rPr>
              <a:t>Разнообразие земноводных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10" name="Picture 4" descr="03_03_06"/>
          <p:cNvPicPr/>
          <p:nvPr/>
        </p:nvPicPr>
        <p:blipFill>
          <a:blip r:embed="rId1"/>
          <a:srcRect l="0" t="0" r="52953" b="51306"/>
          <a:stretch/>
        </p:blipFill>
        <p:spPr>
          <a:xfrm>
            <a:off x="250920" y="836640"/>
            <a:ext cx="3441600" cy="2671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03_03_06"/>
          <p:cNvPicPr/>
          <p:nvPr/>
        </p:nvPicPr>
        <p:blipFill>
          <a:blip r:embed="rId2"/>
          <a:srcRect l="48027" t="118" r="0" b="51306"/>
          <a:stretch/>
        </p:blipFill>
        <p:spPr>
          <a:xfrm>
            <a:off x="5364000" y="1052640"/>
            <a:ext cx="3297240" cy="2311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03_03_06"/>
          <p:cNvPicPr/>
          <p:nvPr/>
        </p:nvPicPr>
        <p:blipFill>
          <a:blip r:embed="rId3"/>
          <a:srcRect l="49026" t="51306" r="0" b="0"/>
          <a:stretch/>
        </p:blipFill>
        <p:spPr>
          <a:xfrm>
            <a:off x="5508720" y="4076640"/>
            <a:ext cx="3441600" cy="246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03_03_06"/>
          <p:cNvPicPr/>
          <p:nvPr/>
        </p:nvPicPr>
        <p:blipFill>
          <a:blip r:embed="rId4"/>
          <a:srcRect l="0" t="51306" r="51978" b="0"/>
          <a:stretch/>
        </p:blipFill>
        <p:spPr>
          <a:xfrm>
            <a:off x="539640" y="4292640"/>
            <a:ext cx="2808360" cy="2135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тритон"/>
          <p:cNvPicPr/>
          <p:nvPr/>
        </p:nvPicPr>
        <p:blipFill>
          <a:blip r:embed="rId5"/>
          <a:stretch/>
        </p:blipFill>
        <p:spPr>
          <a:xfrm>
            <a:off x="2700360" y="2852640"/>
            <a:ext cx="3384360" cy="15699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4000" y="3429000"/>
            <a:ext cx="28796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евесная лягуш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0" y="3573360"/>
            <a:ext cx="28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вяная лягу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3851280" y="595008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3564000" y="494172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211640" y="429228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2842920" y="5229360"/>
            <a:ext cx="64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V="1">
            <a:off x="4932360" y="5877000"/>
            <a:ext cx="8636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 flipV="1">
            <a:off x="1547640" y="306828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 flipV="1">
            <a:off x="8101080" y="2924280"/>
            <a:ext cx="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1042920" y="2060640"/>
            <a:ext cx="748980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66"/>
                  </a:solidFill>
                  <a:miter/>
                </a:ln>
                <a:solidFill>
                  <a:srgbClr val="800080">
                    <a:alpha val="87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окончен.</a:t>
            </a:r>
            <a:endParaRPr b="0" lang="en-US" sz="1800" spc="1" strike="noStrike">
              <a:ln w="28440">
                <a:solidFill>
                  <a:srgbClr val="ffff66"/>
                </a:solidFill>
                <a:miter/>
              </a:ln>
              <a:solidFill>
                <a:srgbClr val="800080">
                  <a:alpha val="87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WordArt 5"/>
          <p:cNvSpPr txBox="1"/>
          <p:nvPr/>
        </p:nvSpPr>
        <p:spPr>
          <a:xfrm>
            <a:off x="900000" y="1989000"/>
            <a:ext cx="74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 за  работу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3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7" descr="P10100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03_03_06_28.wmv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993080" cy="5994360"/>
          </a:xfrm>
          <a:prstGeom prst="rect">
            <a:avLst/>
          </a:prstGeom>
          <a:ln w="0">
            <a:noFill/>
          </a:ln>
        </p:spPr>
      </p:pic>
      <p:pic>
        <p:nvPicPr>
          <p:cNvPr id="225" name="103.MP3" descr=""/>
          <p:cNvPicPr/>
          <p:nvPr/>
        </p:nvPicPr>
        <p:blipFill>
          <a:blip r:embed="rId4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6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6560"/>
                            </p:stCondLst>
                            <p:childTnLst>
                              <p:par>
                                <p:cTn id="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 Black"/>
              </a:rPr>
              <a:t>Земноводны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008000" y="2276640"/>
            <a:ext cx="8136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еста обитания и внешнее строение земноводных. Внутреннее строение земноводных на примере лягуш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Frog_04"/>
          <p:cNvPicPr/>
          <p:nvPr/>
        </p:nvPicPr>
        <p:blipFill>
          <a:blip r:embed="rId1"/>
          <a:stretch/>
        </p:blipFill>
        <p:spPr>
          <a:xfrm>
            <a:off x="3348000" y="189000"/>
            <a:ext cx="5616720" cy="4925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Frog_11"/>
          <p:cNvPicPr/>
          <p:nvPr/>
        </p:nvPicPr>
        <p:blipFill>
          <a:blip r:embed="rId2"/>
          <a:stretch/>
        </p:blipFill>
        <p:spPr>
          <a:xfrm>
            <a:off x="250920" y="1557360"/>
            <a:ext cx="4330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Внешнее строение ляг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3"/>
          <p:cNvSpPr/>
          <p:nvPr/>
        </p:nvSpPr>
        <p:spPr>
          <a:xfrm flipH="1" flipV="1">
            <a:off x="3131640" y="4005360"/>
            <a:ext cx="287640" cy="151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4"/>
          <p:cNvSpPr/>
          <p:nvPr/>
        </p:nvSpPr>
        <p:spPr>
          <a:xfrm>
            <a:off x="2195640" y="2781360"/>
            <a:ext cx="720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6" descr="Frog_15"/>
          <p:cNvPicPr/>
          <p:nvPr/>
        </p:nvPicPr>
        <p:blipFill>
          <a:blip r:embed="rId1"/>
          <a:stretch/>
        </p:blipFill>
        <p:spPr>
          <a:xfrm>
            <a:off x="2484360" y="1916280"/>
            <a:ext cx="36892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Внешнее строение ляг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7020000" y="2637000"/>
            <a:ext cx="1655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зд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6948360" y="1484280"/>
            <a:ext cx="165600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4572000" y="5805360"/>
            <a:ext cx="1655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6"/>
          <p:cNvSpPr/>
          <p:nvPr/>
        </p:nvSpPr>
        <p:spPr>
          <a:xfrm>
            <a:off x="395280" y="4365720"/>
            <a:ext cx="16556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д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250920" y="1989000"/>
            <a:ext cx="1655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2124000" y="5877000"/>
            <a:ext cx="165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6804000" y="3789360"/>
            <a:ext cx="216072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раб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по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6659640" y="5445000"/>
            <a:ext cx="201600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пл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1"/>
          <p:cNvSpPr/>
          <p:nvPr/>
        </p:nvSpPr>
        <p:spPr>
          <a:xfrm>
            <a:off x="2411280" y="1197000"/>
            <a:ext cx="1656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 flipH="1">
            <a:off x="5579640" y="2133720"/>
            <a:ext cx="1584360" cy="35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 flipH="1" flipV="1">
            <a:off x="6156000" y="2923920"/>
            <a:ext cx="86364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4"/>
          <p:cNvSpPr/>
          <p:nvPr/>
        </p:nvSpPr>
        <p:spPr>
          <a:xfrm flipH="1" flipV="1">
            <a:off x="3131640" y="4005360"/>
            <a:ext cx="287640" cy="151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2195640" y="2781360"/>
            <a:ext cx="72072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rog_15"/>
          <p:cNvPicPr/>
          <p:nvPr/>
        </p:nvPicPr>
        <p:blipFill>
          <a:blip r:embed="rId1"/>
          <a:stretch/>
        </p:blipFill>
        <p:spPr>
          <a:xfrm>
            <a:off x="2484360" y="1916280"/>
            <a:ext cx="3689280" cy="3889080"/>
          </a:xfrm>
          <a:prstGeom prst="rect">
            <a:avLst/>
          </a:prstGeom>
          <a:ln w="0">
            <a:noFill/>
          </a:ln>
        </p:spPr>
      </p:pic>
      <p:sp>
        <p:nvSpPr>
          <p:cNvPr id="249" name="Line 17"/>
          <p:cNvSpPr/>
          <p:nvPr/>
        </p:nvSpPr>
        <p:spPr>
          <a:xfrm flipH="1">
            <a:off x="5651640" y="2133720"/>
            <a:ext cx="1512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8"/>
          <p:cNvSpPr/>
          <p:nvPr/>
        </p:nvSpPr>
        <p:spPr>
          <a:xfrm flipH="1" flipV="1">
            <a:off x="5148000" y="3716280"/>
            <a:ext cx="165564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3995640" y="1700280"/>
            <a:ext cx="93672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V="1">
            <a:off x="2843280" y="5373720"/>
            <a:ext cx="79200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 flipV="1">
            <a:off x="4427280" y="4149720"/>
            <a:ext cx="649080" cy="172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 flipH="1" flipV="1">
            <a:off x="4716360" y="4581360"/>
            <a:ext cx="244800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3"/>
          <p:cNvSpPr/>
          <p:nvPr/>
        </p:nvSpPr>
        <p:spPr>
          <a:xfrm>
            <a:off x="1476360" y="2708280"/>
            <a:ext cx="165564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V="1">
            <a:off x="2050920" y="4365720"/>
            <a:ext cx="1657440" cy="35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Кваканье самцов лягуше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58" name="Picture 10" descr="сканирование0079"/>
          <p:cNvPicPr/>
          <p:nvPr/>
        </p:nvPicPr>
        <p:blipFill>
          <a:blip r:embed="rId1"/>
          <a:stretch/>
        </p:blipFill>
        <p:spPr>
          <a:xfrm>
            <a:off x="3419640" y="3500280"/>
            <a:ext cx="4376520" cy="308160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259" name="Picture 11" descr="сканирование0080"/>
          <p:cNvPicPr/>
          <p:nvPr/>
        </p:nvPicPr>
        <p:blipFill>
          <a:blip r:embed="rId2"/>
          <a:stretch/>
        </p:blipFill>
        <p:spPr>
          <a:xfrm>
            <a:off x="179280" y="1197000"/>
            <a:ext cx="3105360" cy="216684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  <p:pic>
        <p:nvPicPr>
          <p:cNvPr id="260" name="Picture 12" descr="тропическая дрвесная лягушка"/>
          <p:cNvPicPr/>
          <p:nvPr/>
        </p:nvPicPr>
        <p:blipFill>
          <a:blip r:embed="rId3"/>
          <a:stretch/>
        </p:blipFill>
        <p:spPr>
          <a:xfrm>
            <a:off x="5796000" y="1484280"/>
            <a:ext cx="2660760" cy="1582920"/>
          </a:xfrm>
          <a:prstGeom prst="rect">
            <a:avLst/>
          </a:prstGeom>
          <a:ln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арактерные чер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903920" y="5235480"/>
            <a:ext cx="4003560" cy="1047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ая кожа с желе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900000" y="5235480"/>
            <a:ext cx="4003920" cy="1047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арабанные переп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903920" y="3436920"/>
            <a:ext cx="4003560" cy="1798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уклые газа и нозд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900000" y="3436920"/>
            <a:ext cx="4003920" cy="1798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пуклые глаза  с подвижными веками и слезными желез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4903920" y="2389320"/>
            <a:ext cx="4003560" cy="104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пончатые л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900000" y="2389320"/>
            <a:ext cx="4003920" cy="104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ипалые пар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903920" y="1341360"/>
            <a:ext cx="4003560" cy="1047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д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900000" y="1341360"/>
            <a:ext cx="4003920" cy="1047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емные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900000" y="1341360"/>
            <a:ext cx="8007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900000" y="238932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900000" y="343692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900000" y="5235480"/>
            <a:ext cx="800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900000" y="6308640"/>
            <a:ext cx="8007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900000" y="1341360"/>
            <a:ext cx="0" cy="494208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4903920" y="1341360"/>
            <a:ext cx="0" cy="4942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8907480" y="1341360"/>
            <a:ext cx="0" cy="494208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Frog_19"/>
          <p:cNvPicPr/>
          <p:nvPr/>
        </p:nvPicPr>
        <p:blipFill>
          <a:blip r:embed="rId2"/>
          <a:stretch/>
        </p:blipFill>
        <p:spPr>
          <a:xfrm flipH="1">
            <a:off x="3708360" y="476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279" name="103.MP3" descr=""/>
          <p:cNvPicPr/>
          <p:nvPr/>
        </p:nvPicPr>
        <p:blipFill>
          <a:blip r:embed="rId3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8.09249E-007 C 0.19028 -8.09249E-007 0.34653 0.05526 0.34653 0.12324 C 0.34653 0.20301 0.17327 0.23191 0.06893 0.24393 L -0.06909 0.25665 C -0.17326 0.26913 -0.34635 0.29989 -0.34635 0.39006 C -0.34635 0.44786 -0.19045 0.51399 -3.88889E-006 0.51399 C 0.19028 0.51399 0.34653 0.44786 0.34653 0.39006 C 0.34653 0.29989 0.17327 0.26913 0.06893 0.25665 L -0.06909 0.24393 C -0.17326 0.23191 -0.34635 0.20301 -0.34635 0.12324 C -0.34635 0.05526 -0.19045 -8.09249E-007 -3.88889E-006 -8.09249E-007 Z">
                                      <p:cBhvr>
                                        <p:cTn id="62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7 C 0.19323 4.04624E-007 0.35069 0.13642 0.35069 0.30428 C 0.35069 0.47191 0.19323 0.60855 0 0.60855 C -0.19323 0.60855 -0.35017 0.47191 -0.35017 0.30428 C -0.35017 0.13642 -0.19323 4.04624E-007 0 4.04624E-007 Z">
                                      <p:cBhvr>
                                        <p:cTn id="65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7 L 0 0.55607 E">
                                      <p:cBhvr>
                                        <p:cTn id="68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55584 L 0.00781 0.08416 E">
                                      <p:cBhvr>
                                        <p:cTn id="71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8416 L 0.36233 0.53503 E">
                                      <p:cBhvr>
                                        <p:cTn id="74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0.53503 L -0.35434 0.53503 E">
                                      <p:cBhvr>
                                        <p:cTn id="77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0.53503 L 0 0.1889 E">
                                      <p:cBhvr>
                                        <p:cTn id="80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9:19:06Z</dcterms:created>
  <dc:creator>Ренер Е.Е.</dc:creator>
  <dc:description/>
  <dc:language>en-US</dc:language>
  <cp:lastModifiedBy>User</cp:lastModifiedBy>
  <dcterms:modified xsi:type="dcterms:W3CDTF">2012-01-21T23:45:53Z</dcterms:modified>
  <cp:revision>13</cp:revision>
  <dc:subject/>
  <dc:title>Слайд 1</dc:title>
</cp:coreProperties>
</file>