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A7DA-B76C-4028-A38A-806747F9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DA8D-7742-442D-B4E1-AC970048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7993-C9F2-4A52-B164-3F69E18A8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CBFD-524F-4BD3-B678-88121385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42A5-A24F-4ECD-BEE3-72B72785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D689-88DA-4E83-84CA-B3391E2A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4272-E71C-4189-B1CA-24FD3D6D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91E8-3F64-408B-802A-0FD19D8B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957D-A179-4BD6-AF0D-109267F0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3BE9-A081-456F-95E5-765E116E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24B3-3FA5-4F1F-A2A8-B68A0AC9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053B-6071-4CB2-BCD5-AFED070B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8B30-F643-44F6-B20F-D723498332A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00980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«Тиха украинская ночь»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«Лунная соната»</a:t>
            </a: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«Лунная ночь на Днепре»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864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217840" y="475200"/>
            <a:ext cx="325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Тополь белый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ли серебристы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12000" y="2565360"/>
            <a:ext cx="28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435640" y="2349360"/>
            <a:ext cx="30830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7848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64000" y="1125360"/>
            <a:ext cx="378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.В.Бетхове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1770-1827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213000"/>
            <a:ext cx="378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«Лунная соната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11969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970600" y="0"/>
            <a:ext cx="3173400" cy="4149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0"/>
            <a:ext cx="6156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.И.Куиндж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1841-1910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51280" y="2852640"/>
            <a:ext cx="496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628640"/>
            <a:ext cx="63007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00"/>
                </a:solidFill>
                <a:latin typeface="Arial"/>
              </a:rPr>
              <a:t>«Лунная ночь на Днепре»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2928960"/>
            <a:ext cx="62276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258920" y="1052640"/>
            <a:ext cx="727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56000" y="4869000"/>
            <a:ext cx="40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52840" cy="4581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476360" y="479556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к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непр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текает по территории трех стран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оссии, Украины и Беларус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Длина реки 2201 к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18080" y="0"/>
            <a:ext cx="452592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11969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9640" y="134136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расота пробуждает в нас самое лучшее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284640"/>
            <a:ext cx="8137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Красота расширяет нашу душу: мы ощущаем присутствие всего самого любимого и дорогого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06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219640" y="476280"/>
            <a:ext cx="3924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.С.Пушки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799-1837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2720" y="2852640"/>
            <a:ext cx="385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«Тих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украинска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ночь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665520" y="0"/>
            <a:ext cx="54784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4360" y="620640"/>
            <a:ext cx="316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25360"/>
            <a:ext cx="378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.В.Бетхове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1770-1827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13000"/>
            <a:ext cx="378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«Лунная соната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798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59280" y="1052640"/>
            <a:ext cx="4284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.И.Куиндж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1841-1910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51280" y="2852640"/>
            <a:ext cx="496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59280" y="2997360"/>
            <a:ext cx="42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«Лунная ночь на Днепре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0980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«Тиха украинская ночь»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«Лунная соната»</a:t>
            </a: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«Лунная ночь на Днепре»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989000"/>
            <a:ext cx="91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Arial"/>
              </a:rPr>
              <a:t>Образ ночи в живописи, поэзии, музыке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981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ffff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09480"/>
            <a:ext cx="7772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Цель урока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557360"/>
            <a:ext cx="9144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анализировать стихотворение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ссмотреть картину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слушать музыкальный фрагмент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 найти общее и отличное в образах, созданных авторо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573360" y="0"/>
            <a:ext cx="557064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836640"/>
            <a:ext cx="3924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.С.Пушки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799-1837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080" y="3213000"/>
            <a:ext cx="385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«Тих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украинска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ночь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Объяснить значение выражений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Своей дремоты превозмочь не хочет воздух…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371628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Сребристых тополей листы…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e</cp:lastModifiedBy>
  <dcterms:modified xsi:type="dcterms:W3CDTF">2011-01-23T10:32:51Z</dcterms:modified>
  <cp:revision>24</cp:revision>
  <dc:subject/>
  <dc:title>PowerPoint Presentation</dc:title>
</cp:coreProperties>
</file>