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CC1-1171-4B73-80F6-B2A31AF0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BC2-ACD4-4584-B44D-35343DF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C3C-C602-4458-8FDC-551D4241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902-B153-4948-A32B-588176A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79D-F10E-462A-B186-D1C86CC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D5B-5D6F-4B21-8E59-E2FCFC5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2A0-BE91-44C9-8730-AC6063F7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22A-2974-4EB2-90E2-DFD47CF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CAA-6F0D-424E-ABBB-51503C1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AA0-1C56-421D-A9F7-A3F8B1B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DA2-EF75-47E2-BC1F-824E4CE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532-C519-4530-81C5-7EB8FB9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9CA-6E0A-43F2-9BE4-BA6DCB375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85840"/>
            <a:ext cx="81025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800"/>
            </a:br>
            <a:r>
              <a:rPr b="1" lang="ru-RU" sz="6000" spc="-1" strike="noStrike">
                <a:solidFill>
                  <a:srgbClr val="f01a5c"/>
                </a:solidFill>
                <a:latin typeface="Times New Roman"/>
              </a:rPr>
              <a:t>«Написание </a:t>
            </a:r>
            <a:br>
              <a:rPr sz="6000"/>
            </a:br>
            <a:r>
              <a:rPr b="1" lang="ru-RU" sz="6000" spc="-1" strike="noStrike">
                <a:solidFill>
                  <a:srgbClr val="f01a5c"/>
                </a:solidFill>
                <a:latin typeface="Times New Roman"/>
              </a:rPr>
              <a:t>слов с  удвоенными согласным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680" y="4214520"/>
            <a:ext cx="8286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УМК «Школа Росс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МОУ «Поповская СОШ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Панченко Галина Пет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547640" y="4786200"/>
            <a:ext cx="61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анте</a:t>
            </a:r>
            <a:r>
              <a:rPr b="1" lang="ru-RU" sz="9600" spc="-1" strike="noStrike">
                <a:solidFill>
                  <a:srgbClr val="f01a5c"/>
                </a:solidFill>
                <a:latin typeface="Calibri"/>
              </a:rPr>
              <a:t>нн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mg174"/>
          <p:cNvPicPr/>
          <p:nvPr/>
        </p:nvPicPr>
        <p:blipFill>
          <a:blip r:embed="rId1"/>
          <a:stretch/>
        </p:blipFill>
        <p:spPr>
          <a:xfrm>
            <a:off x="1500120" y="476280"/>
            <a:ext cx="6215040" cy="4524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763640" y="4437000"/>
            <a:ext cx="61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хо</a:t>
            </a:r>
            <a:r>
              <a:rPr b="1" lang="ru-RU" sz="9600" spc="-1" strike="noStrike">
                <a:solidFill>
                  <a:srgbClr val="f01a5c"/>
                </a:solidFill>
                <a:latin typeface="Calibri"/>
              </a:rPr>
              <a:t>кк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е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179"/>
          <p:cNvPicPr/>
          <p:nvPr/>
        </p:nvPicPr>
        <p:blipFill>
          <a:blip r:embed="rId1"/>
          <a:stretch/>
        </p:blipFill>
        <p:spPr>
          <a:xfrm>
            <a:off x="1403280" y="404640"/>
            <a:ext cx="6624720" cy="429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84360" y="4365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9600" spc="-1" strike="noStrike">
                <a:solidFill>
                  <a:srgbClr val="f01a5c"/>
                </a:solidFill>
                <a:latin typeface="Calibri"/>
              </a:rPr>
              <a:t>кк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ратны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mg178"/>
          <p:cNvPicPr/>
          <p:nvPr/>
        </p:nvPicPr>
        <p:blipFill>
          <a:blip r:embed="rId1"/>
          <a:stretch/>
        </p:blipFill>
        <p:spPr>
          <a:xfrm>
            <a:off x="2627280" y="189000"/>
            <a:ext cx="3538440" cy="45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619280" y="4653000"/>
            <a:ext cx="61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ла</a:t>
            </a:r>
            <a:r>
              <a:rPr b="1" lang="ru-RU" sz="9600" spc="-1" strike="noStrike">
                <a:solidFill>
                  <a:srgbClr val="f01a5c"/>
                </a:solidFill>
                <a:latin typeface="Calibri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g175"/>
          <p:cNvPicPr/>
          <p:nvPr/>
        </p:nvPicPr>
        <p:blipFill>
          <a:blip r:embed="rId1"/>
          <a:stretch/>
        </p:blipFill>
        <p:spPr>
          <a:xfrm>
            <a:off x="642960" y="476280"/>
            <a:ext cx="7358040" cy="442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57160" y="857160"/>
            <a:ext cx="7572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Ак…уратный, клас…ика, ак…робат, кос…мос, хок…ей,  ал…ея, кал…ендарь, тел…ефо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5840" y="571680"/>
            <a:ext cx="435744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f01a5c"/>
                </a:solidFill>
                <a:latin typeface="Arial"/>
              </a:rPr>
              <a:t>кк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ра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1" lang="ru-RU" sz="5400" spc="-1" strike="noStrike">
                <a:solidFill>
                  <a:srgbClr val="f01a5c"/>
                </a:solidFill>
                <a:latin typeface="Arial"/>
              </a:rPr>
              <a:t>сс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5400" spc="-1" strike="noStrike">
                <a:solidFill>
                  <a:srgbClr val="f01a5c"/>
                </a:solidFill>
                <a:latin typeface="Arial"/>
              </a:rPr>
              <a:t>кк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f01a5c"/>
                </a:solidFill>
                <a:latin typeface="Arial"/>
              </a:rPr>
              <a:t>лл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4857840" y="500040"/>
            <a:ext cx="400032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кроб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36:50Z</dcterms:created>
  <dc:creator>User</dc:creator>
  <dc:description/>
  <dc:language>en-US</dc:language>
  <cp:lastModifiedBy>User</cp:lastModifiedBy>
  <dcterms:modified xsi:type="dcterms:W3CDTF">2011-01-23T17:42:05Z</dcterms:modified>
  <cp:revision>6</cp:revision>
  <dc:subject/>
  <dc:title>Тема урока: «Правописание двойных согласных в корне слова»</dc:title>
</cp:coreProperties>
</file>