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4.gif" ContentType="image/gif"/>
  <Override PartName="/ppt/media/image32.jpeg" ContentType="image/jpeg"/>
  <Override PartName="/ppt/media/image21.gif" ContentType="image/gif"/>
  <Override PartName="/ppt/media/image19.gif" ContentType="image/gif"/>
  <Override PartName="/ppt/media/image14.jpeg" ContentType="image/jpeg"/>
  <Override PartName="/ppt/media/image41.jpeg" ContentType="image/jpeg"/>
  <Override PartName="/ppt/media/image17.gif" ContentType="image/gif"/>
  <Override PartName="/ppt/media/image27.jpeg" ContentType="image/jpeg"/>
  <Override PartName="/ppt/media/image16.jpeg" ContentType="image/jpeg"/>
  <Override PartName="/ppt/media/image9.gif" ContentType="image/gif"/>
  <Override PartName="/ppt/media/image15.jpeg" ContentType="image/jpeg"/>
  <Override PartName="/ppt/media/image1.jpeg" ContentType="image/jpeg"/>
  <Override PartName="/ppt/media/image35.jpeg" ContentType="image/jpeg"/>
  <Override PartName="/ppt/media/image29.jpeg" ContentType="image/jpeg"/>
  <Override PartName="/ppt/media/image7.gif" ContentType="image/gif"/>
  <Override PartName="/ppt/media/image18.gif" ContentType="image/gif"/>
  <Override PartName="/ppt/media/image20.gif" ContentType="image/gif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2.gif" ContentType="image/gif"/>
  <Override PartName="/ppt/media/image33.jpeg" ContentType="image/jpeg"/>
  <Override PartName="/ppt/media/image34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36.jpeg" ContentType="image/jpeg"/>
  <Override PartName="/ppt/media/image11.jpeg" ContentType="image/jpeg"/>
  <Override PartName="/ppt/media/image37.jpeg" ContentType="image/jpeg"/>
  <Override PartName="/ppt/media/image12.jpeg" ContentType="image/jpeg"/>
  <Override PartName="/ppt/media/image10.gif" ContentType="image/gif"/>
  <Override PartName="/ppt/media/image39.png" ContentType="image/png"/>
  <Override PartName="/ppt/media/image42.jpeg" ContentType="image/jpeg"/>
  <Override PartName="/ppt/media/image26.jpeg" ContentType="image/jpeg"/>
  <Override PartName="/ppt/media/image8.gif" ContentType="image/gif"/>
  <Override PartName="/ppt/media/image3.png" ContentType="image/png"/>
  <Override PartName="/ppt/media/image23.gif" ContentType="image/gif"/>
  <Override PartName="/ppt/media/image43.jpeg" ContentType="image/jpeg"/>
  <Override PartName="/ppt/media/image5.png" ContentType="image/png"/>
  <Override PartName="/ppt/media/image6.jpeg" ContentType="image/jpeg"/>
  <Override PartName="/ppt/media/image25.gif" ContentType="image/gif"/>
  <Override PartName="/ppt/media/image38.jpeg" ContentType="image/jpeg"/>
  <Override PartName="/ppt/media/image2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271C-2BD0-42E4-A8C2-A4D7E69A1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774E-FC1B-4B0A-AE51-FCD59031E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799E-4CD8-477D-8B95-B18FA8E82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2DF4-D984-439E-B24E-726F41F62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C94C5-9AC1-40BF-A37D-8C7D3124F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0F091-34DF-4A2C-9839-22374A572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4EB74-37F0-4FE2-B2D8-C32AD902F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E7573-5AA2-45EC-BFBC-D49EDD007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F9DA6-6150-4870-BF8F-EA67E9CAC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F25E8-7DB3-4294-B286-7B86E07C4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01D2D-6D1C-40AE-B26F-C3C72661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A862-ED78-4B78-93A2-B447F5A33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62FEC-DF00-4E39-9248-AEC7B748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0CE96-AB7A-44DC-874D-2BCE6541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2C8F2-8807-4759-AB09-D3E43AF17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38FAE-9C67-40BD-8CE8-A4FA9A8CA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37AF0-EA14-46BF-A34D-78612EC76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0EBB2-7236-4B63-B6DD-BC1967EEC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CF8CF-A860-4DCB-9B90-D819DCF3D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890C9-1DF8-4344-932B-ABFCBD7A7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E9AEE-8D8D-4F6D-B10C-C87F3B2FF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F6E27-03F0-4B44-B5E5-C523DE8D7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A69A-5105-4D2F-9CBB-C4848E83D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0225C-5505-4724-87F4-509889629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5F9EB-CB01-457F-8A69-FD5CBA5F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AE075-7A10-45D6-BB33-8C24A857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AC889-5ABB-4360-A836-6F62B25D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25899-A73C-45D0-A406-B3B4DB8D4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8FB95-1E24-418D-AB3F-D12A81124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0D6F6-8387-4410-A71F-DF3542612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401C8-7306-4BD2-84CF-29EBE752A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ED41A-6A18-4D5E-B776-0BD96D046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D8770-2735-45D0-B1CB-2A43C26ED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5A2A-CF82-4389-BE2B-023449233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E791C-019F-46B0-9F47-AFED51F9D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887AE-6C09-4BF3-B7EA-BCBC70A89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743AC-698D-4AB6-A978-59B73E2B2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BE773-BCE5-4889-BE03-32483010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5512F-92FC-4361-82D7-657BB194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6DBB8-A10E-43E4-B3BA-71C1DD69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B3D61-1E35-4DA9-8F1D-B9B0DBCD8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9F9DF-C28F-4799-AD3A-98C650DF3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1162E-09B3-4AED-96A5-5AD6A754D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2AC87-37DB-4921-852B-85780AECB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BDFD-36C5-492B-B0C8-408130411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5D804-8C5D-4321-91B6-BBCB03DCF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4E417-6762-4DD1-87DE-D24CE5611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1AA54-2485-4649-8F17-C83570311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2441C-C867-421E-9E2B-EF2090820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60EF5-2BB0-4FC9-A19E-EC9E07EB9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40B3D-4644-40AA-AA17-B838C4CA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FDC14-F079-4C2B-9A0E-9D4CDA98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F31DF-17E7-4547-9B3A-C180FDD5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6343C-73DD-47D1-9F53-E30AB5EB5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0ED75-9EFF-4B7D-ABA4-427C85CB6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0CB3-F4FD-492F-84C1-54AD6EFDE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9EE4D-21F7-4392-91B5-9C08B7F85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0A353-CF4E-4B6F-B172-BAF9523CD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5CB73-3EF3-4FC4-8C55-64DF43A17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CEC72-64FA-49AE-87A3-E73605263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7CB4A-6C8F-4649-837A-B8D3ECCC9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DE4FD-3109-4C4F-9479-EF3703E44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B6EC5-2EC8-4FED-A642-02BA9ACC6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C34F8-9E73-4AFE-A351-56B62F94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F24FD-08B4-450F-8EAD-9742BE7C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C8947-B1E3-4609-9AB3-5E413EA8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6A07-C80C-48A3-933D-DB6F0C2F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F39E8-1A5B-4BFC-BBE9-06BCF8C99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4322BA-CBD0-40CC-9D40-BCBE5E6D5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ECDF45-8BAA-4C2D-BD8F-202E200CD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93B82F-606D-4686-BD7B-D9B9386BD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88FB50-9107-446B-92BA-3ABF7C428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2DD8A-E2AF-4207-8B17-7DBA70978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C5D242-886C-4B8C-B97D-EF0935114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3FFDBF-156D-4E9B-B69F-45C13EE7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783C8E-2E42-4460-A52F-FA5F57F3E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03EF1-9EA8-4FA7-9A9F-77E73AA7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14C1-D560-41F5-8A04-E0EF3E7E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D9DDF4-ADCE-4D26-8A17-7CE7993A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F553AE-E3B2-4EBA-AA9D-9A8B6003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E8D738-533B-4ACF-8285-49888563C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B64958-CD62-4711-822B-37E2F2EB0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01A50-9342-4A92-AA82-394812B71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DFB4-DE43-431C-BAA6-E2EBA809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707F7-CC0C-450C-845F-72F226368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2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B4EA8-C179-4DF3-957E-4BAF6B4B828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86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A8F61-B33D-4DEF-A2E9-6869CFEEE3B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29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5BB7B-903E-491C-99A7-2402D1E3AF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89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F3164-61ED-4F04-93A4-7E7D2DDD2B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48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PlaceHolder 1"/>
          <p:cNvSpPr>
            <a:spLocks noGrp="1"/>
          </p:cNvSpPr>
          <p:nvPr>
            <p:ph type="dt" idx="16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ftr" idx="1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81A10-BFCD-417A-87B5-F8D49B59A72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98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19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ftr" idx="20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3FBA5-2291-496E-A83D-71699765DA8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image" Target="../media/image20.gif"/><Relationship Id="rId5" Type="http://schemas.openxmlformats.org/officeDocument/2006/relationships/image" Target="../media/image21.gif"/><Relationship Id="rId6" Type="http://schemas.openxmlformats.org/officeDocument/2006/relationships/image" Target="../media/image22.gif"/><Relationship Id="rId7" Type="http://schemas.openxmlformats.org/officeDocument/2006/relationships/image" Target="../media/image23.gif"/><Relationship Id="rId8" Type="http://schemas.openxmlformats.org/officeDocument/2006/relationships/image" Target="../media/image24.gif"/><Relationship Id="rId9" Type="http://schemas.openxmlformats.org/officeDocument/2006/relationships/image" Target="../media/image25.gif"/><Relationship Id="rId10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6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fotki.yandex.ru/users/anchous888/view/41736/" TargetMode="External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photoforum.ru/f/photo/000/420/420252_43.jpg" TargetMode="External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unnaturalist.ru/images/club/galery/04_33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hyperlink" Target="http://www.novaya.com.ua/images/m-00003651-a-00000727.jpg" TargetMode="External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hyperlink" Target="http://forum.visp.ru/photoalbum/image.php?id=2618&amp;x=740&amp;y=740" TargetMode="External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755640" y="260280"/>
            <a:ext cx="590400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УР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П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ПРИРОДОВЕД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По теме: Природа в опасности. Охрана прир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332000" y="6093000"/>
            <a:ext cx="3671640" cy="398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Выполнила Шарапова О.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4427640" cy="413244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4788000" y="549360"/>
            <a:ext cx="3887640" cy="1081080"/>
          </a:xfrm>
          <a:prstGeom prst="wedgeRoundRectCallout">
            <a:avLst>
              <a:gd name="adj1" fmla="val -81972"/>
              <a:gd name="adj2" fmla="val 11270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А кому еще угрожает опаснос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6372360" y="260280"/>
            <a:ext cx="2560680" cy="186228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2"/>
          <a:stretch/>
        </p:blipFill>
        <p:spPr>
          <a:xfrm>
            <a:off x="324000" y="4292640"/>
            <a:ext cx="2376360" cy="229068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анимашки"/>
          <p:cNvPicPr/>
          <p:nvPr/>
        </p:nvPicPr>
        <p:blipFill>
          <a:blip r:embed="rId3"/>
          <a:stretch/>
        </p:blipFill>
        <p:spPr>
          <a:xfrm>
            <a:off x="179280" y="189000"/>
            <a:ext cx="2138400" cy="256536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анимашки"/>
          <p:cNvPicPr/>
          <p:nvPr/>
        </p:nvPicPr>
        <p:blipFill>
          <a:blip r:embed="rId4"/>
          <a:stretch/>
        </p:blipFill>
        <p:spPr>
          <a:xfrm>
            <a:off x="3419640" y="2421000"/>
            <a:ext cx="1855800" cy="22273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анимашки"/>
          <p:cNvPicPr/>
          <p:nvPr/>
        </p:nvPicPr>
        <p:blipFill>
          <a:blip r:embed="rId5"/>
          <a:stretch/>
        </p:blipFill>
        <p:spPr>
          <a:xfrm>
            <a:off x="6948360" y="4581360"/>
            <a:ext cx="1739880" cy="208764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6"/>
          <a:stretch/>
        </p:blipFill>
        <p:spPr>
          <a:xfrm>
            <a:off x="3492360" y="26028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7"/>
          <a:stretch/>
        </p:blipFill>
        <p:spPr>
          <a:xfrm>
            <a:off x="6227640" y="2205000"/>
            <a:ext cx="1621080" cy="203364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8"/>
          <a:stretch/>
        </p:blipFill>
        <p:spPr>
          <a:xfrm>
            <a:off x="3419640" y="5445000"/>
            <a:ext cx="1152360" cy="83844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9"/>
          <a:stretch/>
        </p:blipFill>
        <p:spPr>
          <a:xfrm>
            <a:off x="5148360" y="522936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4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8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1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7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3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755640" y="189000"/>
            <a:ext cx="7704000" cy="825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По вине людей  уже исчезли или находятся на грани исчезновения многие виды растений и живот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" descr="МУХОЛОВКА БЕЛОЛОБАЯ"/>
          <p:cNvPicPr/>
          <p:nvPr/>
        </p:nvPicPr>
        <p:blipFill>
          <a:blip r:embed="rId1"/>
          <a:stretch/>
        </p:blipFill>
        <p:spPr>
          <a:xfrm>
            <a:off x="324000" y="1413000"/>
            <a:ext cx="2857320" cy="214308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179280" y="3645000"/>
            <a:ext cx="35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МУХОЛОВКА БЕЛОЛОБАЯ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" descr="БЫСТРЯНКА"/>
          <p:cNvPicPr/>
          <p:nvPr/>
        </p:nvPicPr>
        <p:blipFill>
          <a:blip r:embed="rId2"/>
          <a:stretch/>
        </p:blipFill>
        <p:spPr>
          <a:xfrm>
            <a:off x="5003640" y="1484280"/>
            <a:ext cx="2857680" cy="147636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5435640" y="299736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БЫСТРЯНКА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" descr="ЧЕРЕПАХА СРЕДИЗЕМНОМОРСКАЯ"/>
          <p:cNvPicPr/>
          <p:nvPr/>
        </p:nvPicPr>
        <p:blipFill>
          <a:blip r:embed="rId3"/>
          <a:stretch/>
        </p:blipFill>
        <p:spPr>
          <a:xfrm>
            <a:off x="6372360" y="3500280"/>
            <a:ext cx="1628640" cy="22194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5651640" y="5805360"/>
            <a:ext cx="32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ЧЕРЕПАХА СРЕДИЗЕМНОМОРСКА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" descr="ЗАЯЦ ДРЕВЕСНЫЙ ЯПОНСКИЙ"/>
          <p:cNvPicPr/>
          <p:nvPr/>
        </p:nvPicPr>
        <p:blipFill>
          <a:blip r:embed="rId4"/>
          <a:stretch/>
        </p:blipFill>
        <p:spPr>
          <a:xfrm>
            <a:off x="1403280" y="4076640"/>
            <a:ext cx="2857680" cy="207648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1118880" y="6216480"/>
            <a:ext cx="37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ЗАЯЦ ДРЕВЕСНЫЙ ЯПОНСКИЙ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4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7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1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4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000"/>
                            </p:stCondLst>
                            <p:childTnLst>
                              <p:par>
                                <p:cTn id="19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8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8000"/>
                            </p:stCondLst>
                            <p:childTnLst>
                              <p:par>
                                <p:cTn id="20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2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6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0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Праздник зелени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1476360" y="1341360"/>
            <a:ext cx="6624720" cy="4307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Координацию работ по выявлению видов животных и растений, нуждающихся в первоочередных мерах защиты, взял на себя международный союз охраны природы и природных ресурсов, созданный в 1948 г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По заданию этого союза зоологи, ботаники, экологи стали изучать, какие растения и животные нуждаются  в помощи в первую очередь. Были составлены их списки и изданы в виде книги. Это была первая Красная кни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7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1763640" y="907920"/>
            <a:ext cx="5400720" cy="54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4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1692360" y="333360"/>
            <a:ext cx="5686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33cc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 Красную книгу входят:</a:t>
            </a:r>
            <a:endParaRPr b="1" lang="en-US" sz="1800" spc="1" strike="noStrike">
              <a:ln w="9360">
                <a:solidFill>
                  <a:srgbClr val="0033cc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1341360"/>
            <a:ext cx="9144000" cy="5516640"/>
          </a:xfrm>
          <a:prstGeom prst="rect">
            <a:avLst/>
          </a:prstGeom>
          <a:solidFill>
            <a:srgbClr val="bbe0e3"/>
          </a:solidFill>
          <a:ln cap="rnd" w="7632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39640" y="1700280"/>
            <a:ext cx="8064720" cy="106884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млекопитающие (выхухоль, сурок –байрак и др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2565360"/>
            <a:ext cx="4248000" cy="33987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4"/>
          <a:stretch/>
        </p:blipFill>
        <p:spPr>
          <a:xfrm>
            <a:off x="4643280" y="2708280"/>
            <a:ext cx="4104000" cy="307800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5"/>
          <a:stretch/>
        </p:blipFill>
        <p:spPr>
          <a:xfrm>
            <a:off x="108000" y="6453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0" dur="1" fill="hold"/>
                                        <p:tgtEl>
                                          <p:spTgt spid="4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4000"/>
                            </p:stCondLst>
                            <p:childTnLst>
                              <p:par>
                                <p:cTn id="2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0" y="0"/>
            <a:ext cx="9252000" cy="6858000"/>
          </a:xfrm>
          <a:prstGeom prst="rect">
            <a:avLst/>
          </a:prstGeom>
          <a:solidFill>
            <a:srgbClr val="bbe0e3"/>
          </a:solidFill>
          <a:ln cap="rnd" w="7632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79280" y="189000"/>
            <a:ext cx="8785440" cy="181044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Птицы (черный аист, соколообразные – скопа, беркут и др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179280" y="1916280"/>
            <a:ext cx="4464000" cy="383040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5076720" y="1844640"/>
            <a:ext cx="3613320" cy="479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cap="rnd" w="7632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95280" y="189000"/>
            <a:ext cx="8352000" cy="173988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Рыбы (подкаменщик обыкновенный и др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1547640" y="184464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cap="rnd" w="7632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95280" y="409680"/>
            <a:ext cx="8497800" cy="173988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Насекомые (бабочка аполлон, шмели – армянский, степной и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др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2666880" cy="176184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3059280" y="2565360"/>
            <a:ext cx="2665080" cy="266544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3"/>
          <a:stretch/>
        </p:blipFill>
        <p:spPr>
          <a:xfrm>
            <a:off x="5940360" y="3789360"/>
            <a:ext cx="2957400" cy="280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cap="rnd" w="7632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0720" y="189000"/>
            <a:ext cx="7839000" cy="119124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Растения (орхидеи, ветреница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тимьян клоповый и др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" descr="Картинка 11 из 1205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1413000"/>
            <a:ext cx="2552760" cy="380988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4"/>
          <a:stretch/>
        </p:blipFill>
        <p:spPr>
          <a:xfrm>
            <a:off x="4067280" y="1557360"/>
            <a:ext cx="4686120" cy="317196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5"/>
          <a:stretch/>
        </p:blipFill>
        <p:spPr>
          <a:xfrm>
            <a:off x="4716360" y="4869000"/>
            <a:ext cx="1728720" cy="172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178920" y="333360"/>
            <a:ext cx="869796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Monotype Corsiva"/>
              </a:rPr>
              <a:t>Природа, как израненная птица, кричит, просит о помощи! Мы должны знать о том, как сохранить природные богатства для тех, кто будет жить на Земле после нас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25092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4427640" cy="413244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5076720" y="476280"/>
            <a:ext cx="3240360" cy="1441440"/>
          </a:xfrm>
          <a:prstGeom prst="wedgeRoundRectCallout">
            <a:avLst>
              <a:gd name="adj1" fmla="val -98944"/>
              <a:gd name="adj2" fmla="val 5275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219640" y="692280"/>
            <a:ext cx="29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Как надо относиться к природе, чтобы она не погибла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3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561440" cy="568980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250920" y="260280"/>
            <a:ext cx="8497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Что можете сделать для охраны природы вы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59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6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1763640" y="981000"/>
            <a:ext cx="59770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"/>
              </a:rPr>
              <a:t>"Охранять природу -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"/>
              </a:rPr>
              <a:t>значит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"/>
              </a:rPr>
              <a:t>охранять Родину.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435640" y="4869000"/>
            <a:ext cx="3168720" cy="581400"/>
          </a:xfrm>
          <a:prstGeom prst="rect">
            <a:avLst/>
          </a:prstGeom>
          <a:solidFill>
            <a:srgbClr val="c1e8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.М.Пришв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73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76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2484360" y="476280"/>
            <a:ext cx="38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971640" y="1557360"/>
            <a:ext cx="6553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читать текст на с. 27-30 учебника; ответить на вопросы из раздела «Проверь себ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Рабочей тетради – с. 6-7, задание 6-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2268360" y="2852640"/>
            <a:ext cx="3672000" cy="342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2000"/>
                            </p:stCondLst>
                            <p:childTnLst>
                              <p:par>
                                <p:cTn id="3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7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4000"/>
                            </p:stCondLst>
                            <p:childTnLst>
                              <p:par>
                                <p:cTn id="3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Картинка 10 из 46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325080" y="1628640"/>
            <a:ext cx="4086000" cy="381024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 rot="16774200">
            <a:off x="568080" y="-143280"/>
            <a:ext cx="3097080" cy="3745080"/>
          </a:xfrm>
          <a:prstGeom prst="cloudCallout">
            <a:avLst>
              <a:gd name="adj1" fmla="val -9925"/>
              <a:gd name="adj2" fmla="val 837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116000" y="404640"/>
            <a:ext cx="266544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Здравствуйте, ребят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авайте знакомиться: я – Лесовичок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нимательно прочитайте тему нашего уро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323 0.00578 L -0.58576 0.00578 E">
                                      <p:cBhvr>
                                        <p:cTn id="26" dur="2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2411280" y="765000"/>
            <a:ext cx="48247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ИРОД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427640" y="2781360"/>
            <a:ext cx="8618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в</a:t>
            </a:r>
            <a:endParaRPr b="1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835280" y="4221000"/>
            <a:ext cx="54021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ПАСНОСТИ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4427280" cy="413244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4572000" y="404640"/>
            <a:ext cx="4321080" cy="1584360"/>
          </a:xfrm>
          <a:prstGeom prst="wedgeRoundRectCallout">
            <a:avLst>
              <a:gd name="adj1" fmla="val -83689"/>
              <a:gd name="adj2" fmla="val 9398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148360" y="69228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003640" y="765000"/>
            <a:ext cx="36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Однажды я обходил свои владения и увидел вот чт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2195640" y="5950080"/>
            <a:ext cx="576000" cy="46980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3"/>
          <a:stretch/>
        </p:blipFill>
        <p:spPr>
          <a:xfrm>
            <a:off x="6948360" y="5300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4"/>
          <a:stretch/>
        </p:blipFill>
        <p:spPr>
          <a:xfrm>
            <a:off x="3132000" y="4581360"/>
            <a:ext cx="981360" cy="31464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5"/>
          <a:stretch/>
        </p:blipFill>
        <p:spPr>
          <a:xfrm>
            <a:off x="684360" y="4005360"/>
            <a:ext cx="952200" cy="58104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0" y="2997360"/>
            <a:ext cx="1187280" cy="863280"/>
          </a:xfrm>
          <a:prstGeom prst="wedgeEllipseCallout">
            <a:avLst>
              <a:gd name="adj1" fmla="val 12032"/>
              <a:gd name="adj2" fmla="val 959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79280" y="3068640"/>
            <a:ext cx="10429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Помогите! Нам  трудно здесь дышать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3429000" y="549360"/>
            <a:ext cx="5715000" cy="533376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250920" y="692280"/>
            <a:ext cx="3384360" cy="1008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Почему рыбки не хотят оставаться в воде, ведь там – их до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4000" y="2133720"/>
            <a:ext cx="3311280" cy="7038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Как происходит загрязнение во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24000" y="3213000"/>
            <a:ext cx="3384360" cy="7038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Какая опасность угрожает рыбка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6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00720" cy="298116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Картинка 162 из 2268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3280" y="0"/>
            <a:ext cx="4500720" cy="299736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5"/>
          <a:stretch/>
        </p:blipFill>
        <p:spPr>
          <a:xfrm>
            <a:off x="0" y="3141720"/>
            <a:ext cx="4500720" cy="364500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Картинка 207 из 22688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643280" y="3141720"/>
            <a:ext cx="4357800" cy="360036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2843280" y="2133720"/>
            <a:ext cx="3600360" cy="1739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олгие годы никто не задумывался сколь вредны для людей и природы выбрасываемые дымы, сточные воды или горы отбро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3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0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4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826920" y="692280"/>
            <a:ext cx="6735960" cy="411948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468360" y="4797360"/>
            <a:ext cx="835344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Грязная, зараженная промышленными стоками вода способна погубить жизн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24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4T12:07:16Z</dcterms:created>
  <dc:creator>XTreme</dc:creator>
  <dc:description/>
  <dc:language>en-US</dc:language>
  <cp:lastModifiedBy>надежда</cp:lastModifiedBy>
  <dcterms:modified xsi:type="dcterms:W3CDTF">2011-06-18T07:06:52Z</dcterms:modified>
  <cp:revision>7</cp:revision>
  <dc:subject/>
  <dc:title>Слайд 1</dc:title>
</cp:coreProperties>
</file>