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8BA5-9F63-4869-8491-68E103917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625E-42BB-4CB3-9ACE-AD655550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8039-A4CB-4077-9B3C-372A347B9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E1EF-2D13-45DD-A4A6-10D29D8DD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3A74-5FDA-44B3-B322-29DC8C5B8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62CDD-807D-41A2-86C8-01402F43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EDF8-90CE-4AA2-B4CF-8C98C010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102A-D95B-4B7D-9539-2ADA5B11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E521-BC65-4A17-B545-5E515FA0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1C4A-18B1-48D7-8D4F-75A458FF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466BE-AF95-40E0-9B70-25F056BD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E979-4986-42FB-B730-244737DA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E774-05CB-4160-A421-3ECD244B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4446-0B45-4F26-B880-53DDBF3F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3ECD-8B68-4442-9384-606BB95E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3D45-A044-4BE4-9AD9-88A744279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C778-18DC-4D6F-9E84-5D383E403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070F-B068-4AE8-B82A-B4838787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1308-6098-4258-95D2-D04AE4E1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AEE5-282B-4444-99E1-F0F19D66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D2A9-502E-49D6-82B6-5E25A56E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894B-676E-40C4-BD50-AC6068DE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4842-F31F-468A-B30B-95D688F9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2439-8EC9-4557-8207-8EC38F72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FFC7-47BB-4CF5-B37D-E4984E05D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DC5E-D5FB-49F5-AE08-283F92095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74760"/>
            <a:ext cx="9144000" cy="61070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169992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 u="sng">
                <a:solidFill>
                  <a:srgbClr val="ff3300"/>
                </a:solidFill>
                <a:uFillTx/>
                <a:latin typeface="Arial Black"/>
              </a:rPr>
              <a:t>Тема урока</a:t>
            </a:r>
            <a:r>
              <a:rPr b="1" lang="ru-RU" sz="3700" spc="-1" strike="noStrike">
                <a:solidFill>
                  <a:srgbClr val="ff3300"/>
                </a:solidFill>
                <a:latin typeface="Arial Black"/>
              </a:rPr>
              <a:t>: </a:t>
            </a:r>
            <a:r>
              <a:rPr b="1" lang="ru-RU" sz="4000" spc="-1" strike="noStrike">
                <a:solidFill>
                  <a:srgbClr val="ff3300"/>
                </a:solidFill>
                <a:latin typeface="Arial Black"/>
              </a:rPr>
              <a:t>История России в памятниках</a:t>
            </a:r>
            <a:br>
              <a:rPr sz="4000"/>
            </a:br>
            <a:r>
              <a:rPr b="1" lang="ru-RU" sz="3200" spc="-1" strike="noStrike">
                <a:solidFill>
                  <a:srgbClr val="ff3300"/>
                </a:solidFill>
                <a:latin typeface="Arial Black"/>
              </a:rPr>
              <a:t>с древнейших времен до конца </a:t>
            </a: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XIX</a:t>
            </a:r>
            <a:r>
              <a:rPr b="1" lang="ru-RU" sz="3200" spc="-1" strike="noStrike">
                <a:solidFill>
                  <a:srgbClr val="ff3300"/>
                </a:solidFill>
                <a:latin typeface="Arial Black"/>
              </a:rPr>
              <a:t>в.</a:t>
            </a:r>
            <a:endParaRPr b="0" i="1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Цель урока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924360" y="260280"/>
            <a:ext cx="4968720" cy="63198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324000" y="1628640"/>
            <a:ext cx="3527280" cy="302580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1d7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3233520" cy="18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9900"/>
                </a:solidFill>
                <a:latin typeface="Arial Black"/>
              </a:rPr>
              <a:t>Софийский</a:t>
            </a:r>
            <a:br>
              <a:rPr sz="3300"/>
            </a:br>
            <a:r>
              <a:rPr b="0" lang="en-US" sz="3300" spc="-1" strike="noStrike">
                <a:solidFill>
                  <a:srgbClr val="009900"/>
                </a:solidFill>
                <a:latin typeface="Arial Black"/>
              </a:rPr>
              <a:t> собор в</a:t>
            </a:r>
            <a:br>
              <a:rPr sz="3300"/>
            </a:br>
            <a:r>
              <a:rPr b="0" lang="en-US" sz="3300" spc="-1" strike="noStrike">
                <a:solidFill>
                  <a:srgbClr val="009900"/>
                </a:solidFill>
                <a:latin typeface="Arial Black"/>
              </a:rPr>
              <a:t> Киеве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cc33"/>
                </a:solidFill>
                <a:latin typeface="Arial Black"/>
              </a:rPr>
              <a:t>Ярослав Мудрый после победы над печенегами начал строительство св. Софии в Киеве</a:t>
            </a:r>
            <a:r>
              <a:rPr b="0" i="1" lang="en-US" sz="37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i="1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Arial Black"/>
              </a:rPr>
              <a:t>1037г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4920" y="5660640"/>
            <a:ext cx="845964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 Black"/>
              </a:rPr>
              <a:t>Александро-Невский монастырь </a:t>
            </a:r>
            <a:br>
              <a:rPr sz="2900"/>
            </a:br>
            <a:r>
              <a:rPr b="0" lang="en-US" sz="2900" spc="-1" strike="noStrike">
                <a:solidFill>
                  <a:srgbClr val="ffffff"/>
                </a:solidFill>
                <a:latin typeface="Arial Black"/>
              </a:rPr>
              <a:t>в Санкт-Петербурге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996633"/>
                </a:solidFill>
                <a:latin typeface="Arial Black"/>
              </a:rPr>
              <a:t>Ледовое побоище</a:t>
            </a:r>
            <a:r>
              <a:rPr b="1" i="1" lang="en-US" sz="3700" spc="-1" strike="noStrike">
                <a:solidFill>
                  <a:srgbClr val="33cc33"/>
                </a:solidFill>
                <a:latin typeface="Arial Black"/>
              </a:rPr>
              <a:t> – разгром Александром Невским крестоносцев на Чудском озере</a:t>
            </a:r>
            <a:r>
              <a:rPr b="0" i="1" lang="en-US" sz="37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i="1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Arial Black"/>
              </a:rPr>
              <a:t>1240г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 rot="10800000">
            <a:off x="755280" y="2348640"/>
            <a:ext cx="3529080" cy="259236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2565360"/>
            <a:ext cx="3449520" cy="2016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9900"/>
                </a:solidFill>
                <a:latin typeface="Arial Black"/>
              </a:rPr>
              <a:t>Донской монастырь в Москве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43560" y="260280"/>
            <a:ext cx="4600440" cy="62643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159080" y="260280"/>
            <a:ext cx="4856400" cy="61930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118" name=""/>
          <p:cNvSpPr/>
          <p:nvPr/>
        </p:nvSpPr>
        <p:spPr>
          <a:xfrm>
            <a:off x="250920" y="1628640"/>
            <a:ext cx="4105080" cy="3313080"/>
          </a:xfrm>
          <a:prstGeom prst="rightArrowCallout">
            <a:avLst>
              <a:gd name="adj1" fmla="val 25002"/>
              <a:gd name="adj2" fmla="val 25000"/>
              <a:gd name="adj3" fmla="val 20651"/>
              <a:gd name="adj4" fmla="val 66667"/>
            </a:avLst>
          </a:prstGeom>
          <a:solidFill>
            <a:srgbClr val="ccffcc"/>
          </a:solidFill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1699920"/>
            <a:ext cx="2736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 Black"/>
              </a:rPr>
              <a:t>Храм </a:t>
            </a:r>
            <a:br>
              <a:rPr sz="4000"/>
            </a:br>
            <a:r>
              <a:rPr b="1" lang="en-US" sz="4000" spc="-1" strike="noStrike">
                <a:solidFill>
                  <a:srgbClr val="ff3300"/>
                </a:solidFill>
                <a:latin typeface="Arial Black"/>
              </a:rPr>
              <a:t>Покрова </a:t>
            </a:r>
            <a:br>
              <a:rPr sz="4000"/>
            </a:br>
            <a:r>
              <a:rPr b="1" lang="en-US" sz="4000" spc="-1" strike="noStrike">
                <a:solidFill>
                  <a:srgbClr val="ff3300"/>
                </a:solidFill>
                <a:latin typeface="Arial Black"/>
              </a:rPr>
              <a:t>на Рву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33cc33"/>
                </a:solidFill>
                <a:latin typeface="Arial Black"/>
              </a:rPr>
              <a:t>Иван Грозный присоединяет Казанское ханство к России</a:t>
            </a: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Arial Black"/>
              </a:rPr>
              <a:t>1552г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 rot="12078600">
            <a:off x="250560" y="1915920"/>
            <a:ext cx="3529080" cy="2881080"/>
          </a:xfrm>
          <a:prstGeom prst="cloudCallout">
            <a:avLst>
              <a:gd name="adj1" fmla="val -24583"/>
              <a:gd name="adj2" fmla="val 7799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4920" y="2276640"/>
            <a:ext cx="3522600" cy="17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3300"/>
                </a:solidFill>
                <a:latin typeface="Arial Black"/>
              </a:rPr>
              <a:t>Старый </a:t>
            </a:r>
            <a:br>
              <a:rPr sz="2900"/>
            </a:br>
            <a:r>
              <a:rPr b="0" lang="en-US" sz="2900" spc="-1" strike="noStrike">
                <a:solidFill>
                  <a:srgbClr val="ff3300"/>
                </a:solidFill>
                <a:latin typeface="Arial Black"/>
              </a:rPr>
              <a:t>Английский </a:t>
            </a:r>
            <a:br>
              <a:rPr sz="2900"/>
            </a:br>
            <a:r>
              <a:rPr b="0" lang="en-US" sz="2900" spc="-1" strike="noStrike">
                <a:solidFill>
                  <a:srgbClr val="ff3300"/>
                </a:solidFill>
                <a:latin typeface="Arial Black"/>
              </a:rPr>
              <a:t>двор в Москве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24360" y="260280"/>
            <a:ext cx="4948200" cy="61200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cc33"/>
                </a:solidFill>
                <a:latin typeface="Arial Black"/>
              </a:rPr>
              <a:t>Смутное время или Смута</a:t>
            </a: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 Black"/>
              </a:rPr>
              <a:t>события начала </a:t>
            </a:r>
            <a:r>
              <a:rPr b="1" lang="en-US" sz="4800" spc="-1" strike="noStrike">
                <a:solidFill>
                  <a:srgbClr val="ff3300"/>
                </a:solidFill>
                <a:latin typeface="Arial Black"/>
              </a:rPr>
              <a:t>XVII</a:t>
            </a:r>
            <a:r>
              <a:rPr b="1" lang="ru-RU" sz="4800" spc="-1" strike="noStrike">
                <a:solidFill>
                  <a:srgbClr val="ff3300"/>
                </a:solidFill>
                <a:latin typeface="Arial Black"/>
              </a:rPr>
              <a:t>в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00720" y="260280"/>
            <a:ext cx="4392360" cy="60469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324000" y="1557360"/>
            <a:ext cx="4319280" cy="4032360"/>
          </a:xfrm>
          <a:prstGeom prst="verticalScroll">
            <a:avLst>
              <a:gd name="adj" fmla="val 12500"/>
            </a:avLst>
          </a:prstGeom>
          <a:solidFill>
            <a:srgbClr val="ccffff"/>
          </a:solidFill>
          <a:ln w="540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0920" y="1557000"/>
            <a:ext cx="3738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66ff"/>
                </a:solidFill>
                <a:latin typeface="Arial Black"/>
              </a:rPr>
              <a:t>Золотой ковш </a:t>
            </a:r>
            <a:br>
              <a:rPr sz="3300"/>
            </a:br>
            <a:r>
              <a:rPr b="0" lang="en-US" sz="3300" spc="-1" strike="noStrike">
                <a:solidFill>
                  <a:srgbClr val="0066ff"/>
                </a:solidFill>
                <a:latin typeface="Arial Black"/>
              </a:rPr>
              <a:t>Михаила </a:t>
            </a:r>
            <a:br>
              <a:rPr sz="3300"/>
            </a:br>
            <a:r>
              <a:rPr b="0" lang="en-US" sz="3300" spc="-1" strike="noStrike">
                <a:solidFill>
                  <a:srgbClr val="0066ff"/>
                </a:solidFill>
                <a:latin typeface="Arial Black"/>
              </a:rPr>
              <a:t>Романов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6920" y="2420640"/>
            <a:ext cx="7632720" cy="29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4f"/>
                </a:solidFill>
                <a:latin typeface="Arial Black"/>
              </a:rPr>
              <a:t>«Мы вопрошаем и допрашиваем прошедшее, чтобы оно объяснило нам настоящее и намекнуло о нашем будущем»</a:t>
            </a:r>
            <a:br>
              <a:rPr sz="2900"/>
            </a:br>
            <a:r>
              <a:rPr b="0" lang="en-US" sz="2900" spc="-1" strike="noStrike">
                <a:solidFill>
                  <a:srgbClr val="6699ff"/>
                </a:solidFill>
                <a:latin typeface="Arial Black"/>
              </a:rPr>
              <a:t>В.Г. Белинский, русский литературный критик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33cc33"/>
                </a:solidFill>
                <a:latin typeface="Arial Black"/>
              </a:rPr>
              <a:t>начало царствования Михаила Романова, первого царя из дома Романовых.</a:t>
            </a:r>
            <a:r>
              <a:rPr b="0" i="1" lang="en-US" sz="37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i="1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Arial Black"/>
              </a:rPr>
              <a:t>1613г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54273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Чаша царя Алексей Михайловича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cc33"/>
                </a:solidFill>
                <a:latin typeface="Arial Black"/>
              </a:rPr>
              <a:t>церковный раскол</a:t>
            </a: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Arial Black"/>
              </a:rPr>
              <a:t>1653г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986280" y="260280"/>
            <a:ext cx="5157720" cy="62643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324000" y="2421000"/>
            <a:ext cx="3743280" cy="2808360"/>
          </a:xfrm>
          <a:custGeom>
            <a:avLst/>
            <a:gdLst>
              <a:gd name="textAreaLeft" fmla="*/ 584640 w 3743280"/>
              <a:gd name="textAreaRight" fmla="*/ 3275640 w 3743280"/>
              <a:gd name="textAreaTop" fmla="*/ 702000 h 2808360"/>
              <a:gd name="textAreaBottom" fmla="*/ 2106360 h 2808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414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0920" y="2204640"/>
            <a:ext cx="3522600" cy="23763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66"/>
                </a:solidFill>
                <a:latin typeface="Arial Black"/>
              </a:rPr>
              <a:t>Двойной трон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cc33"/>
                </a:solidFill>
                <a:latin typeface="Arial Black"/>
              </a:rPr>
              <a:t>царствование Петра Первого</a:t>
            </a: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03280" y="3573360"/>
            <a:ext cx="6623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Arial Black"/>
              </a:rPr>
              <a:t>1682-1725гг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50920" y="573408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"/>
              </a:rPr>
              <a:t>Новодевичий монастырь в Моск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95280" y="2492280"/>
            <a:ext cx="4248000" cy="3241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1987" y="762"/>
                </a:moveTo>
                <a:lnTo>
                  <a:pt x="22092" y="762"/>
                </a:lnTo>
                <a:lnTo>
                  <a:pt x="22092" y="-2253"/>
                </a:lnTo>
                <a:lnTo>
                  <a:pt x="1832" y="-5278"/>
                </a:lnTo>
              </a:path>
              <a:path w="21600" h="21600">
                <a:moveTo>
                  <a:pt x="21987" y="0"/>
                </a:moveTo>
                <a:lnTo>
                  <a:pt x="21987" y="21600"/>
                </a:lnTo>
              </a:path>
            </a:pathLst>
          </a:custGeom>
          <a:noFill/>
          <a:ln w="414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560" y="3068640"/>
            <a:ext cx="452916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Петропавловский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 собор в 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Санкт-Петербурге</a:t>
            </a: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3960720" cy="64245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33cc33"/>
                </a:solidFill>
                <a:latin typeface="Arial Black"/>
              </a:rPr>
              <a:t>Петр </a:t>
            </a:r>
            <a:r>
              <a:rPr b="1" i="1" lang="en-US" sz="4100" spc="-1" strike="noStrike">
                <a:solidFill>
                  <a:srgbClr val="33cc33"/>
                </a:solidFill>
                <a:latin typeface="Arial Black"/>
              </a:rPr>
              <a:t>I</a:t>
            </a:r>
            <a:r>
              <a:rPr b="1" i="1" lang="ru-RU" sz="4100" spc="-1" strike="noStrike">
                <a:solidFill>
                  <a:srgbClr val="33cc33"/>
                </a:solidFill>
                <a:latin typeface="Arial Black"/>
              </a:rPr>
              <a:t> заложил Санкт-Петербург – как столицу новой России.</a:t>
            </a:r>
            <a:r>
              <a:rPr b="0" i="1" lang="ru-RU" sz="41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Arial Black"/>
              </a:rPr>
              <a:t>1703г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33640" y="260280"/>
            <a:ext cx="5310360" cy="62643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149" name=""/>
          <p:cNvSpPr/>
          <p:nvPr/>
        </p:nvSpPr>
        <p:spPr>
          <a:xfrm>
            <a:off x="250920" y="2060640"/>
            <a:ext cx="3851280" cy="2590560"/>
          </a:xfrm>
          <a:custGeom>
            <a:avLst/>
            <a:gdLst>
              <a:gd name="textAreaLeft" fmla="*/ 962640 w 3851280"/>
              <a:gd name="textAreaRight" fmla="*/ 2888640 w 3851280"/>
              <a:gd name="textAreaTop" fmla="*/ 647640 h 2590560"/>
              <a:gd name="textAreaBottom" fmla="*/ 2513880 h 2590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5280" y="2923920"/>
            <a:ext cx="287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Медный всадник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57146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3300"/>
                </a:solidFill>
                <a:latin typeface="Arial Black"/>
              </a:rPr>
              <a:t>Корона Анны Иоанновн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11280" y="295200"/>
            <a:ext cx="7921440" cy="59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0000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69608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Исторические источники</a:t>
            </a:r>
            <a:r>
              <a:rPr b="0" lang="en-US" sz="4000" spc="-1" strike="noStrike">
                <a:solidFill>
                  <a:srgbClr val="336666"/>
                </a:solidFill>
                <a:latin typeface="Arial Black"/>
              </a:rPr>
              <a:t> - это все, чтобы было создано человеком: предметы материальной культуры, обычаи, обряды, памятники письменности.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cc33"/>
                </a:solidFill>
                <a:latin typeface="Arial Black"/>
              </a:rPr>
              <a:t>Россия стала империей</a:t>
            </a: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 Black"/>
              </a:rPr>
              <a:t>1721г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95280" y="1844640"/>
            <a:ext cx="3816360" cy="3600360"/>
          </a:xfrm>
          <a:custGeom>
            <a:avLst/>
            <a:gdLst>
              <a:gd name="textAreaLeft" fmla="*/ 896760 w 3816360"/>
              <a:gd name="textAreaRight" fmla="*/ 2916720 w 3816360"/>
              <a:gd name="textAreaTop" fmla="*/ 423360 h 3600360"/>
              <a:gd name="textAreaBottom" fmla="*/ 2258280 h 360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280" y="2420640"/>
            <a:ext cx="352116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3300"/>
                </a:solidFill>
                <a:latin typeface="Arial Black"/>
              </a:rPr>
              <a:t>Коронационное </a:t>
            </a:r>
            <a:br>
              <a:rPr sz="2900"/>
            </a:br>
            <a:r>
              <a:rPr b="0" lang="ru-RU" sz="2900" spc="-1" strike="noStrike">
                <a:solidFill>
                  <a:srgbClr val="ff3300"/>
                </a:solidFill>
                <a:latin typeface="Arial Black"/>
              </a:rPr>
              <a:t>платье </a:t>
            </a:r>
            <a:br>
              <a:rPr sz="2900"/>
            </a:br>
            <a:r>
              <a:rPr b="0" lang="ru-RU" sz="2900" spc="-1" strike="noStrike">
                <a:solidFill>
                  <a:srgbClr val="ff3300"/>
                </a:solidFill>
                <a:latin typeface="Arial Black"/>
              </a:rPr>
              <a:t>Екатерины </a:t>
            </a:r>
            <a:r>
              <a:rPr b="0" lang="en-US" sz="2900" spc="-1" strike="noStrike">
                <a:solidFill>
                  <a:srgbClr val="ff3300"/>
                </a:solidFill>
                <a:latin typeface="Arial Black"/>
              </a:rPr>
              <a:t>II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440240" y="260280"/>
            <a:ext cx="4570560" cy="61930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cc33"/>
                </a:solidFill>
                <a:latin typeface="Arial Black"/>
              </a:rPr>
              <a:t>царствование </a:t>
            </a:r>
            <a:br>
              <a:rPr sz="4800"/>
            </a:br>
            <a:r>
              <a:rPr b="1" i="1" lang="ru-RU" sz="4800" spc="-1" strike="noStrike">
                <a:solidFill>
                  <a:srgbClr val="33cc33"/>
                </a:solidFill>
                <a:latin typeface="Arial Black"/>
              </a:rPr>
              <a:t>Екатерины </a:t>
            </a:r>
            <a:r>
              <a:rPr b="1" i="1" lang="en-US" sz="4800" spc="-1" strike="noStrike">
                <a:solidFill>
                  <a:srgbClr val="33cc33"/>
                </a:solidFill>
                <a:latin typeface="Arial Black"/>
              </a:rPr>
              <a:t>II</a:t>
            </a:r>
            <a:r>
              <a:rPr b="0" i="1" lang="ru-RU" sz="41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476360" y="3644640"/>
            <a:ext cx="640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Arial Black"/>
              </a:rPr>
              <a:t>1762- 1796гг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 rot="10800000">
            <a:off x="684360" y="2059920"/>
            <a:ext cx="3527280" cy="2376360"/>
          </a:xfrm>
          <a:prstGeom prst="wedgeRoundRectCallout">
            <a:avLst>
              <a:gd name="adj1" fmla="val -44375"/>
              <a:gd name="adj2" fmla="val 69972"/>
              <a:gd name="adj3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388944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cccc99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Impact"/>
              </a:rPr>
              <a:t>Ремша</a:t>
            </a:r>
            <a:r>
              <a:rPr b="0" lang="en-US" sz="4000" spc="-1" strike="noStrike">
                <a:solidFill>
                  <a:srgbClr val="ff9900"/>
                </a:solidFill>
                <a:latin typeface="Impact"/>
              </a:rPr>
              <a:t> 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716360" y="260280"/>
            <a:ext cx="4176720" cy="61372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cc33"/>
                </a:solidFill>
                <a:latin typeface="Arial Black"/>
              </a:rPr>
              <a:t>Кючук-Кайнарджийский мир</a:t>
            </a:r>
            <a:r>
              <a:rPr b="0" i="1" lang="ru-RU" sz="41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Arial Black"/>
              </a:rPr>
              <a:t>1774г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11280" y="1989000"/>
            <a:ext cx="3960720" cy="3168720"/>
          </a:xfrm>
          <a:custGeom>
            <a:avLst/>
            <a:gdLst>
              <a:gd name="textAreaLeft" fmla="*/ 0 w 3960720"/>
              <a:gd name="textAreaRight" fmla="*/ 3960720 w 3960720"/>
              <a:gd name="textAreaTop" fmla="*/ 410760 h 3168720"/>
              <a:gd name="textAreaBottom" fmla="*/ 2757960 h 3168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280" y="2420640"/>
            <a:ext cx="3522600" cy="1871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 Black"/>
              </a:rPr>
              <a:t>Золотой кубок</a:t>
            </a: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905360" y="260280"/>
            <a:ext cx="4238640" cy="62643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cc33"/>
                </a:solidFill>
                <a:latin typeface="Arial Black"/>
              </a:rPr>
              <a:t>царствование Александра </a:t>
            </a:r>
            <a:r>
              <a:rPr b="1" i="1" lang="en-US" sz="4800" spc="-1" strike="noStrike">
                <a:solidFill>
                  <a:srgbClr val="33cc33"/>
                </a:solidFill>
                <a:latin typeface="Arial Black"/>
              </a:rPr>
              <a:t>I</a:t>
            </a: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900000" y="3573360"/>
            <a:ext cx="73454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Arial Black"/>
              </a:rPr>
              <a:t>1801-1825гг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24000" y="1484280"/>
            <a:ext cx="4176720" cy="3889440"/>
          </a:xfrm>
          <a:prstGeom prst="flowChartMagneticTape">
            <a:avLst/>
          </a:prstGeom>
          <a:noFill/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4788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ваза-стопа </a:t>
            </a:r>
            <a:br>
              <a:rPr sz="4000"/>
            </a:b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для мороженного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608360" y="260280"/>
            <a:ext cx="4384800" cy="62643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33cc33"/>
                </a:solidFill>
                <a:latin typeface="Arial Black"/>
              </a:rPr>
              <a:t>подписание между Россией и Францией Тильзитского мирного договора</a:t>
            </a:r>
            <a:r>
              <a:rPr b="1" i="1" lang="ru-RU" sz="37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i="1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Arial Black"/>
              </a:rPr>
              <a:t>1807г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284720" y="260280"/>
            <a:ext cx="4718160" cy="61214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176" name=""/>
          <p:cNvSpPr/>
          <p:nvPr/>
        </p:nvSpPr>
        <p:spPr>
          <a:xfrm>
            <a:off x="0" y="2060640"/>
            <a:ext cx="4284720" cy="2592360"/>
          </a:xfrm>
          <a:custGeom>
            <a:avLst/>
            <a:gdLst>
              <a:gd name="textAreaLeft" fmla="*/ 0 w 4284720"/>
              <a:gd name="textAreaRight" fmla="*/ 4285080 w 4284720"/>
              <a:gd name="textAreaTop" fmla="*/ 0 h 2592360"/>
              <a:gd name="textAreaBottom" fmla="*/ 2592360 h 25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4920" y="2565000"/>
            <a:ext cx="38163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Коронационный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 мундир 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Александра </a:t>
            </a:r>
            <a:r>
              <a:rPr b="0" lang="en-US" sz="2900" spc="-1" strike="noStrike">
                <a:solidFill>
                  <a:srgbClr val="000000"/>
                </a:solidFill>
                <a:latin typeface="Arial Black"/>
              </a:rPr>
              <a:t>II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76960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 Black"/>
              </a:rPr>
              <a:t>Предметы материальной культуры</a:t>
            </a:r>
            <a:endParaRPr b="0" lang="en-US" sz="66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cc33"/>
                </a:solidFill>
                <a:latin typeface="Arial Black"/>
              </a:rPr>
              <a:t>царствование Александра </a:t>
            </a:r>
            <a:r>
              <a:rPr b="1" i="1" lang="en-US" sz="4800" spc="-1" strike="noStrike">
                <a:solidFill>
                  <a:srgbClr val="33cc33"/>
                </a:solidFill>
                <a:latin typeface="Arial Black"/>
              </a:rPr>
              <a:t>II</a:t>
            </a: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403280" y="3500280"/>
            <a:ext cx="62755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Arial Black"/>
              </a:rPr>
              <a:t>1855-1881гг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60280"/>
            <a:ext cx="4392360" cy="61214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cccc99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Домашнее задание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1989000"/>
            <a:ext cx="4897440" cy="46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Памятник «Тысячелети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Black"/>
              </a:rPr>
              <a:t>Задание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9900"/>
                </a:solidFill>
                <a:latin typeface="Arial Unicode MS"/>
              </a:rPr>
              <a:t>Скульптуры, каких правителей и за какие заслуги запечатлели авторы в верхней части памятни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54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 Black"/>
              </a:rPr>
              <a:t>Одежда,</a:t>
            </a:r>
            <a:br>
              <a:rPr sz="4000"/>
            </a:br>
            <a:r>
              <a:rPr b="0" lang="en-US" sz="4000" spc="-1" strike="noStrike">
                <a:solidFill>
                  <a:srgbClr val="009900"/>
                </a:solidFill>
                <a:latin typeface="Arial Black"/>
              </a:rPr>
              <a:t>здания, </a:t>
            </a:r>
            <a:br>
              <a:rPr sz="4000"/>
            </a:br>
            <a:r>
              <a:rPr b="0" lang="en-US" sz="4000" spc="-1" strike="noStrike">
                <a:solidFill>
                  <a:srgbClr val="009900"/>
                </a:solidFill>
                <a:latin typeface="Arial Black"/>
              </a:rPr>
              <a:t>украшения, </a:t>
            </a:r>
            <a:br>
              <a:rPr sz="4000"/>
            </a:br>
            <a:r>
              <a:rPr b="0" lang="en-US" sz="4000" spc="-1" strike="noStrike">
                <a:solidFill>
                  <a:srgbClr val="009900"/>
                </a:solidFill>
                <a:latin typeface="Arial Black"/>
              </a:rPr>
              <a:t>предметы утвари, </a:t>
            </a:r>
            <a:br>
              <a:rPr sz="4000"/>
            </a:br>
            <a:r>
              <a:rPr b="0" lang="en-US" sz="4000" spc="-1" strike="noStrike">
                <a:solidFill>
                  <a:srgbClr val="009900"/>
                </a:solidFill>
                <a:latin typeface="Arial Black"/>
              </a:rPr>
              <a:t>предметы хозяйственного назначения, </a:t>
            </a:r>
            <a:br>
              <a:rPr sz="4000"/>
            </a:br>
            <a:r>
              <a:rPr b="0" lang="en-US" sz="4000" spc="-1" strike="noStrike">
                <a:solidFill>
                  <a:srgbClr val="009900"/>
                </a:solidFill>
                <a:latin typeface="Arial Black"/>
              </a:rPr>
              <a:t>монументы ит.д.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ff"/>
                </a:solidFill>
                <a:latin typeface="Arial Black"/>
              </a:rPr>
              <a:t>Какие науки помогают истории рассказывать о прошлом?</a:t>
            </a:r>
            <a:endParaRPr b="0" lang="en-US" sz="60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87280" y="692280"/>
            <a:ext cx="3168720" cy="4968720"/>
          </a:xfrm>
          <a:custGeom>
            <a:avLst/>
            <a:gdLst>
              <a:gd name="textAreaLeft" fmla="*/ 0 w 3168720"/>
              <a:gd name="textAreaRight" fmla="*/ 3169080 w 3168720"/>
              <a:gd name="textAreaTop" fmla="*/ 1242000 h 4968720"/>
              <a:gd name="textAreaBottom" fmla="*/ 3726720 h 496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noFill/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87280" y="1844640"/>
            <a:ext cx="3168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Памятник монаху Нестору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427720" y="260280"/>
            <a:ext cx="3465360" cy="62643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1844280"/>
            <a:ext cx="39542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66"/>
                </a:solidFill>
                <a:latin typeface="Arial Black"/>
              </a:rPr>
              <a:t>Церковь Успения</a:t>
            </a:r>
            <a:br>
              <a:rPr sz="2900"/>
            </a:br>
            <a:r>
              <a:rPr b="0" lang="en-US" sz="2900" spc="-1" strike="noStrike">
                <a:solidFill>
                  <a:srgbClr val="ff0066"/>
                </a:solidFill>
                <a:latin typeface="Arial Black"/>
              </a:rPr>
              <a:t>Богородицы </a:t>
            </a:r>
            <a:br>
              <a:rPr sz="2900"/>
            </a:br>
            <a:r>
              <a:rPr b="0" lang="en-US" sz="2900" spc="-1" strike="noStrike">
                <a:solidFill>
                  <a:srgbClr val="ff0066"/>
                </a:solidFill>
                <a:latin typeface="Arial Black"/>
              </a:rPr>
              <a:t>(Десятинная) </a:t>
            </a:r>
            <a:br>
              <a:rPr sz="2900"/>
            </a:br>
            <a:r>
              <a:rPr b="0" lang="en-US" sz="2900" spc="-1" strike="noStrike">
                <a:solidFill>
                  <a:srgbClr val="ff0066"/>
                </a:solidFill>
                <a:latin typeface="Arial Black"/>
              </a:rPr>
              <a:t>в Киеве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724360" y="1916280"/>
            <a:ext cx="3186360" cy="31860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716360" y="260280"/>
            <a:ext cx="2584440" cy="17748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916360" y="3860640"/>
            <a:ext cx="3095640" cy="25448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cc33"/>
                </a:solidFill>
                <a:latin typeface="Arial Black"/>
              </a:rPr>
              <a:t>Крещение Руси Владимиром Красное Солнышко</a:t>
            </a:r>
            <a:endParaRPr b="0" i="1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Arial Black"/>
              </a:rPr>
              <a:t>988 го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1:30:32Z</dcterms:created>
  <dc:creator>User</dc:creator>
  <dc:description/>
  <dc:language>en-US</dc:language>
  <cp:lastModifiedBy>Vlad</cp:lastModifiedBy>
  <dcterms:modified xsi:type="dcterms:W3CDTF">2011-06-25T19:53:28Z</dcterms:modified>
  <cp:revision>16</cp:revision>
  <dc:subject/>
  <dc:title>Тема урока: История России в памятниках</dc:title>
</cp:coreProperties>
</file>