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ABD-85C9-4A74-AAEB-9079F929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E94-6A5F-44FA-A4A5-4EA6E3E0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B80-18A7-47FF-8294-0B6A7E1E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CC2-B094-4FFB-9199-9DE1B532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C0B9-1390-4F30-B630-44AA63DA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A775-080F-469E-82BD-DD4533B2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2E93-7917-4470-899D-AF512F5F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C54F-F406-4FBD-9668-562898BF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9E5D-E50C-47DA-8A79-06BFFF9C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70BE-595A-4747-BE14-02488DEE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E54E-E8FD-4CC1-9D31-49528559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9CD-B259-48F6-B7BA-F84FCA34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08DC-8195-4F1D-BF22-82E8093C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0991-7910-4B37-A756-BF4D62A1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7877-D972-4351-AEAE-A78A3B22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B370-40B5-4B66-ADD8-B79F4761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A9D4-B76F-41B8-93CF-56C14B01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850-D880-4D78-8194-B2C8D6F9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625-D9E8-4762-9DE0-35BF51A3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062-5CC5-4503-922F-363310B1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FD0-2128-428E-BAC5-58767D8B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C09-5006-4803-B262-3E906DE4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5D5-F8B4-4120-95C9-E2CF99E4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70F-3269-4F74-AD6D-CD80C17E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5713-D03F-4424-A748-EBC97804382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B1BE-367A-4BB6-BDED-054AE683C52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ook Antiqua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Book Antiqua"/>
              </a:rPr>
              <a:t>               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Book Antiqua"/>
              </a:rPr>
              <a:t>                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635280" y="4436640"/>
            <a:ext cx="5321520" cy="20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9999"/>
                </a:solidFill>
                <a:latin typeface="Verdana"/>
              </a:rPr>
              <a:t>Символ нежности бесстрастной,                   Недосказанной, несмелой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9999"/>
                </a:solidFill>
                <a:latin typeface="Verdana"/>
              </a:rPr>
              <a:t>Призрак женственно-прекрас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9999"/>
                </a:solidFill>
                <a:latin typeface="Verdana"/>
              </a:rPr>
              <a:t>Лебедь чистый, лебедь белый!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Verdana"/>
              </a:rPr>
              <a:t>                     </a:t>
            </a:r>
            <a:r>
              <a:rPr b="0" lang="en-US" sz="2400" spc="-1" strike="noStrike">
                <a:solidFill>
                  <a:srgbClr val="ff9999"/>
                </a:solidFill>
                <a:latin typeface="Verdana"/>
              </a:rPr>
              <a:t>К. Бальмон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51280" y="765000"/>
            <a:ext cx="4321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 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ебеди -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елое чудо земл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157560" cy="4392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3320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М.А. Врубель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«Царевна-лебедь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925280"/>
            <a:ext cx="81579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ут она, взмахнув крылами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олетела над волнам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 на берег с высот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пустилася в куст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стрепенулась, отряхнулас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 царевной обернулась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есяц под косой блестит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 во лбу звезда горит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 сама-то величав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ыступает, будто пав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 как речь-то говорит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ловно реченька журчит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.С. Пушки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3890880" cy="5734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-360" y="3590640"/>
            <a:ext cx="402732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. Нестеро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ва лад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. Васильев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Лесная сказ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16360" cy="32637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92600" y="260280"/>
            <a:ext cx="4172040" cy="63374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3168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Ф. Решетни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«Майя  Плисецкая  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алете  «Лебедино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зеро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067280" y="404640"/>
            <a:ext cx="4525920" cy="6021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252360" y="189000"/>
            <a:ext cx="729288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Я хочу, чтоб жили лебед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 от белых ста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ир добрее ста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усть летят по небу лебед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д землёй мое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д судьбой мое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Летите в светлый мир людей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вгений Мартын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3618000" cy="24066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249800" cy="31492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364000" y="3068640"/>
            <a:ext cx="3114720" cy="338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д презентацией работал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деты 41 взвода (10 А класс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ванов А., Каньшин 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водитель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еева М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блиотекар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одич Т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Библиограф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роки литературы /приложение к журналу «Литература в школе». - №8.- 2008.- 1-8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7640" y="4005000"/>
            <a:ext cx="434160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Под тобою – глубь немая,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Без привета, без ответа,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Но скользишь ты, утопая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 В бездне воздуха и света.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                                          К.Бальмонт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319640" cy="57592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5876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уп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5905800" cy="4626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6408720" cy="4265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5977080" cy="41119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6" name="" descr=""/>
          <p:cNvPicPr/>
          <p:nvPr/>
        </p:nvPicPr>
        <p:blipFill>
          <a:blip r:embed="rId4"/>
          <a:srcRect l="0" t="0" r="-93" b="7888"/>
          <a:stretch/>
        </p:blipFill>
        <p:spPr>
          <a:xfrm>
            <a:off x="1547640" y="981000"/>
            <a:ext cx="6264360" cy="42688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6720" y="4869000"/>
            <a:ext cx="3743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ежност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564000" y="476280"/>
            <a:ext cx="5184720" cy="34606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4465440" cy="3240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79280" y="476280"/>
            <a:ext cx="4270320" cy="568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356000" y="1268280"/>
            <a:ext cx="4610160" cy="33861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Белый лебедь, лебедь чистый,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Сны твои всегда безмолвны, 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Безмятежно-серебристый,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Ты скользишь, рождая волны.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К. Бальмонт  «Белый лебедь»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284720" y="2276640"/>
            <a:ext cx="4681440" cy="41925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498840" cy="5256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716360" y="2779560"/>
            <a:ext cx="3888000" cy="3111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                                     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нц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5620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5400720" cy="4618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9" name=""/>
          <p:cNvSpPr txBox="1"/>
          <p:nvPr/>
        </p:nvSpPr>
        <p:spPr>
          <a:xfrm>
            <a:off x="4859280" y="4076640"/>
            <a:ext cx="367668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b7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ветлое льётся сиянье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3b7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b7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д белым изгибом спины,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3b7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b7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вся она, как изваянье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3b7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b7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поднятой к небу волны.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3b7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b7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       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3b7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b7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  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b7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. Заболоцкий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3b7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14400" y="602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И. Протасеня     Эхо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417080" cy="4456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2" name=""/>
          <p:cNvSpPr txBox="1"/>
          <p:nvPr/>
        </p:nvSpPr>
        <p:spPr>
          <a:xfrm>
            <a:off x="179280" y="476280"/>
            <a:ext cx="882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беди на картинах русских худож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41200" y="5520960"/>
            <a:ext cx="8002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.А. Рыло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44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голубом просторе  (1918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44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44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4672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92360" y="764640"/>
            <a:ext cx="52768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Леда и Зев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635280" y="3284640"/>
            <a:ext cx="5184720" cy="2987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244680" cy="4392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8" name=""/>
          <p:cNvSpPr/>
          <p:nvPr/>
        </p:nvSpPr>
        <p:spPr>
          <a:xfrm>
            <a:off x="4235400" y="242100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Леонардо да Вин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6320" y="5805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Поль Тель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3:14:38Z</dcterms:created>
  <dc:creator>марина</dc:creator>
  <dc:description/>
  <dc:language>en-US</dc:language>
  <cp:lastModifiedBy>надежда</cp:lastModifiedBy>
  <dcterms:modified xsi:type="dcterms:W3CDTF">2011-06-19T09:39:50Z</dcterms:modified>
  <cp:revision>31</cp:revision>
  <dc:subject/>
  <dc:title>Белое чудо земли</dc:title>
</cp:coreProperties>
</file>