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0.gif" ContentType="image/gif"/>
  <Override PartName="/ppt/media/image12.jpeg" ContentType="image/jpeg"/>
  <Override PartName="/ppt/media/image6.png" ContentType="image/png"/>
  <Override PartName="/ppt/media/image5.gif" ContentType="image/gif"/>
  <Override PartName="/ppt/media/image7.jpeg" ContentType="image/jpe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8.gif" ContentType="image/gif"/>
  <Override PartName="/ppt/media/image20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7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353-D328-4B3E-9EE8-DD135A34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86D-35B6-4F88-BB84-ED3E731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2EA-3F71-43A5-8405-84767EFE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11A-7B74-4AF3-80CD-C7C79430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920-9F9C-4453-A85F-E9ADB176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E36-3906-4FC8-B668-9FC02ABC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936-0819-48B4-AEE8-CCA947AD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268-AE0D-4CA5-AA0F-74239E89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CD-1F53-4D8B-8A79-8EA94E56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8C2-93A3-4DB6-AB06-95DD1193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CA3-C2E7-42F8-89C3-03BCE6A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349-2112-430D-9984-6B9F751C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D478-429F-4E93-82B5-0E8600CD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" Target="slide3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" Target="slide3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3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" Target="slide3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228600"/>
            <a:ext cx="7993080" cy="24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d60093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Волшебный мир ароматов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50000">
                    <a:srgbClr val="d60093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первые и вторые блю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маринады и солен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напи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разную выпеч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52880" y="2438280"/>
            <a:ext cx="3276720" cy="2424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33520" y="45720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Monotype Corsiva"/>
              </a:rPr>
              <a:t>Эфирные масла добавляются в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2880" y="289512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литура для мебели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Жидкое мыло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ход за бельем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щита от моли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ход за домашними животными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680" y="228600"/>
            <a:ext cx="73152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3500000"/>
                </a:gradFill>
                <a:latin typeface="Monotype Corsiva"/>
              </a:rPr>
              <a:t>Ароматы в быт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14040" y="28195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бработка ран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пугивани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насекомых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редство для мытья посуд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ход за раст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144792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Всегда полезно иметь в комнате небольшие хвойные деревца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распылять хвойные эссенции. </a:t>
            </a:r>
            <a:br>
              <a:rPr sz="2400"/>
            </a:b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Е. И. Рер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913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Добро есть благоухание, а зло есть ядовитое зловоние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з трудов отшельников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1980720"/>
            <a:ext cx="358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роматы по знакам зоди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роматы в интимной жизн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роматы по временам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0"/>
            <a:ext cx="7315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cc"/>
                    </a:gs>
                    <a:gs pos="100000">
                      <a:srgbClr val="cc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onotype Corsiva"/>
              </a:rPr>
              <a:t>Биоэнергетика человека</a:t>
            </a:r>
            <a:endParaRPr b="1" lang="en-US" sz="24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ffcc"/>
                  </a:gs>
                  <a:gs pos="100000">
                    <a:srgbClr val="cc00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327492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571500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5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04960" y="2209320"/>
            <a:ext cx="5638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ароматерапии есть некоторые рекомендации по использованию ароматов для каждого знака Зодиака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457200"/>
            <a:ext cx="662940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fecf"/>
                    </a:gs>
                    <a:gs pos="50000">
                      <a:srgbClr val="ffff1b"/>
                    </a:gs>
                    <a:gs pos="100000">
                      <a:srgbClr val="fefec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onotype Corsiva"/>
              </a:rPr>
              <a:t>Ароматы в астрологии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efecf"/>
                  </a:gs>
                  <a:gs pos="50000">
                    <a:srgbClr val="ffff1b"/>
                  </a:gs>
                  <a:gs pos="100000">
                    <a:srgbClr val="fefec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209680" cy="223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238880" y="762120"/>
            <a:ext cx="17272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2286000" cy="2040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858000" y="4952880"/>
            <a:ext cx="18781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77320" y="5715000"/>
            <a:ext cx="1066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ccff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05120" y="333360"/>
            <a:ext cx="50292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339933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onotype Corsiva"/>
              </a:rPr>
              <a:t>Цели: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339933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216160"/>
            <a:ext cx="705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Изучить состав ароматических ве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знать лечебные свойства эфирных ма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ыяснить влияние ароматических масел на биоэнергетику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2" action="ppaction://hlinksldjump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3" action="ppaction://hlinksldjump"/>
              </a:rPr>
              <a:t>Медиц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фирные масла и хим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фирные масла в космет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фирные масла в кулина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фирные масла в бы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4" action="ppaction://hlinksldjump"/>
              </a:rPr>
              <a:t>Биоэнергетика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304920"/>
            <a:ext cx="6553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Содержание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5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cc6600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    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Запах-это пища, пробуждающая дух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                                                     Коран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авник древнегреческого бога Асклепия был кентавр Хирон, который умел распознавать полезные травы и цв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Вавилоне и Индии эфирные масла добавлялись в строительные материалы (ок. 1800 до н.э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бу ибн Син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открыл процесс дистиляции мас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Франции в 1904 году родился термин «ароматерапия» в лаборатории Рене-Мориса Гатефо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95280" y="380880"/>
            <a:ext cx="6477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ffff00"/>
                    </a:gs>
                    <a:gs pos="100000">
                      <a:srgbClr val="0033cc"/>
                    </a:gs>
                  </a:gsLst>
                  <a:lin ang="8100000"/>
                </a:gradFill>
                <a:latin typeface="Monotype Corsiva"/>
              </a:rPr>
              <a:t>Из глубины век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ffff00"/>
                  </a:gs>
                  <a:gs pos="100000">
                    <a:srgbClr val="0033cc"/>
                  </a:gs>
                </a:gsLst>
                <a:lin ang="8100000"/>
              </a:gradFill>
              <a:latin typeface="Monotype Corsiva"/>
              <a:ea typeface="Monotype Corsiv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Медицина – искусство обманывать пациента на                                                                     период, пока Природа сама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е справится с болезнью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Эван Эзар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Наружное приме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1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ромолам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1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галя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1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сс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1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ре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1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ан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1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610480" y="64767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ffff00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onotype Corsiva"/>
              </a:rPr>
              <a:t>Лечебная сила ароматов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ffff00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ff66cc"/>
            </a:gs>
            <a:gs pos="100000">
              <a:srgbClr val="99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Эфирные масл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– это душистые, легко летучие вещества, содержащиеся в различных частях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растений; это сложный комплекс, насчитывающий до 500 различных органических и неорганических веществ (соединения терпенов, спиртов, альдегилов, кетонов и д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53352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Эфирные масла в химии</a:t>
            </a:r>
            <a:endParaRPr b="0" lang="en-US" sz="24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2549520" cy="400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ff66cc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72200" y="50292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7960" y="30481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R      C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O      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22860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Формула    сложных    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                       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эфиров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657600" cy="4267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4114800"/>
            <a:ext cx="685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95880" y="3505320"/>
            <a:ext cx="60984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19920" y="3429000"/>
            <a:ext cx="60948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191120"/>
            <a:ext cx="533520" cy="3808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4724280"/>
            <a:ext cx="685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Благовонья столь же необходимы человеку, </a:t>
            </a:r>
            <a:br>
              <a:rPr sz="2500"/>
            </a:b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как забота о здоровье, вода и любовь</a:t>
            </a:r>
            <a:br>
              <a:rPr sz="2500"/>
            </a:b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Омер Галеви</a:t>
            </a:r>
            <a:br>
              <a:rPr sz="2500"/>
            </a:br>
            <a:endParaRPr b="0" lang="en-US" sz="2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богащение натуральных кремов</a:t>
            </a:r>
            <a:r>
              <a:rPr b="0" lang="en-US" sz="28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Маски</a:t>
            </a:r>
            <a:r>
              <a:rPr b="0" lang="en-US" sz="28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богащение во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Ароматические ванн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Паровые ванноч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поласкиватели для волос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0"/>
            <a:ext cx="79250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Monotype Corsiva"/>
              </a:rPr>
              <a:t>Ароматерапия в косметологии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133360" cy="358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057400" cy="3505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77320" y="5715000"/>
            <a:ext cx="1066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500"/>
                            </p:stCondLst>
                            <p:childTnLst>
                              <p:par>
                                <p:cTn id="21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472428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946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236232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57600" y="23623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фирные масла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екрасный стимулятор аппети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тличный консервант и ароматиз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28600"/>
            <a:ext cx="8077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Corsiva"/>
              </a:rPr>
              <a:t>Эфирные масла в кулинари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86600" y="1676520"/>
            <a:ext cx="1638360" cy="135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77320" y="5715000"/>
            <a:ext cx="1066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36:37Z</dcterms:created>
  <dc:creator>Малышева</dc:creator>
  <dc:description/>
  <dc:language>en-US</dc:language>
  <cp:lastModifiedBy>Малышева</cp:lastModifiedBy>
  <dcterms:modified xsi:type="dcterms:W3CDTF">2011-01-24T18:37:18Z</dcterms:modified>
  <cp:revision>1</cp:revision>
  <dc:subject/>
  <dc:title>Слайд 1</dc:title>
</cp:coreProperties>
</file>