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475913" cy="7343775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70160" y="515520"/>
            <a:ext cx="368136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D3747-60AD-4EA5-B2C3-F3F57CAC0DA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170160" y="515880"/>
            <a:ext cx="3681360" cy="25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9A4-2BEE-4590-8882-7959FE33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890568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880" y="4424040"/>
            <a:ext cx="890568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139-31E2-431A-8AB1-8D94F24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960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880" y="442404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9600" y="442404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BEF-65E3-4F86-8C1C-C8A7F59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920" y="212220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8320" y="212220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880" y="442404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920" y="442404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8320" y="4424040"/>
            <a:ext cx="286740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AA3-143E-4651-A048-93D681DC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880" y="2122200"/>
            <a:ext cx="89056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451-89F5-4268-95CE-ACBE668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890568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7D6-57DC-4D0C-8548-08DEA81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434592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9600" y="2122200"/>
            <a:ext cx="434592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5AC-885E-4D1D-A985-E255AEB0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E6E-5977-4615-8AAC-EBEBBF8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652320"/>
            <a:ext cx="890568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BEF-A1B6-4026-819C-77F5F2E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9600" y="2122200"/>
            <a:ext cx="434592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880" y="442404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7D0-35C0-42B2-B294-5C5BA9F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434592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960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9600" y="442404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422-822B-45EB-B1D9-AF0ABE2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88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9600" y="2122200"/>
            <a:ext cx="434592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880" y="4424040"/>
            <a:ext cx="8905680" cy="2101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0A7-0F15-434B-8A23-6A3CFF2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652320"/>
            <a:ext cx="890568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880" y="2122200"/>
            <a:ext cx="8905680" cy="4406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95000"/>
          </a:bodyPr>
          <a:p>
            <a:pPr marL="363240" indent="-363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9600" indent="-24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440" indent="-24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5840" indent="-24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75840" indent="-24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75840" indent="-24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5520" y="6692400"/>
            <a:ext cx="2182680" cy="489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79840" y="6692400"/>
            <a:ext cx="3317760" cy="489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692400"/>
            <a:ext cx="2182680" cy="489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71D1C873-C0EB-44AA-98F2-F95FC8188C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1320"/>
            <a:ext cx="10477440" cy="239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Курить – здоровью вредить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64000" y="972720"/>
            <a:ext cx="6013440" cy="981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ассный ч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2880" y="4521240"/>
            <a:ext cx="6013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4444920"/>
            <a:ext cx="79214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Здоровье – не всё, но всё бе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здоровья ничто. Сокра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0477440" cy="734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7135920" y="4998960"/>
            <a:ext cx="3341520" cy="234648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506760" y="201600"/>
            <a:ext cx="697068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i="1" lang="ru-RU" sz="3100" spc="-1" strike="noStrike">
                <a:solidFill>
                  <a:srgbClr val="ffcc00"/>
                </a:solidFill>
                <a:latin typeface="Times New Roman"/>
              </a:rPr>
              <a:t>Здоровье – не всё, но всё без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i="1" lang="ru-RU" sz="3100" spc="-1" strike="noStrike">
                <a:solidFill>
                  <a:srgbClr val="ffcc00"/>
                </a:solidFill>
                <a:latin typeface="Times New Roman"/>
              </a:rPr>
              <a:t>здоровья ничто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i="1" lang="en-US" sz="3100" spc="-1" strike="noStrike">
                <a:solidFill>
                  <a:srgbClr val="ffcc00"/>
                </a:solidFill>
                <a:latin typeface="Times New Roman"/>
              </a:rPr>
              <a:t>                                       </a:t>
            </a:r>
            <a:r>
              <a:rPr b="1" i="1" lang="ru-RU" sz="31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ffcc00"/>
                </a:solidFill>
                <a:latin typeface="Times New Roman"/>
              </a:rPr>
              <a:t>Сократ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>
            <a:lum bright="18000"/>
          </a:blip>
          <a:srcRect l="10462" t="2750" r="5558" b="9491"/>
          <a:stretch/>
        </p:blipFill>
        <p:spPr>
          <a:xfrm>
            <a:off x="0" y="0"/>
            <a:ext cx="2211480" cy="31622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 rot="21187200">
            <a:off x="623880" y="2952360"/>
            <a:ext cx="8424720" cy="22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ркомания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2520" y="433440"/>
            <a:ext cx="523872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Опиаты (героин, морфий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Вызывают сонливость, замедленное дыхание, сужение зрачк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Приводят к поражении печени, сердечно-сосудистой и дыхательной систем, к поражению мозг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46640" y="433440"/>
            <a:ext cx="3942000" cy="243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04840" y="3979800"/>
            <a:ext cx="4313160" cy="302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>
            <a:lum bright="12000"/>
          </a:blip>
          <a:srcRect l="6582" t="0" r="6582" b="9667"/>
          <a:stretch/>
        </p:blipFill>
        <p:spPr>
          <a:xfrm>
            <a:off x="5899320" y="3056040"/>
            <a:ext cx="39621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3840" y="123840"/>
            <a:ext cx="5238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Кокаин ( кокаин, «крек»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Вызывает возбужденное состояние, навязчивую словоохотливость, взволнованность, галлюцинации, расширенные зрач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Приводят к аритмии, психозам, поражению слизистой дыхательных путей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75160" y="123840"/>
            <a:ext cx="5102280" cy="3179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370480" y="4059360"/>
            <a:ext cx="5106960" cy="238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>
            <a:lum bright="12000"/>
          </a:blip>
          <a:srcRect l="0" t="0" r="17756" b="0"/>
          <a:stretch/>
        </p:blipFill>
        <p:spPr>
          <a:xfrm>
            <a:off x="0" y="4675320"/>
            <a:ext cx="53211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4840" y="123840"/>
            <a:ext cx="523872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Гашиш (гашиш, марихуана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Вызывает колебание настроения, замедленную реакцию, усиленный аппетит, сухость рта, расширенные зрач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Приводит к ухудшению памяти, повышению риска заболеваний онкологическими заболеваниями, поражению печени, повреждению головного мозг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0800" y="4675320"/>
            <a:ext cx="2762280" cy="246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720" y="4464000"/>
            <a:ext cx="3444840" cy="237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146640" y="279360"/>
            <a:ext cx="3321360" cy="432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71520" y="4998960"/>
            <a:ext cx="23241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95960" cy="81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Галлюциногены (ЛСД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ызывает возбуждение, бессонницу, галлюцинац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водит к нарушению координации, тяжелым поражениям мозга, депресс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Антидепрессанты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(снотворно – седативные средства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ызывает сонливость, заторможенность, слабое дыхание, расширенные зрач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водит к поражению головного мозга, сердечно – сосудистой системы, психозам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Стимуляторы (Амфетамин, «экстази»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ызывает возбудимость, повышенное потоотделение, сухость во рту, галлюцинации, расширенные зрач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водит к расстройству нервной системы, дыхательной системы, депрессиям, паранойям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128080" y="1282680"/>
            <a:ext cx="2349360" cy="164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394320" y="0"/>
            <a:ext cx="2362320" cy="163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954840" y="2948040"/>
            <a:ext cx="35226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4840" y="87840"/>
            <a:ext cx="102726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Формирование жизненных навык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мение отказываться от рискованных предложений, выражать правильно свои чувства, видеть положительные и отрицательные стороны   явлений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осознание негативных влияний, давлений со стороны други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звивать критическое мышле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звивать уверенность в себ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правлять своими чувств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крепление связи с семь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26160" y="2136600"/>
            <a:ext cx="5651280" cy="520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04840" y="2979720"/>
            <a:ext cx="40338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2520" y="269280"/>
            <a:ext cx="962640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480600" tIns="50760" bIns="600840" anchor="ctr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Уголовная ответственность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т. 228.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Незаконные изготовление, приобретение, хранение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перевозка, пересылка либо сбыт наркотических средств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т. 229.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Хищение либо вымогательство наркотических средств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либо психотропных средст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т. 230.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Склонение к потреблению наркотических средств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т. 231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Незаконное культивирование запрещенных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 возделыванию растений, содержащих наркотические веществ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Ч. 5 ст. 7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 лечении от наркоман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77440" cy="73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ческая справ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человека с наркотиками  состоялось тысячелетия назад. Люди каменного века знали гашиш, опиум, кокаин и использовали их для поднятия боевого духа перед боевыми действиями или на религиозных обряд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ерская цивилизация оставила на глиняных табличках (3500 г. до н.э.) самые ранние советы по приготовлению и употреблению опиума. Использование галлюциногенных грибов на религиозных ритуалах засвидетельствовано ранними источниками в Мексике, Скандинавии, Сибири. На стенах погребальных пещер индейцев Центральной Америки встречаются изображения людей, жующих листья коки (300 г. до н. э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700 года до н. э. В Китае уже использовали коноплю в виде настоя или чая. Император Шен Нунг предписывал своим подданным принимать этот чай в качестве лекарства от подагры и рассеянности, а от кашля и поноса предлагал использовать гашиш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петский папирус (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до н. э.) рекомендовал в качестве лечебного средства мак. В Греции 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до н. э. применялись настойки, в состав которых включались вино, мед и опиум. Аристотель, Геродот и Гален в своих трудах описывали действие наркотиков. Уже в древнеримские медики выяснили, что опиум может быть смертельным я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н. э. на Аравийском полуострове возник ислам, священная книга которого Коран запрещала употребление алкоголя, в связи с чем появились попытки заменить алкоголь опиумом. В конц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в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оносц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зли с Ближнего Востока в Европу опиум как средство одурманивания. Но благодаря средневековой инквизиции использование опиума притормозилось на несколько веков. Только в 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медицинскую практику был введен опий (Парацельс – известный медиум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05 году удалось выделить морфин, а в 1956 году появились шприцы и наркомания стала развиваться через уколы. В 1860 году немецкий химик Альберт Ниман получил активный алкалоид и назвал его кокаин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4 году немецкой фармацевтической компанией были разработаны экстази и МДА. Амфетамин был получен  в 1887 году, но лишь с 1935 года его начали использовать в медицинских целях. Синтетический вариант ЛСД был изготовлен в 1938 году в Женеве химиком Альбертом Хоффманом в терапевтических цел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издавна выращивались конопля и мак для производства многих вещей в хозяйстве. Распространение наркотиков началось в 60 – е годы, когда был снят «железный занавес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73480" y="665280"/>
            <a:ext cx="5403960" cy="61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еные не могут еще точно установить, как наркотики с такой быстротой включаются в обмен веществ человека и становятся необходимой составной частью него. Но уже доказано, что наркотики воздействуют на центр в головном мозге, который отвечает за «поощрение». При этом происходит выброс дофамина в кровь и человек чувствует возбужде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о наркотики отрицательно воздействуют на организм человека. Прежде всего, они снимают боль и снижают болевой порог чувстви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Это равносильно снятию «службы охра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4840" y="4135320"/>
            <a:ext cx="4621320" cy="304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8120" y="123840"/>
            <a:ext cx="72612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Влияние наркотиков на мозг человек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71520" y="973080"/>
            <a:ext cx="40417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9200" y="973080"/>
            <a:ext cx="48672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воздействуют на дыхательный центр и хеморецепторы, которые отвечают за количество кислорода в крови, не реагируют на углекислый газ и происходит кислородное голодание организма. Наркоманы часто умирают от паралича дыхательного центра в результате передозиров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также влияют на 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вой центр. Кашель – это защитная реакция нашего организма, но у наркоманов отключается защитный механизм кашля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99320" y="3132000"/>
            <a:ext cx="4373280" cy="408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88240" y="201600"/>
            <a:ext cx="2454120" cy="287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7280" y="279360"/>
            <a:ext cx="6107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Влияние на дыхательную систем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2520" y="1050840"/>
            <a:ext cx="462096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способствуют угнетению сосудодвигательного центра, а  следствие этого снижению кровяного давления и замедлению пульс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причине ухудшаются функции сердечно-сосудистой системы, функции всех клеток слабеют, и весь организм дряхлеет, как в стар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40489" t="0" r="-1251" b="4350"/>
          <a:stretch/>
        </p:blipFill>
        <p:spPr>
          <a:xfrm>
            <a:off x="5403960" y="0"/>
            <a:ext cx="4876560" cy="717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1520" y="279360"/>
            <a:ext cx="4619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Влияние на кровеносную систем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865080" y="4467240"/>
            <a:ext cx="37195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840" y="1050840"/>
            <a:ext cx="767376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угнетают механизмы регуляции пищеварения, у наркоманов притупляются все вкусовые и обонятельные ощущения, снижается аппетит, уменьшается выработка ферментов, желчи, желудочного и кишечного сок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2486160"/>
            <a:ext cx="4622760" cy="485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7280" y="2840040"/>
            <a:ext cx="42912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ища не в полной мере переваривается и усваивае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ркоманы обрекают себя на хроническое голодание  и имеют дефицит веса. Но также происходит и спазм гладкомышечной мускулатуры кишечника, что приводит  в длительным запорам (5 – 10 дней).И все это время в организме происходят процессы гниения и разлож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2520" y="279360"/>
            <a:ext cx="75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Влияние на пищеварительную систем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880400" y="0"/>
            <a:ext cx="18939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4840" y="1050840"/>
            <a:ext cx="7427880" cy="31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ркомании угнетаются половые потребности и возм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вушек развиваются атрофические процессы, и они не могут даже заниматься проституцией из-за потери необходимых для этого каче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юношей происходит быстрое угасание потен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ркоманов обычно не бывает детей, а среди родившихся часты случаи урод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9200" y="3979800"/>
            <a:ext cx="9239040" cy="308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7280" y="509760"/>
            <a:ext cx="7344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Влияние на репродуктивную функцию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467480" y="123840"/>
            <a:ext cx="2638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57120"/>
            <a:ext cx="10190160" cy="75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480600" tIns="50760" bIns="4806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в зависимости от воздействия на организм человека условно можно разделить на 2 группы: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буждающие и вызывающие депрессию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этом следу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в виду, что каждый из наркотиков обладает большим разнообразием скрытых свойств, по-разному влияющих на нервную систе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все наркотики и их действия делятся на следующие группы (разработано специалистами Всемирного общества здравоохранения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  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едативные я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успокаивающие психическую деятельность. Они сокращают вплоть до полного устранения функции возбудимости и восприятия, вводя человека в заблуждение, одаривая его букетом приятных состояний. Эти вещества (опиум и его алкалоиды, морфий, кодеин, кока и кокаин) изменяют мозговые фун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  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 галлюциногенные сред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ставленные большим числом веще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ого происхождения, очень разные по своему химическому     составу (мескалин из кактуса, индийская конопля, гашиш и прочие    тропеиновые растения). Все они вызывают церебральные возбуждения, выражающиеся в деформации ощущений, галлюцинациях, искажении восприятий, вид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  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ещества, легко получаемые путем химического синте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зывающие сперва церебральные возбуждения, а затем глубокую депрессию (алкоголь, эфир, хлороформ, бензин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  яды с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барбитураты, хлорал, сульфорол, кава-кава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стительные вещ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озбуждающие мозговую деятельность без немедленного влияния на психику; сила воздействия на разных лиц бывает разной (кофеин, табак, бетель и д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840" y="1898640"/>
            <a:ext cx="10477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25416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3600" y="0"/>
            <a:ext cx="51976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Классификация наркоти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1917" t="3779" r="2662" b="6397"/>
          <a:stretch/>
        </p:blipFill>
        <p:spPr>
          <a:xfrm>
            <a:off x="3094200" y="3568680"/>
            <a:ext cx="7383240" cy="3776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40" y="201600"/>
            <a:ext cx="3297240" cy="48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>
            <a:lum bright="12000"/>
          </a:blip>
          <a:srcRect l="0" t="4630" r="0" b="6539"/>
          <a:stretch/>
        </p:blipFill>
        <p:spPr>
          <a:xfrm>
            <a:off x="0" y="5418000"/>
            <a:ext cx="3094200" cy="192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442880" y="0"/>
            <a:ext cx="277812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083120" y="0"/>
            <a:ext cx="6394320" cy="341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1917" t="3779" r="2662" b="6397"/>
          <a:stretch/>
        </p:blipFill>
        <p:spPr>
          <a:xfrm>
            <a:off x="3094200" y="3568680"/>
            <a:ext cx="73832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2:02:01Z</dcterms:created>
  <dc:creator>COMP-2</dc:creator>
  <dc:description/>
  <dc:language>en-US</dc:language>
  <cp:lastModifiedBy>Малышева</cp:lastModifiedBy>
  <dcterms:modified xsi:type="dcterms:W3CDTF">2010-05-13T18:25:29Z</dcterms:modified>
  <cp:revision>34</cp:revision>
  <dc:subject/>
  <dc:title>Презентация PowerPoint</dc:title>
</cp:coreProperties>
</file>