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939-DBB5-4EA5-B7DF-BF65E83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94B-76A0-40C2-AE8A-6C7C93B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CDB-D7A4-4BE1-9910-B506C39F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E7F-180F-4359-A626-EED6339A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4B2-2DBB-4B07-939F-30C930A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702-A3E8-468D-9498-6213AD9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B66-F45F-4E4B-ABB7-394E0FD1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CB0-22E2-4A56-B695-4D0C2755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37F-9872-43D8-A7B5-B721A5DD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5ED-27B8-4515-8EAB-FD3D299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C43-630F-4022-A6B6-96ECB10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082-4AEE-40B0-81F4-DAEDAA5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2034-EAC3-449C-9C30-9ED445938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115920"/>
            <a:ext cx="662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d60093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d60093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BOOK2"/>
          <p:cNvPicPr/>
          <p:nvPr/>
        </p:nvPicPr>
        <p:blipFill>
          <a:blip r:embed="rId1"/>
          <a:stretch/>
        </p:blipFill>
        <p:spPr>
          <a:xfrm>
            <a:off x="7093080" y="189000"/>
            <a:ext cx="186984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87280" y="1557360"/>
            <a:ext cx="41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клас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0" y="2708280"/>
            <a:ext cx="8785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Част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реч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зные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, на который отвечает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 слово обозна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част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зные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, на который отвечает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 слово обозна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част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81520" cy="414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867280" y="0"/>
            <a:ext cx="3059280" cy="30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0" y="3789360"/>
            <a:ext cx="3095640" cy="25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2987640" y="1268280"/>
            <a:ext cx="387360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Рисунок2"/>
          <p:cNvPicPr/>
          <p:nvPr/>
        </p:nvPicPr>
        <p:blipFill>
          <a:blip r:embed="rId5"/>
          <a:stretch/>
        </p:blipFill>
        <p:spPr>
          <a:xfrm>
            <a:off x="6659640" y="3860640"/>
            <a:ext cx="2060640" cy="255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зные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, на который отвечает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 слово обозна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част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? Каки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81520" cy="414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867280" y="0"/>
            <a:ext cx="3059280" cy="305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789360"/>
            <a:ext cx="3095640" cy="25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2987640" y="1268280"/>
            <a:ext cx="3873600" cy="439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2"/>
          <p:cNvPicPr/>
          <p:nvPr/>
        </p:nvPicPr>
        <p:blipFill>
          <a:blip r:embed="rId5"/>
          <a:stretch/>
        </p:blipFill>
        <p:spPr>
          <a:xfrm>
            <a:off x="6659640" y="3860640"/>
            <a:ext cx="2060640" cy="255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зные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, на который отвечает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 слово обозна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част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Кака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? Каки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? Который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или порядок предметов при счё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19280" y="0"/>
            <a:ext cx="61419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39640" y="0"/>
            <a:ext cx="820908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зные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, на который отвечает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 слово обозна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част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? 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? Которы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или порядок предметов при счё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(с)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(с)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(с)дела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предм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2130480"/>
            <a:ext cx="89280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С_бака,   б_льшая, зв_зда,  б_жит,   три, дом,    лает,    яркая, двадца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Я и пять маленьких ребят  ушли с этого дв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2000" y="2997000"/>
            <a:ext cx="2674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чи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шие  територии  заняты бол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исунок2"/>
          <p:cNvPicPr/>
          <p:nvPr/>
        </p:nvPicPr>
        <p:blipFill>
          <a:blip r:embed="rId1"/>
          <a:stretch/>
        </p:blipFill>
        <p:spPr>
          <a:xfrm>
            <a:off x="3564000" y="3068640"/>
            <a:ext cx="26366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Я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и пять маленьких ребят  ушли с </a:t>
            </a:r>
            <a:r>
              <a:rPr b="0" i="1" lang="ru-RU" sz="4400" spc="-1" strike="noStrike">
                <a:solidFill>
                  <a:srgbClr val="008000"/>
                </a:solidFill>
                <a:latin typeface="Arial"/>
              </a:rPr>
              <a:t>этого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дв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12000" y="2997000"/>
            <a:ext cx="2674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чи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2862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228360" y="47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141080" y="1268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924360" y="47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5080" y="1268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0672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619640" y="47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ч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8000"/>
                </a:solidFill>
                <a:latin typeface="Arial"/>
              </a:rPr>
              <a:t>и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пять маленьких ребят  ушли </a:t>
            </a:r>
            <a:r>
              <a:rPr b="0" i="1" lang="ru-RU" sz="44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этого дв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12000" y="2997000"/>
            <a:ext cx="2674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чи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286236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28360" y="47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141080" y="1268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24360" y="47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5080" y="1268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341440" y="1268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619640" y="47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ч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2360" y="476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Я,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пять маленьких ребят  ушли этого дв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2000" y="2997000"/>
            <a:ext cx="2674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м.чи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2862360" cy="3816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28360" y="47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141080" y="1268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924360" y="47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пр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25080" y="1268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341440" y="1268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19640" y="47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м.ч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52360" y="476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днажды улитка медленно переползла через широкую доро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3384720" cy="382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днажды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улитка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дленно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переползла через широкую доро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3384720" cy="382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Части ре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755640" y="260280"/>
          <a:ext cx="770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70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Присяпала колявая калуш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.210 с.6 + правило с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Словарь: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тор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OOK2"/>
          <p:cNvPicPr/>
          <p:nvPr/>
        </p:nvPicPr>
        <p:blipFill>
          <a:blip r:embed="rId1"/>
          <a:stretch/>
        </p:blipFill>
        <p:spPr>
          <a:xfrm>
            <a:off x="3276720" y="4365720"/>
            <a:ext cx="252072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тним вечером мы пьём чай на тера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Рисунок3я"/>
          <p:cNvPicPr/>
          <p:nvPr/>
        </p:nvPicPr>
        <p:blipFill>
          <a:blip r:embed="rId1"/>
          <a:stretch/>
        </p:blipFill>
        <p:spPr>
          <a:xfrm>
            <a:off x="2843280" y="2852640"/>
            <a:ext cx="325440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Словарь: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тория,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OOK2"/>
          <p:cNvPicPr/>
          <p:nvPr/>
        </p:nvPicPr>
        <p:blipFill>
          <a:blip r:embed="rId1"/>
          <a:stretch/>
        </p:blipFill>
        <p:spPr>
          <a:xfrm>
            <a:off x="2843280" y="3716280"/>
            <a:ext cx="338292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Словарь: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тория,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са, 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р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ри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OOK2"/>
          <p:cNvPicPr/>
          <p:nvPr/>
        </p:nvPicPr>
        <p:blipFill>
          <a:blip r:embed="rId1"/>
          <a:stretch/>
        </p:blipFill>
        <p:spPr>
          <a:xfrm>
            <a:off x="2843280" y="3716280"/>
            <a:ext cx="338292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560" y="5229000"/>
            <a:ext cx="35290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Рисунок2"/>
          <p:cNvPicPr/>
          <p:nvPr/>
        </p:nvPicPr>
        <p:blipFill>
          <a:blip r:embed="rId1"/>
          <a:stretch/>
        </p:blipFill>
        <p:spPr>
          <a:xfrm>
            <a:off x="684360" y="1341360"/>
            <a:ext cx="339084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859280" y="476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олч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862520" y="98100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лак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150520" y="162864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148360" y="2205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5148360" y="292428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5078520" y="350028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и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5366520" y="4149720"/>
            <a:ext cx="10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5510880" y="4724280"/>
            <a:ext cx="7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653080" y="5373720"/>
            <a:ext cx="4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казка 1.mp2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19223E-007 L -0.00781 -0.73444 E">
                                      <p:cBhvr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5647E-006 L -4.44444E-006 -0.1887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01874E-006 L 3.33333E-006 -0.2098 E">
                                      <p:cBhvr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885E-006 L 3.33333E-006 0.21767 E">
                                      <p:cBhvr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2563E-006 L -0.00018 0.20727 E">
                                      <p:cBhvr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58709E-006 L -0.00087 -0.08258 E">
                                      <p:cBhvr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9063E-006 L -0.00139 -0.08258 E">
                                      <p:cBhvr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8776E-006 L 1.11022E-016 0.17835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91626E-006 L -2.77778E-007 0.7423 E">
                                      <p:cBhvr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4560" y="5229000"/>
            <a:ext cx="35290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Рисунок2"/>
          <p:cNvPicPr/>
          <p:nvPr/>
        </p:nvPicPr>
        <p:blipFill>
          <a:blip r:embed="rId1"/>
          <a:stretch/>
        </p:blipFill>
        <p:spPr>
          <a:xfrm>
            <a:off x="684360" y="1341360"/>
            <a:ext cx="3390840" cy="4213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5435640" y="2781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олч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511960" y="501336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лак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869440" y="443700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724360" y="1052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796000" y="54936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726160" y="22050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и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87240" y="3860640"/>
            <a:ext cx="10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227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302160" y="1628640"/>
            <a:ext cx="4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81520" cy="414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67280" y="0"/>
            <a:ext cx="3059280" cy="305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3789360"/>
            <a:ext cx="309564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2987640" y="1268280"/>
            <a:ext cx="3873600" cy="439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Рисунок2"/>
          <p:cNvPicPr/>
          <p:nvPr/>
        </p:nvPicPr>
        <p:blipFill>
          <a:blip r:embed="rId5"/>
          <a:stretch/>
        </p:blipFill>
        <p:spPr>
          <a:xfrm>
            <a:off x="6659640" y="3860640"/>
            <a:ext cx="2060640" cy="255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00:32Z</dcterms:created>
  <dc:creator>NT Computer</dc:creator>
  <dc:description/>
  <dc:language>en-US</dc:language>
  <cp:lastModifiedBy>VeselkinaSN</cp:lastModifiedBy>
  <dcterms:modified xsi:type="dcterms:W3CDTF">2011-01-25T16:00:40Z</dcterms:modified>
  <cp:revision>11</cp:revision>
  <dc:subject/>
  <dc:title>Слайд 1</dc:title>
</cp:coreProperties>
</file>