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13.gif" ContentType="image/gif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DEA-50D3-49AA-BB34-4EFD9A87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300-940B-42C2-B7E8-2C1BC2B4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10B-7760-47A6-ABB7-81466743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A7C-E591-4651-A053-BDECF63C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910-D249-44C2-AEDF-24484B31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D5E-D015-4422-A4E3-21DF4F5D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759-3EF5-4401-9E91-F14CAECC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F15-9A4A-4E52-9DCA-8333EC8A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BEA-CD5A-43B3-8CF8-1C07B766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C71-A3C8-409F-944A-E09C9EE1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D6C9-86FF-41DF-AC80-391A5700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C9C-E69F-4B57-AE33-23734529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39A2-0BA7-4EA3-9901-CD93DEB1B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6840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a_AlbionicTitulCmWb"/>
              </a:rPr>
              <a:t>математика + русский язы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4360" y="476280"/>
            <a:ext cx="763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грированный урок</a:t>
            </a:r>
            <a:endParaRPr b="0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032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_AlbionicTitulCmW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_AlbionicTitulCmWb"/>
              </a:rPr>
              <a:t>Уровень А – работает с учите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ять простейшие преобразования выра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ть правильно записывать числительные пропис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65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65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65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09880" cy="4762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7280" y="1268280"/>
            <a:ext cx="45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_AlbionicTitulCmW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_AlbionicTitulCmWb"/>
              </a:rPr>
              <a:t>Уровень Б – работают самостоятель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меть преобразовывать выражения, на конструктивном уровне, с самопроверкой и самооценк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чащиеся должны выполнять частичный комплексный анализ текста; употреблять числительные в правильной форме, грамотно их записыва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ксты – отрывки из забавных стихотворений Ванды Хотом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8000" y="1557360"/>
            <a:ext cx="4762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ть у нас 3 сес3ц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 не знаете 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бы мне ухи3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казать о тро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одной, что в С3ж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д окошком жил с3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3чь она мастериц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ходи к ней, малыш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835280" y="333360"/>
            <a:ext cx="5338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про100го 100рож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про100рный д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а100 в нем 100но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одит под 100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рожит 100но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100тою н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100личной вакс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истит 100 сап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ме100 двух не про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стить все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азу 100лько обу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носил никт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254016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семерых братьев по одной сестрице. Много ли сестер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ли столбцом: сын с отцом да сын с внуком. Сколько и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ли две матери с дочерью да бабушка с внучкой; нашли полтора пирога. Помногу ли досталос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еобычные задач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гад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ходили 12 молодцев, выносили 52 сокола, выпускали триста шестьдесят пять лебедей. Что эт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двух матерей по пяти сыновей, одно имя вс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есть ног, две головы, один хвост – что это тако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тыре брата бегут, бегут, друг друга не догоня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тыре братца под одним шатром стоя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75044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39935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5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9640" y="1998720"/>
          <a:ext cx="8064720" cy="4094280"/>
        </p:xfrm>
        <a:graphic>
          <a:graphicData uri="http://schemas.openxmlformats.org/drawingml/2006/table">
            <a:tbl>
              <a:tblPr/>
              <a:tblGrid>
                <a:gridCol w="1613160"/>
                <a:gridCol w="1612800"/>
                <a:gridCol w="1612800"/>
                <a:gridCol w="1612800"/>
                <a:gridCol w="16131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И учащихс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и тес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мооценка учащихс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ка учител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вая оцен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йнетдинов Р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исимов Д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исимов П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зулькова 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лобин И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злёнкова Д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0" y="537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оценка деятельности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627280" y="2349360"/>
            <a:ext cx="3362400" cy="3762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900000" y="476280"/>
            <a:ext cx="6336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2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50000">
                      <a:srgbClr val="ffff66"/>
                    </a:gs>
                    <a:gs pos="100000">
                      <a:srgbClr val="99cc00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2844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50000">
                    <a:srgbClr val="ffff66"/>
                  </a:gs>
                  <a:gs pos="100000">
                    <a:srgbClr val="99cc00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957320" cy="270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826920" y="836640"/>
            <a:ext cx="6913800" cy="37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9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ccff99"/>
                    </a:gs>
                    <a:gs pos="100000">
                      <a:srgbClr val="ffcc99"/>
                    </a:gs>
                  </a:gsLst>
                  <a:lin ang="8100000"/>
                </a:gradFill>
                <a:latin typeface="Arial"/>
              </a:rPr>
              <a:t>В стране</a:t>
            </a:r>
            <a:endParaRPr b="1" lang="en-US" sz="1800" spc="1" strike="noStrike">
              <a:ln w="1908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50000">
                    <a:srgbClr val="ccff99"/>
                  </a:gs>
                  <a:gs pos="100000">
                    <a:srgbClr val="ffcc99"/>
                  </a:gs>
                </a:gsLst>
                <a:lin ang="81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ccff99"/>
                    </a:gs>
                    <a:gs pos="100000">
                      <a:srgbClr val="ffcc99"/>
                    </a:gs>
                  </a:gsLst>
                  <a:lin ang="8100000"/>
                </a:gradFill>
                <a:latin typeface="Arial"/>
              </a:rPr>
              <a:t>невыученных</a:t>
            </a:r>
            <a:endParaRPr b="1" lang="en-US" sz="1800" spc="1" strike="noStrike">
              <a:ln w="1908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50000">
                    <a:srgbClr val="ccff99"/>
                  </a:gs>
                  <a:gs pos="100000">
                    <a:srgbClr val="ffcc99"/>
                  </a:gs>
                </a:gsLst>
                <a:lin ang="81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ccff99"/>
                    </a:gs>
                    <a:gs pos="100000">
                      <a:srgbClr val="ffcc99"/>
                    </a:gs>
                  </a:gsLst>
                  <a:lin ang="8100000"/>
                </a:gradFill>
                <a:latin typeface="Arial"/>
              </a:rPr>
              <a:t>уроков</a:t>
            </a:r>
            <a:endParaRPr b="1" lang="en-US" sz="1800" spc="1" strike="noStrike">
              <a:ln w="1908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ffcc99"/>
                  </a:gs>
                  <a:gs pos="50000">
                    <a:srgbClr val="ccff99"/>
                  </a:gs>
                  <a:gs pos="100000">
                    <a:srgbClr val="ffcc99"/>
                  </a:gs>
                </a:gsLst>
                <a:lin ang="8100000"/>
              </a:gradFill>
              <a:latin typeface="Arial"/>
              <a:ea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356000" y="3860640"/>
            <a:ext cx="288000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Какое числительное в одном из косвенных падежей пишется с тремя 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6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80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Какие числительные склоняются так же, как и прилагательны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дробные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собирательные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порядков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Числительные 40, 90, 100 в косвенных падежах имеют окончани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–о-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–а-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как у прилагате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ыполнить действие:  - 38 - 2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сумма минус тридцати восьми и минус двадцати двух равна минус шестидесяти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сумма минус тридцать восемь и минус двадцать два равна минус шестидесят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разность минус тридцати восьми и минус двадцати двух равна минус шестнадц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Выполнить действие: 5,6 – 8,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из пяти целых шести десятых вычесть восемь целых восемь десятых равно минус три целых две десятых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разность пяти целых шести десятых и восьми целых восьми десятых равна  три целых две десятых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из пять целых шесть десятых вычесть восемь целых восемь десятых равно минус три целых две десятых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Сравнить  -     и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минус четыре десятых больше минус три пятых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 минус четыре десятых меньше минус трех пятых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дробь минус четыре десятых больше дроби минус три пят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56000" y="3500280"/>
            <a:ext cx="309600" cy="606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92360" y="3500280"/>
            <a:ext cx="20664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Вычис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произведение три восьмых и шестнадцать двадцать первых равно две седьмых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произведение трех восьмых и шестнадцати двадцать первых равно двум седьмым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три восьмых умножить на шестнадцать двадцать первых равно  четырем седьм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Вычисл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 квадрат пяти седьмых равен десяти четырнадцатым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) квадрат пять седьмых равен двадцать пять сорок девяти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) пять седьмых в квадрате равно двадцать пять сорок девят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56000" y="3284640"/>
            <a:ext cx="6350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_AlbionicTitulCmWb"/>
              </a:rPr>
              <a:t>Ключ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6777720" cy="1467360"/>
        </p:xfrm>
        <a:graphic>
          <a:graphicData uri="http://schemas.openxmlformats.org/drawingml/2006/table">
            <a:tbl>
              <a:tblPr/>
              <a:tblGrid>
                <a:gridCol w="847800"/>
                <a:gridCol w="846360"/>
                <a:gridCol w="848160"/>
                <a:gridCol w="846360"/>
                <a:gridCol w="847800"/>
                <a:gridCol w="846720"/>
                <a:gridCol w="847800"/>
                <a:gridCol w="846720"/>
              </a:tblGrid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268360" y="3429000"/>
            <a:ext cx="3527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ошиб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–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2 ошиб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– 4 ошиб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ше 4 ошибо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96000" y="3716280"/>
            <a:ext cx="14936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090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дактическ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умений и навыков, учащихся по теме: «Сложение и вычитание положительных и отрицательных чисел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умений правильно употреблять числительные в устной и письменной речи, повторение изученного материала по теме «Имя числительно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ез межпредметные связи воспитывать ученика как всесторонне развитую лично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ть умение преодолевать сложности, «воспитывать характер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ез сотрудничество предметов к взаимопониманию, взаимопомощи, взаимовыруч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зать взаимосвязь (точки соприкосновения) между предметами для формирования целостной картины ми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енствовать умение учеников планировать учебную деятельность по закреплению предметных знаний и умений их применять в сходных ситуациях или частично изменённых ситуац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770436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5846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2:22:01Z</dcterms:created>
  <dc:creator>20</dc:creator>
  <dc:description/>
  <dc:language>en-US</dc:language>
  <cp:lastModifiedBy>Vlad</cp:lastModifiedBy>
  <dcterms:modified xsi:type="dcterms:W3CDTF">2011-04-30T09:31:24Z</dcterms:modified>
  <cp:revision>9</cp:revision>
  <dc:subject/>
  <dc:title>Слайд 1</dc:title>
</cp:coreProperties>
</file>