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277-6D52-447F-89F3-782078B2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153-092C-4F60-842A-DBFB4433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428-4C72-486C-82CD-A8D963DD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AD7-A990-4E57-9AA4-A507B342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AC1-1800-4ED9-8E96-F042BA99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381-E6F3-44BA-8AB1-737A4561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E5C-1416-4D01-89FB-C1172363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C7C-DF54-4C5C-9E33-F705BB5F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538-5585-4B6E-BB7C-29F7DDB3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3F3-10DC-43E4-8E46-B1A6855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7EA-EA78-4F77-B06F-9FDC25C6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206-1EC8-438A-B0B7-6DD2E591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0CDE-AE02-46E1-8648-9CF5950D9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ello_front_side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ru.wikipedia.org/wiki/&#1060;&#1072;&#1081;&#1083;:Mstislav_Rostropovich_1978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GK_bass1_full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ru.wikipedia.org/wiki/&#1060;&#1072;&#1081;&#1083;:Orquesta_Filarmonica_de_Jalisco.jpg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E6%E8%E2%EE%F2%ED%FB%E5%20%EA%E0%F0%F2%E8%ED%EA%E8%20%EA%F0%E0%F1%E8%E2%FB%E5&amp;imsrc=http%3A%2F%2Fwww.zveryshki.ru%2Fuploads%2Fposts%2F2008-02%2Fthumbs%2F1202418634_7.jpg&amp;rch=e&amp;jsa=1&amp;sf=0&amp;cf=1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go.mail.ru/frame.html?q=%E6%E8%E2%EE%F2%ED%FB%E5%20%EA%E0%F0%F2%E8%ED%EA%E8%20%EA%F0%E0%F1%E8%E2%FB%E5&amp;imsrc=http%3A%2F%2Fwww.zveryshki.ru%2Fuploads%2Fposts%2F2008-02%2Fthumbs%2F1202418634_7.jpg&amp;rch=e&amp;jsa=1&amp;sf=0&amp;cf=1&amp;is=0&amp;type=al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go.mail.ru/frame.html?q=%EA%F3%F0%E8%F6%FB%20%E8%20%EF%E5%F2%F3%F5&amp;imsrc=http%3A%2F%2Fpets.cveti-sadi.ru%2Ffiles%2F2009%2F03%2Ffaverol3.jpg&amp;rch=e&amp;jsa=1&amp;sf=0&amp;cf=10&amp;is=0&amp;type=al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go.mail.ru/frame.html?q=%C0%ED%F2%E8%EB%EE%EF%FB&amp;imsrc=http%3A%2F%2Fwww.apus.ru%2Fim.xp%2F049050053048056055056054057.jpg&amp;rch=e&amp;jsa=1&amp;sf=0&amp;cf=1&amp;is=0&amp;type=all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go.mail.ru/frame.html?q=%D7%E5%F0%E5%EF%E0%F5%E8&amp;imsrc=http%3A%2F%2Fwww.povodok.ru%2Fpics%2Fart68%2Fart6799_0.jpg&amp;rch=e&amp;jsa=1&amp;sf=0&amp;cf=14&amp;is=0&amp;type=all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go.mail.ru/frame.html?q=%D1%EB%EE%ED%FB&amp;imsrc=http%3A%2F%2Fwww.biology-blog.com%2Fimages%2Fblogs%2F3-2007%2Fthe-majestic-elephants-of-southern.jpg&amp;rch=e&amp;jsa=1&amp;sf=0&amp;cf=6&amp;is=0&amp;type=all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go.mail.ru/frame.html?q=%CA%E5%ED%E3%F3%F0%F3&amp;imsrc=http%3A%2F%2Fwww.floranimal.ru%2Fpages%2Fanimal%2Fk%2F2599.jpg&amp;rch=e&amp;jsa=1&amp;sf=0&amp;cf=2&amp;is=0&amp;type=all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go.mail.ru/frame.html?q=%C0%EA%E2%E0%F0%E8%F3%EC&amp;imsrc=http%3A%2F%2Fimg12.nnm.ru%2F2%2F4%2F0%2F6%2Fa%2F2406a347e2313c6ed03df4928472560b_full.jpg&amp;rch=e&amp;jsa=1&amp;sf=0&amp;cf=14&amp;is=0&amp;type=all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go.mail.ru/frame.html?q=%CE%F1%E5%EB&amp;imsrc=http%3A%2F%2Fedwardkhoo.com%2Fwp-content%2Fuploads%2F2008%2F05%2Fdonkey.png&amp;rch=e&amp;jsa=1&amp;sf=0&amp;cf=9&amp;is=0&amp;type=all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go.mail.ru/frame.html?q=%CA%F3%EA%F3%F8%EA%E0&amp;imsrc=http%3A%2F%2Fwww.deti.religiousbook.org.ua%2Fimg%2Fkukushka.jpg&amp;rch=e&amp;jsa=1&amp;sf=0&amp;cf=17&amp;is=0&amp;type=all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go.mail.ru/frame.html?q=%EF%F2%E8%F7%ED%E8%EA%E8%20%F4%EE%F2%EE&amp;imsrc=http%3A%2F%2Fwww.aspolymer.ru%2Fimages%2Fchick.jpg&amp;rch=e&amp;jsa=1&amp;sf=0&amp;cf=3&amp;is=0&amp;type=all" TargetMode="External"/><Relationship Id="rId22" Type="http://schemas.openxmlformats.org/officeDocument/2006/relationships/image" Target="../media/image12.jpeg"/><Relationship Id="rId23" Type="http://schemas.openxmlformats.org/officeDocument/2006/relationships/hyperlink" Target="http://go.mail.ru/frame.html?q=%EB%E5%E1%E5%E4%FC&amp;imsrc=http%3A%2F%2Forakul.com%2Fimg%2Fb-zoro%2Fimage044.jpg&amp;rch=e&amp;jsa=1&amp;sf=0&amp;cf=8&amp;is=0&amp;type=all" TargetMode="External"/><Relationship Id="rId24" Type="http://schemas.openxmlformats.org/officeDocument/2006/relationships/image" Target="../media/image13.jpeg"/><Relationship Id="rId25" Type="http://schemas.openxmlformats.org/officeDocument/2006/relationships/hyperlink" Target="http://go.mail.ru/frame.html?q=%E6%E8%E2%EE%F2%ED%FB%E5%20%EA%E0%F0%F2%E8%ED%EA%E8%20%EA%F0%E0%F1%E8%E2%FB%E5&amp;imsrc=http%3A%2F%2Fwww.zveryshki.ru%2Fuploads%2Fposts%2F2008-02%2Fthumbs%2F1202418634_7.jpg&amp;rch=e&amp;jsa=1&amp;sf=0&amp;cf=1&amp;is=0&amp;type=all" TargetMode="External"/><Relationship Id="rId26" Type="http://schemas.openxmlformats.org/officeDocument/2006/relationships/image" Target="../media/image3.jpeg"/><Relationship Id="rId27" Type="http://schemas.openxmlformats.org/officeDocument/2006/relationships/hyperlink" Target="http://go.mail.ru/frame.html?q=%EA%F3%F0%E8%F6%FB%20%E8%20%EF%E5%F2%F3%F5&amp;imsrc=http%3A%2F%2Fpets.cveti-sadi.ru%2Ffiles%2F2009%2F03%2Ffaverol3.jpg&amp;rch=e&amp;jsa=1&amp;sf=0&amp;cf=10&amp;is=0&amp;type=all" TargetMode="External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Flute_player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ru.wikipedia.org/wiki/&#1060;&#1072;&#1081;&#1083;:Flute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ennyGoodmanStageDoorCanteen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ru.wikipedia.org/wiki/&#1060;&#1072;&#1081;&#1083;:Clarinet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Glassharmonica.png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ru.wikipedia.org/wiki/&#1060;&#1072;&#1081;&#1083;:BlochGlassHarmonica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Xylophone_(PSF).png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ru.wikipedia.org/wiki/&#1060;&#1072;&#1081;&#1083;:Kulintang_a_Kayo_01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274.jpg" TargetMode="External"/><Relationship Id="rId2" Type="http://schemas.openxmlformats.org/officeDocument/2006/relationships/image" Target="../media/image23.png"/><Relationship Id="rId3" Type="http://schemas.openxmlformats.org/officeDocument/2006/relationships/hyperlink" Target="http://ru.wikipedia.org/wiki/&#1060;&#1072;&#1081;&#1083;:Vertical_piano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ru.wikipedia.org/wiki/&#1060;&#1072;&#1081;&#1083;:MIM_Lyraklavier_CN4100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iolin_VL100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ru.wikipedia.org/wiki/&#1060;&#1072;&#1081;&#1083;:Edmund_Hellmer-Johann_Strauss_II-Stadtpark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ru.wikipedia.org/wiki/&#1060;&#1072;&#1081;&#1083;:Niccolo_Paganini01.jpg" TargetMode="External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миль Сен-Санс (Saint-Saens)"/>
          <p:cNvPicPr/>
          <p:nvPr/>
        </p:nvPicPr>
        <p:blipFill>
          <a:blip r:embed="rId1"/>
          <a:stretch/>
        </p:blipFill>
        <p:spPr>
          <a:xfrm>
            <a:off x="395280" y="907920"/>
            <a:ext cx="4346640" cy="576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003640" y="1628640"/>
            <a:ext cx="3889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ль Камиль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н-Сан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796000" y="4869000"/>
            <a:ext cx="22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835-192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260280"/>
            <a:ext cx="4905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анцузский композито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4125960" cy="626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2924280"/>
            <a:ext cx="3078360" cy="3698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284720" y="404640"/>
            <a:ext cx="39891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олончел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333360"/>
            <a:ext cx="4497120" cy="6335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Orquesta Filarmonica de Jalisc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3659040"/>
            <a:ext cx="2592360" cy="2476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84360" y="98100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траба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Сен-Санс (Карнавал животных)"/>
          <p:cNvPicPr/>
          <p:nvPr/>
        </p:nvPicPr>
        <p:blipFill>
          <a:blip r:embed="rId1"/>
          <a:stretch/>
        </p:blipFill>
        <p:spPr>
          <a:xfrm>
            <a:off x="1258920" y="26028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4020120"/>
            <a:ext cx="35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далекой пустын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ила Черепаха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ыла Черепах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ая неряха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дила в одежд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мятой и рваной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пользуяс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 туалетом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 ванной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18160" y="4077000"/>
            <a:ext cx="240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ть часто менял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ряд Черепаха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быстро рвалас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рубахой рубаха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гда это дело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сем надоело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зяла Черепаха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панцирь надел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8880" y="3471120"/>
            <a:ext cx="275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тех пор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к и ползает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видом угрюмым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панцирь ей служит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дежным костюмом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мнется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рвется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ё время на месте –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целых сто лет..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даже на двести!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580000" y="692280"/>
            <a:ext cx="295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репах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19640" y="3284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74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Сен-Санс"/>
          <p:cNvPicPr/>
          <p:nvPr/>
        </p:nvPicPr>
        <p:blipFill>
          <a:blip r:embed="rId1"/>
          <a:stretch/>
        </p:blipFill>
        <p:spPr>
          <a:xfrm>
            <a:off x="250920" y="981000"/>
            <a:ext cx="4081320" cy="5237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816360" cy="2792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435640" y="765000"/>
            <a:ext cx="25336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бед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3552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Камиль Сен-Санс. Карнавал животных Четырнадцать музыкальных тем-образов &quot;Карнавала&quot; в сопровождении мультипликации и с интересными комментариями перенесут вашего малыша в чудесный мир классической музыки, научат его не только слушать, но и слышать прекрасно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333360"/>
            <a:ext cx="5400720" cy="4341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89000"/>
            <a:ext cx="105732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177336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3213000"/>
            <a:ext cx="1524240" cy="1400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4941720"/>
            <a:ext cx="1523880" cy="1190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79640" y="51577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64000" y="51577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364000" y="5157720"/>
            <a:ext cx="1872000" cy="142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380360" y="50133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667640" y="3213000"/>
            <a:ext cx="119052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667640" y="1557360"/>
            <a:ext cx="132408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7620120" y="189000"/>
            <a:ext cx="1523880" cy="1076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95280" y="189000"/>
            <a:ext cx="105732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250920" y="177336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9"/>
          <a:stretch/>
        </p:blipFill>
        <p:spPr>
          <a:xfrm>
            <a:off x="250920" y="1773360"/>
            <a:ext cx="1523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189000"/>
            <a:ext cx="820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ролевский марш льв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2897280" cy="417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81200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705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125360"/>
            <a:ext cx="3744720" cy="34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013360"/>
            <a:ext cx="9204480" cy="111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940360" y="692280"/>
            <a:ext cx="23734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лей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3500280"/>
            <a:ext cx="3489480" cy="261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изображени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434880"/>
            <a:ext cx="789120" cy="6423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067280" y="836640"/>
            <a:ext cx="35528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арн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997360"/>
            <a:ext cx="3529080" cy="3031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1413000"/>
            <a:ext cx="3593880" cy="4752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95280" y="549360"/>
            <a:ext cx="4851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еклянная гармо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700280"/>
            <a:ext cx="4752720" cy="183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643200"/>
            <a:ext cx="3824280" cy="286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580000" y="476280"/>
            <a:ext cx="28972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силоф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852640"/>
            <a:ext cx="4681440" cy="351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Vertical pian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484280"/>
            <a:ext cx="3016440" cy="2262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MIM Lyraklavier CN41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3933720"/>
            <a:ext cx="1770120" cy="2656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55640" y="404640"/>
            <a:ext cx="4464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тепиан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3313080" cy="521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860640"/>
            <a:ext cx="3461040" cy="2602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68960" y="981000"/>
            <a:ext cx="2298600" cy="266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835280" y="620640"/>
            <a:ext cx="3240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рип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08:02:24Z</dcterms:created>
  <dc:creator>Хозяин</dc:creator>
  <dc:description/>
  <dc:language>en-US</dc:language>
  <cp:lastModifiedBy>Adel</cp:lastModifiedBy>
  <dcterms:modified xsi:type="dcterms:W3CDTF">2011-03-25T19:26:35Z</dcterms:modified>
  <cp:revision>10</cp:revision>
  <dc:subject/>
  <dc:title>Слайд 1</dc:title>
</cp:coreProperties>
</file>