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52.wmf" ContentType="image/x-wmf"/>
  <Override PartName="/ppt/media/image2.jpeg" ContentType="image/jpeg"/>
  <Override PartName="/ppt/media/image36.jpeg" ContentType="image/jpeg"/>
  <Override PartName="/ppt/media/image3.gif" ContentType="image/gif"/>
  <Override PartName="/ppt/media/image19.jpeg" ContentType="image/jpeg"/>
  <Override PartName="/ppt/media/image42.jpeg" ContentType="image/jpeg"/>
  <Override PartName="/ppt/media/image6.wmf" ContentType="image/x-wmf"/>
  <Override PartName="/ppt/media/image47.jpeg" ContentType="image/jpeg"/>
  <Override PartName="/ppt/media/image17.jpeg" ContentType="image/jpeg"/>
  <Override PartName="/ppt/media/image11.wmf" ContentType="image/x-wmf"/>
  <Override PartName="/ppt/media/image50.png" ContentType="image/png"/>
  <Override PartName="/ppt/media/image4.png" ContentType="image/png"/>
  <Override PartName="/ppt/media/image12.jpeg" ContentType="image/jpeg"/>
  <Override PartName="/ppt/media/image37.jpeg" ContentType="image/jpeg"/>
  <Override PartName="/ppt/media/image8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39.jpeg" ContentType="image/jpeg"/>
  <Override PartName="/ppt/media/image48.jpeg" ContentType="image/jpeg"/>
  <Override PartName="/ppt/media/image46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53.gif" ContentType="image/gif"/>
  <Override PartName="/ppt/media/image54.jpeg" ContentType="image/jpeg"/>
  <Override PartName="/ppt/media/image49.wmf" ContentType="image/x-wmf"/>
  <Override PartName="/ppt/media/image55.jpeg" ContentType="image/jpeg"/>
  <Override PartName="/ppt/media/image34.jpeg" ContentType="image/jpeg"/>
  <Override PartName="/ppt/media/image28.jpeg" ContentType="image/jpeg"/>
  <Override PartName="/ppt/media/image56.jpeg" ContentType="image/jpeg"/>
  <Override PartName="/ppt/media/image33.jpeg" ContentType="image/jpeg"/>
  <Override PartName="/ppt/media/image57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8.jpeg" ContentType="image/jpeg"/>
  <Override PartName="/ppt/media/image7.jpeg" ContentType="image/jpeg"/>
  <Override PartName="/ppt/media/image5.gif" ContentType="image/gif"/>
  <Override PartName="/ppt/media/image41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9B9E-4D17-431A-815A-35DE64B2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4F44-196E-4709-B102-7829BBC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DB05-51ED-439A-B30C-135F8405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0D8-785A-4543-B977-ACAF99BD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408-AB79-4BE3-A3DA-E112BFE7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836-172D-494B-B983-AF755D5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817-4A1A-409C-A08C-DBE6938D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F9C-A76C-415D-AF57-3DAA73DC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E6C4-0F20-4579-913F-C6D42712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DB29-7DFD-4A50-AE32-89869E2B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95D-2652-48CF-BFC8-EA364F1B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405-9010-4A37-9032-D0C2013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D1CD-1A70-45FC-BAF2-46FF94192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gif"/><Relationship Id="rId3" Type="http://schemas.openxmlformats.org/officeDocument/2006/relationships/image" Target="../media/image52.wmf"/><Relationship Id="rId4" Type="http://schemas.openxmlformats.org/officeDocument/2006/relationships/image" Target="../media/image52.wmf"/><Relationship Id="rId5" Type="http://schemas.openxmlformats.org/officeDocument/2006/relationships/image" Target="../media/image53.gi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7.wmf"/><Relationship Id="rId3" Type="http://schemas.openxmlformats.org/officeDocument/2006/relationships/image" Target="../media/image57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8893080" cy="658188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1042920" y="189000"/>
            <a:ext cx="7201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Der Valentinstag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9640" y="4437000"/>
            <a:ext cx="8209080" cy="22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St. Valentine`s Day</a:t>
            </a:r>
            <a:endParaRPr b="1" lang="en-US" sz="1800" spc="1" strike="noStrike">
              <a:ln w="28440">
                <a:solidFill>
                  <a:srgbClr val="ffff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358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</p:spTree>
  </p:cSld>
  <p:transition spd="med" advTm="3000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340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</p:spTree>
  </p:cSld>
  <p:transition spd="med"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190440">
            <a:solidFill>
              <a:srgbClr val="ff0066"/>
            </a:solidFill>
            <a:miter/>
          </a:ln>
        </p:spPr>
      </p:pic>
    </p:spTree>
  </p:cSld>
  <p:transition spd="med" advTm="3000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09440"/>
            <a:ext cx="8785440" cy="6613560"/>
          </a:xfrm>
          <a:prstGeom prst="rect">
            <a:avLst/>
          </a:prstGeom>
          <a:ln w="190440">
            <a:solidFill>
              <a:srgbClr val="ff0066"/>
            </a:solidFill>
            <a:miter/>
          </a:ln>
        </p:spPr>
      </p:pic>
    </p:spTree>
  </p:cSld>
  <p:transition spd="med" advTm="3000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190440">
            <a:solidFill>
              <a:srgbClr val="0000ff"/>
            </a:solidFill>
            <a:miter/>
          </a:ln>
        </p:spPr>
      </p:pic>
    </p:spTree>
  </p:cSld>
  <p:transition spd="med" advTm="3000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535800"/>
          </a:xfrm>
          <a:prstGeom prst="rect">
            <a:avLst/>
          </a:prstGeom>
          <a:ln w="190440">
            <a:solidFill>
              <a:srgbClr val="00ff00"/>
            </a:solidFill>
            <a:miter/>
          </a:ln>
        </p:spPr>
      </p:pic>
    </p:spTree>
  </p:cSld>
  <p:transition spd="med" advTm="3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190440">
            <a:solidFill>
              <a:srgbClr val="00ff00"/>
            </a:solidFill>
            <a:miter/>
          </a:ln>
        </p:spPr>
      </p:pic>
    </p:spTree>
  </p:cSld>
  <p:transition spd="med" advTm="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523200"/>
          </a:xfrm>
          <a:prstGeom prst="rect">
            <a:avLst/>
          </a:prstGeom>
          <a:ln w="190440">
            <a:solidFill>
              <a:srgbClr val="000000"/>
            </a:solidFill>
            <a:miter/>
          </a:ln>
        </p:spPr>
      </p:pic>
    </p:spTree>
  </p:cSld>
  <p:transition spd="med" advTm="3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190440">
            <a:solidFill>
              <a:srgbClr val="009900"/>
            </a:solidFill>
            <a:miter/>
          </a:ln>
        </p:spPr>
      </p:pic>
    </p:spTree>
  </p:cSld>
  <p:transition spd="med" advTm="3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4680"/>
          </a:xfrm>
          <a:prstGeom prst="rect">
            <a:avLst/>
          </a:prstGeom>
          <a:ln w="190440">
            <a:solidFill>
              <a:srgbClr val="00ffff"/>
            </a:solidFill>
            <a:miter/>
          </a:ln>
        </p:spPr>
      </p:pic>
    </p:spTree>
  </p:cSld>
  <p:transition spd="med" advTm="3000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3680">
            <a:solidFill>
              <a:srgbClr val="ffff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00360" y="549360"/>
            <a:ext cx="540072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190440">
            <a:solidFill>
              <a:srgbClr val="00ffff"/>
            </a:solidFill>
            <a:miter/>
          </a:ln>
        </p:spPr>
      </p:pic>
    </p:spTree>
  </p:cSld>
  <p:transition spd="med" advTm="3000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5760"/>
            <a:ext cx="8785440" cy="6481800"/>
          </a:xfrm>
          <a:prstGeom prst="rect">
            <a:avLst/>
          </a:prstGeom>
          <a:ln w="190440">
            <a:solidFill>
              <a:srgbClr val="000000"/>
            </a:solidFill>
            <a:miter/>
          </a:ln>
        </p:spPr>
      </p:pic>
    </p:spTree>
  </p:cSld>
  <p:transition spd="med" advTm="3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37600"/>
          </a:xfrm>
          <a:prstGeom prst="rect">
            <a:avLst/>
          </a:prstGeom>
          <a:ln w="190440">
            <a:solidFill>
              <a:srgbClr val="000000"/>
            </a:solidFill>
            <a:miter/>
          </a:ln>
        </p:spPr>
      </p:pic>
    </p:spTree>
  </p:cSld>
  <p:transition spd="med" advTm="3000"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50840"/>
            <a:ext cx="8785440" cy="6522840"/>
          </a:xfrm>
          <a:prstGeom prst="rect">
            <a:avLst/>
          </a:prstGeom>
          <a:ln w="190440">
            <a:solidFill>
              <a:srgbClr val="ff9900"/>
            </a:solidFill>
            <a:miter/>
          </a:ln>
        </p:spPr>
      </p:pic>
    </p:spTree>
  </p:cSld>
  <p:transition spd="med" advTm="3000"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187200"/>
            <a:ext cx="8785440" cy="6483600"/>
          </a:xfrm>
          <a:prstGeom prst="rect">
            <a:avLst/>
          </a:prstGeom>
          <a:ln w="190440">
            <a:solidFill>
              <a:srgbClr val="ff9900"/>
            </a:solidFill>
            <a:miter/>
          </a:ln>
        </p:spPr>
      </p:pic>
    </p:spTree>
  </p:cSld>
  <p:transition spd="med" advTm="3000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0440">
            <a:solidFill>
              <a:srgbClr val="990099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421080" y="2781360"/>
            <a:ext cx="71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3680">
            <a:solidFill>
              <a:srgbClr val="990099"/>
            </a:solidFill>
            <a:miter/>
          </a:ln>
        </p:spPr>
      </p:pic>
    </p:spTree>
  </p:cSld>
  <p:transition spd="med" advTm="3000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0360" cy="6480000"/>
          </a:xfrm>
          <a:prstGeom prst="rect">
            <a:avLst/>
          </a:prstGeom>
          <a:ln w="193680">
            <a:solidFill>
              <a:srgbClr val="808080"/>
            </a:solidFill>
            <a:miter/>
          </a:ln>
        </p:spPr>
      </p:pic>
    </p:spTree>
  </p:cSld>
  <p:transition spd="med" advTm="3000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1800"/>
          </a:xfrm>
          <a:prstGeom prst="rect">
            <a:avLst/>
          </a:prstGeom>
          <a:ln w="203040">
            <a:solidFill>
              <a:srgbClr val="ff00ff"/>
            </a:solidFill>
            <a:miter/>
          </a:ln>
        </p:spPr>
      </p:pic>
    </p:spTree>
  </p:cSld>
  <p:transition spd="med" advTm="3000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158760">
            <a:solidFill>
              <a:srgbClr val="0000ff"/>
            </a:solidFill>
            <a:miter/>
          </a:ln>
        </p:spPr>
      </p:pic>
    </p:spTree>
  </p:cSld>
  <p:transition spd="med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2989440" y="362844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1006200" cy="215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48360" y="549360"/>
            <a:ext cx="1006200" cy="21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219640" y="90792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19640" y="126828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5219640" y="162864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5219640" y="198900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5219640" y="234936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5219640" y="270828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5219640" y="306864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5219640" y="342900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5219640" y="378936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5219640" y="4149720"/>
            <a:ext cx="1008000" cy="21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5219640" y="4508640"/>
            <a:ext cx="1008000" cy="21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5219640" y="4869000"/>
            <a:ext cx="1008000" cy="21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5294160" y="5229360"/>
            <a:ext cx="1005120" cy="21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5796000" y="5661000"/>
            <a:ext cx="1006560" cy="21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5796000" y="6021360"/>
            <a:ext cx="1006560" cy="21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5796000" y="6381720"/>
            <a:ext cx="1006560" cy="21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0"/>
          <a:stretch/>
        </p:blipFill>
        <p:spPr>
          <a:xfrm>
            <a:off x="252360" y="692280"/>
            <a:ext cx="2914560" cy="561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252108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Ромео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Данте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Тристан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Мастер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А.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Пушкин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Дон Кихот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Лаур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Иван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Ассоль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Офелия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Золушк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Дездемон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Руслан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Адам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Жозефин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Граф Монте Кристо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Татьян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Ларина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Monotype Corsiva"/>
              </a:rPr>
              <a:t>Цезарь</a:t>
            </a:r>
            <a:r>
              <a:rPr b="0" i="1" lang="en-US" sz="1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3280" y="189000"/>
            <a:ext cx="2160720" cy="66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Джульет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Беатрич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Изоль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Марга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Н. Гончар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Дульсин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Петрар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Мар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Грэ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Гам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Прин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Отелл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Людм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Е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Наполе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Мерседе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Евгений Онег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Клеопат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637080" y="249228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27640" y="1052640"/>
            <a:ext cx="147492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10080" y="260280"/>
            <a:ext cx="4633920" cy="3311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356000" y="4005360"/>
            <a:ext cx="38912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MILKIBREADRTEAIBUTTERNMEATA</a:t>
            </a:r>
            <a:endParaRPr b="0" lang="en-US" sz="12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633920" cy="331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332000" y="4076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116000" y="189000"/>
            <a:ext cx="388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UHLНFENSTERАTAFELNLAMPES</a:t>
            </a:r>
            <a:endParaRPr b="0" lang="en-US" sz="1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2360" y="2349360"/>
            <a:ext cx="71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UL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71640" y="2349360"/>
            <a:ext cx="21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58920" y="2349360"/>
            <a:ext cx="1225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ENSTER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84360" y="2349360"/>
            <a:ext cx="216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700360" y="2349360"/>
            <a:ext cx="863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AFEL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4000" y="2349360"/>
            <a:ext cx="168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80000" y="2349360"/>
            <a:ext cx="77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MPE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0" y="2349360"/>
            <a:ext cx="144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68720" y="5877000"/>
            <a:ext cx="72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MILK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89440" y="5877000"/>
            <a:ext cx="7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32360" y="5877000"/>
            <a:ext cx="93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BREAD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9080" y="5877000"/>
            <a:ext cx="215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R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84720" y="5877000"/>
            <a:ext cx="57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TEA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1080" y="5877000"/>
            <a:ext cx="7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732720" y="5877000"/>
            <a:ext cx="93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BUTTER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69080" y="5877000"/>
            <a:ext cx="21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885080" y="587700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MEAT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32720" y="5877000"/>
            <a:ext cx="14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ff9900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ff990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1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616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27280" y="620640"/>
            <a:ext cx="4033800" cy="3224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843280" y="1413000"/>
            <a:ext cx="288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Рус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юбовь  Я тебя люб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37440" y="256536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567240" cy="284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2637000"/>
            <a:ext cx="3567240" cy="2849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2484360" y="3789360"/>
            <a:ext cx="3565440" cy="2849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5796000" y="1341360"/>
            <a:ext cx="3565440" cy="2849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5580000" y="3860640"/>
            <a:ext cx="3564000" cy="2849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620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620640"/>
            <a:ext cx="2160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p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r    Yo te 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ор    ё тэ а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3213000"/>
            <a:ext cx="223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ve    I lov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в     ай лав 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184464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ut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ebe   Ich liebe d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бэ   ихь либэ дих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4437000"/>
            <a:ext cx="230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anzo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`amour  Je t`a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ямур     жё тэ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4365720"/>
            <a:ext cx="208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talie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re     Ti 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оре      ти а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60920"/>
          </a:xfrm>
          <a:prstGeom prst="rect">
            <a:avLst/>
          </a:prstGeom>
          <a:ln w="19692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4248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030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692360" y="333360"/>
            <a:ext cx="597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Elephant"/>
              </a:rPr>
              <a:t>Seien Sie glücklich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11280" y="5661000"/>
            <a:ext cx="43196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Elephant"/>
              </a:rPr>
              <a:t>Be happy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403280" y="2276640"/>
            <a:ext cx="23749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Elephant"/>
              </a:rPr>
              <a:t>Будьт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0" y="2349360"/>
            <a:ext cx="30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частлив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1270080" cy="1700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1270080" cy="1700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7236000" y="4653000"/>
            <a:ext cx="1269720" cy="1700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7667640" y="549360"/>
            <a:ext cx="1270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56720" cy="64800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 rot="15382800">
            <a:off x="4366440" y="2768760"/>
            <a:ext cx="48243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6748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492360" y="522936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2000" y="4365720"/>
            <a:ext cx="431640" cy="3603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17080" y="6237360"/>
            <a:ext cx="431640" cy="3603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8360" y="3500280"/>
            <a:ext cx="431640" cy="3603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3440" y="1844640"/>
            <a:ext cx="431640" cy="3603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141300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126828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350028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623736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83664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6308640"/>
            <a:ext cx="432000" cy="360360"/>
          </a:xfrm>
          <a:custGeom>
            <a:avLst/>
            <a:gdLst>
              <a:gd name="textAreaLeft" fmla="*/ 101520 w 432000"/>
              <a:gd name="textAreaRight" fmla="*/ 330120 w 43200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33360"/>
            <a:ext cx="431640" cy="360360"/>
          </a:xfrm>
          <a:custGeom>
            <a:avLst/>
            <a:gdLst>
              <a:gd name="textAreaLeft" fmla="*/ 101520 w 431640"/>
              <a:gd name="textAreaRight" fmla="*/ 330120 w 43164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196920">
            <a:solidFill>
              <a:srgbClr val="ffff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380360" y="260280"/>
            <a:ext cx="1584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391440" cy="648000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35280" y="333360"/>
            <a:ext cx="7021440" cy="5265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6229440" cy="4670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1280" y="2565360"/>
            <a:ext cx="6445440" cy="400860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403280" y="836640"/>
            <a:ext cx="6732720" cy="5049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95280" y="333360"/>
            <a:ext cx="8209080" cy="6156360"/>
          </a:xfrm>
          <a:prstGeom prst="rect">
            <a:avLst/>
          </a:prstGeom>
          <a:ln w="101520">
            <a:solidFill>
              <a:srgbClr val="6600cc"/>
            </a:solidFill>
            <a:miter/>
          </a:ln>
        </p:spPr>
      </p:pic>
    </p:spTree>
  </p:cSld>
  <p:transition>
    <p:wipe dir="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path path="rect">
              <a:fillToRect l="50000" t="50000" r="50000" b="50000"/>
            </a:path>
          </a:gradFill>
          <a:ln w="190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81800" cy="629784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25800" y="189000"/>
            <a:ext cx="6769080" cy="638172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971640" y="1052640"/>
            <a:ext cx="5688000" cy="558468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76720" y="404640"/>
            <a:ext cx="5351400" cy="57340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8360" y="333360"/>
            <a:ext cx="5521320" cy="5950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557440" y="333360"/>
            <a:ext cx="6191280" cy="6143760"/>
          </a:xfrm>
          <a:prstGeom prst="rect">
            <a:avLst/>
          </a:prstGeom>
          <a:ln w="57240">
            <a:solidFill>
              <a:srgbClr val="cc33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619280" y="404640"/>
            <a:ext cx="5943600" cy="6021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1187280" y="260280"/>
            <a:ext cx="6078600" cy="60930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477800" y="907920"/>
            <a:ext cx="6731280" cy="50500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35800"/>
          </a:xfrm>
          <a:prstGeom prst="rect">
            <a:avLst/>
          </a:prstGeom>
          <a:ln w="190440">
            <a:solidFill>
              <a:srgbClr val="ffff00"/>
            </a:solidFill>
            <a:miter/>
          </a:ln>
        </p:spPr>
      </p:pic>
    </p:spTree>
  </p:cSld>
  <p:transition spd="med" advTm="3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5:36:40Z</dcterms:created>
  <dc:creator>-</dc:creator>
  <dc:description/>
  <dc:language>en-US</dc:language>
  <cp:lastModifiedBy>Rust</cp:lastModifiedBy>
  <dcterms:modified xsi:type="dcterms:W3CDTF">2010-01-03T13:15:15Z</dcterms:modified>
  <cp:revision>8</cp:revision>
  <dc:subject/>
  <dc:title>Слайд 1</dc:title>
</cp:coreProperties>
</file>