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E398-F5FF-4E48-9EFF-EA5F3722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5F4-4146-4152-8F94-053A3907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1DB7-6750-4780-9F0F-94D100E9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D45C-9190-4637-88E7-793790CF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AFAD-175C-4702-BD8F-38183104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184C-16CA-470F-8F6C-096BE492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E86A-16C4-4A0C-B4BC-439CE1BD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5EFA-C627-4FBD-8C07-B763074F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0108-4EA4-4A6E-A69B-7338A4EE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B636-C8C8-43E0-9823-30E494C6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8EE2-FD2C-4586-A7BD-2946BAB5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EFFC-7730-474E-A24D-272C5EFC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E75C-6B33-41D2-8444-3A462FCC4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8120" y="304920"/>
            <a:ext cx="3047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руппа 8</a:t>
            </a:r>
            <a:endParaRPr b="0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66680"/>
            <a:ext cx="868680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Задание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уя несколько источников информ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изическую карту полушар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териал диска «Виртуальная школа Кирилла и Мефодия. Уроки географии 7 класс» слайды 2-4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так же полученные на уроке знания и умения, составьте  загадку-описание  горной системы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Австрал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Результаты своей работы оформите на следующем слайде презент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ите горную систему по следующему описа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07-12-11T12:48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