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36A7-A2D5-4D54-924C-E765982B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D0DB-D8FF-47B6-8916-6985CA3D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C2A9-BB70-4FE7-B6FE-68C1E29C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4FA-2D12-4D59-BAA1-8214E830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9FC6-950C-4686-ACD8-2A3743B4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91E2-58EF-498A-980F-8E0F5FAB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83C-617B-4232-87E7-1CBAF79B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2B56-6F4F-4C76-AB34-22E82D25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D3CA-E682-40E3-9019-8CD6279C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38D-DCFE-4550-A93E-3D9ACE72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C47F-C223-4024-8E09-9EF75D2E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170C-22F9-407A-8FE5-60ECA36A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7095-F57D-4F32-A9F3-89A99172D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066680"/>
            <a:ext cx="86868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Зад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я несколько источников информ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ую карту полушар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 диска «Виртуальная школа Кирилла и Мефодия. Уроки географии 7 класс» слайд 2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так же полученные на уроке знания и умения, составьте  загадку-описание  горной системы 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Южной Аф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езультаты своей работы оформите на следующем слайде презен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8120" y="304920"/>
            <a:ext cx="3047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уппа 7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ите горную систему по следующему описа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07-12-11T12:47:1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