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5332D-3AAC-4CD7-AFF3-6BD7B6FFE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158AA-BEAD-47A3-A629-DC86A58D8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C6484-34B8-4B9F-B1D7-AF3425F66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01C32-5836-4FDD-A912-63952CF59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8261E-E90F-41A5-ACAD-E138437EC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BE2C0-B46E-4464-B265-8F1C826C7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17E81-BA32-404B-805F-D11B71EA2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E9DA7-53E3-4279-8283-20911D293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0CE42-AF31-4460-BA97-A4BF2FC78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9A297-6981-43CA-917B-54354BA79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92DA3-6115-4982-94A1-5D8180F8A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53C3D-30FE-45EF-AE3E-6EDE7B8DB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D2202-ADC0-4D33-862F-2248847912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048120" y="304920"/>
            <a:ext cx="304776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3366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Группа 5</a:t>
            </a:r>
            <a:endParaRPr b="0" lang="en-US" sz="1800" spc="1" strike="noStrike">
              <a:ln w="9360">
                <a:solidFill>
                  <a:srgbClr val="003366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1066680"/>
            <a:ext cx="8686800" cy="568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333399"/>
                </a:solidFill>
                <a:uFillTx/>
                <a:latin typeface="Arial"/>
              </a:rPr>
              <a:t>Задание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спользуя несколько источников информаци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изическую карту полушари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атериал диска «Электронные уроки и тесты. Северная и Южная Америка» слайды 2-3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 так же полученные на уроке знания и умения, составьте  загадку-описание  горной системы </a:t>
            </a:r>
            <a:r>
              <a:rPr b="1" i="1" lang="ru-RU" sz="2800" spc="-1" strike="noStrike">
                <a:solidFill>
                  <a:srgbClr val="800000"/>
                </a:solidFill>
                <a:latin typeface="Arial"/>
              </a:rPr>
              <a:t>Южной Амери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Результаты своей работы оформите на следующем слайде презентац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пределите горную систему по следующему описанию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Наталья</cp:lastModifiedBy>
  <dcterms:modified xsi:type="dcterms:W3CDTF">2007-12-11T12:42:1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