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58F9-3148-41F6-AD86-A08050943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21E5-200A-4EA2-BF1A-F972DDBE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09AE-7B4E-4AF0-BDF8-ADDE45B9F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5126-67AB-4E47-BEEF-466AC736B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63B2-1AE4-47D8-81E4-E9C6C843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AA39-B63E-4518-87CD-343D1633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6638-5F81-4748-B1E1-B90383F4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B2A7-683E-4515-8FD4-5AF41D2F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5FE5-5449-46AD-A88D-4248FFF6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27D0-561E-4D98-8829-830EC1FF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4A45-262B-4244-9565-8DE94223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3984-5A31-46EF-AF0E-FD4E8F9A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2829-AC22-41CB-B415-39E06BE69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143000"/>
            <a:ext cx="8686800" cy="56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Задание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я несколько источников информа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зическую карту полушар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риал диска «Виртуальная школа Кирилла и Мефодия. Уроки географии 7 класс» слайды 2-3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так же полученные на уроке знания и умения, составьте  загадку-описание  горной системы </a:t>
            </a: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Южной Аз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езультаты своей работы оформите на следующем слайде презент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8120" y="304920"/>
            <a:ext cx="30477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руппа 3</a:t>
            </a:r>
            <a:endParaRPr b="0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ределите горную систему по следующему описани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07-12-11T12:48:5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