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F4F-3A7B-4335-B68F-D725E009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A69-0192-40BE-8D46-0D6F26FB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B29F-3CBA-444F-A82E-16DBA727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76C1-7E84-46D0-B219-EB993013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ABB6-9A5E-47AA-B3B3-7E276EAE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BBD-1136-4E88-B712-359AD6F9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389-CDBA-4712-B216-18B1EDC1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B46-6D2E-4147-A6EA-B4A37793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391-4DA3-43E4-AC4F-E8A39C5E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29A-549F-4CC9-9C2D-6F787638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3FF-6B93-4B3B-BF2C-0EDC91D1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FBEB-66B3-4A91-A093-53B58ED6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69AC-C889-4CAC-BFDD-AD1D18B51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8120" y="304920"/>
            <a:ext cx="3047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уппа 1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066680"/>
            <a:ext cx="853416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Задание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уя несколько источников информ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зическую карту полушар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териал диска «Виртуальная школа Кирилла и Мефодия. Уроки географии 7 класс» слайды 3-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так же полученные на уроке знания и умения, составьте  загадку - описание горной системы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Северной Евр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езультаты своей работы оформите на следующем слайде презен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ите горную систему по следующему описа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07-12-11T12:28:0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