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CCE3-5335-4C11-B4D5-29C8533130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C78C-92A5-427F-85DB-E120A986D9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43D9-0C4D-4E9E-924F-EBDB71CED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6F2B-16DE-4219-BB47-AC1096A1A1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853E-1B1F-4E57-BE59-893298FEC1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3954-EB84-46CA-9C71-32A2D8B7CA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1855-CCAD-435D-AEA2-3584485882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DF24-D919-438B-B994-76B182DE5C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D5FF-4699-4EEF-A515-BB243B7A27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FAA-D499-4F4D-A7EC-5D56101A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308-C5D9-4902-AB1D-B9A75E0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856-1DE8-4EAC-A807-9041B8F0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38D-E946-487A-B94E-435F10C2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FC9F-B581-4996-B936-FE341A09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CBBA-A26F-4F9D-B1ED-6983F749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0397-50C8-4733-9B50-F03A8F08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EB5-4EF9-4BB0-8908-F9DD9874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4D6E-3198-4BE4-8731-3564630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049D-A87C-46E2-823F-7A47D11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ED33-E880-47F2-925A-0EB4700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934-E956-4207-AE85-DDE3CA31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A2AA-78C1-489B-995D-F8C140F0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ABE6-90D9-4E6C-817A-085EAACD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35DA-2B87-47F1-93FA-7B88C465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7F8A-1276-47A3-B6EA-28EB6AEF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79A-4928-4BEC-AC4D-CB18845F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D42-1EBA-4379-83A2-C5E6E12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818-89B7-46F9-9657-7C38B137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6C2-40A5-4683-8ADF-E3367D59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33B-B289-4C88-AEC7-7422997E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92D-E6F1-4971-BEE4-EFDC2ADA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449-64CE-447A-90D9-64A012E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8BC-4258-4675-9A97-E60BC36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0FA-71A0-4F55-878C-6167F1E4C3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1A52-A531-4440-BA0D-78D2FBEB7A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Т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643040" y="2428920"/>
            <a:ext cx="7286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Т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7264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729144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856960" y="2214720"/>
            <a:ext cx="57132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642400" y="2357280"/>
            <a:ext cx="71460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428200" y="2214720"/>
            <a:ext cx="7858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428920" y="2500200"/>
            <a:ext cx="714240" cy="15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714760" y="2214720"/>
            <a:ext cx="64296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999520" y="214308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571840" y="300024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1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0"/>
          <p:cNvSpPr/>
          <p:nvPr/>
        </p:nvSpPr>
        <p:spPr>
          <a:xfrm>
            <a:off x="6286680" y="27860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2"/>
          <p:cNvSpPr/>
          <p:nvPr/>
        </p:nvSpPr>
        <p:spPr>
          <a:xfrm>
            <a:off x="62150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4"/>
          <p:cNvSpPr/>
          <p:nvPr/>
        </p:nvSpPr>
        <p:spPr>
          <a:xfrm>
            <a:off x="62150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6"/>
          <p:cNvSpPr/>
          <p:nvPr/>
        </p:nvSpPr>
        <p:spPr>
          <a:xfrm>
            <a:off x="62150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8"/>
          <p:cNvSpPr/>
          <p:nvPr/>
        </p:nvSpPr>
        <p:spPr>
          <a:xfrm>
            <a:off x="62150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90"/>
          <p:cNvSpPr/>
          <p:nvPr/>
        </p:nvSpPr>
        <p:spPr>
          <a:xfrm>
            <a:off x="62150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4"/>
          <p:cNvSpPr/>
          <p:nvPr/>
        </p:nvSpPr>
        <p:spPr>
          <a:xfrm>
            <a:off x="62150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06"/>
          <p:cNvSpPr/>
          <p:nvPr/>
        </p:nvSpPr>
        <p:spPr>
          <a:xfrm>
            <a:off x="62150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8"/>
          <p:cNvSpPr/>
          <p:nvPr/>
        </p:nvSpPr>
        <p:spPr>
          <a:xfrm>
            <a:off x="62150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2"/>
          <p:cNvSpPr/>
          <p:nvPr/>
        </p:nvSpPr>
        <p:spPr>
          <a:xfrm>
            <a:off x="62150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4"/>
          <p:cNvSpPr/>
          <p:nvPr/>
        </p:nvSpPr>
        <p:spPr>
          <a:xfrm flipH="1">
            <a:off x="771480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71262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22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000160" y="1643040"/>
            <a:ext cx="59436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072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50:40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