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DFE-8B55-4A9F-B0A7-08A7A54E0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094-B003-4A03-9A35-A8AB326744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9CB-ABAC-437C-AC75-5277CA239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B2CD-4382-41C3-8EA4-86D78DDA0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4B8-8BD5-40E1-A1A8-C551D07648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6E7-AB30-4B14-9F75-F3EC3CBE81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676A-4FD4-466A-A68F-8D6637A580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A6A1-5E13-49B1-B738-F77C4DEBE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85A-D22F-4480-B6A0-5390434C4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C22-2CCE-410D-9B35-C41C1E032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865-C381-42D1-960A-EDEA18B1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D09-FF76-4A41-9758-AC917FD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F67-96DD-4E19-9EF4-1D167CA5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238-A50B-4B00-B866-2207D5B4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5E17-EB30-4F43-83B3-0D7AAB76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DDF-3798-4230-816A-56B86763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718-6D54-40F8-AC79-C8C12586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48D-E4C5-44B3-9ADA-63770670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5110-EA75-418F-AB3C-2DCA17EA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2BAD-CC22-43E5-8637-77BABCD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0E6-B3BE-4CEC-9D61-DA01887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AB1-785F-443A-A574-D6B47B22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C82-4805-4D4A-B3EF-35E935D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517-B68C-40F9-AF2F-FBC5F79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32A6-4859-45E1-B675-BAF7BB7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CE56-4765-4E7D-A706-66B47887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D1DF-8BF0-49ED-848F-49594F72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81C-28EB-4AB5-9FC4-7C9EDF0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333-F158-4C94-9F00-E04BC8C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7BB-7A21-4F64-914F-C91269F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8C2-5632-46EE-935B-43F3DE9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906-372F-4D5D-9F32-6F4DE63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B24-622E-4ECF-9B25-C3AF723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A1C-7575-4100-A4DD-A1C9001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1C6-7299-4035-A437-81D18B4F6A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64B4-D57C-4324-ABC4-EEB24D7A0D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Л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643040" y="2571840"/>
            <a:ext cx="7286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Л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321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571760" y="2357280"/>
            <a:ext cx="7199280" cy="1500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3000240" y="2571840"/>
            <a:ext cx="5716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857680" y="257184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642400" y="2500200"/>
            <a:ext cx="78588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499480" y="2500200"/>
            <a:ext cx="714600" cy="15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428920" y="278604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428200" y="307188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428920" y="328608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428200" y="3500280"/>
            <a:ext cx="2142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3214080" y="264312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929040" y="3714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92904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929040" y="3857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92904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92904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92904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92904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92904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92904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5286240" y="2357280"/>
            <a:ext cx="1000440" cy="5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5286240" y="2357280"/>
            <a:ext cx="1000440" cy="8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5285520" y="2357280"/>
            <a:ext cx="1000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5286240" y="23572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5286240" y="23572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5285520" y="2357280"/>
            <a:ext cx="428760" cy="16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5285520" y="2357280"/>
            <a:ext cx="142920" cy="16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5285880" y="24289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357960" y="3786120"/>
            <a:ext cx="1214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572000" y="271476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357800" y="271476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2880" y="271476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4000680" y="264312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4785840" y="264312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0"/>
          <p:cNvSpPr/>
          <p:nvPr/>
        </p:nvSpPr>
        <p:spPr>
          <a:xfrm flipH="1">
            <a:off x="8001000" y="228600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2"/>
          <p:cNvSpPr/>
          <p:nvPr/>
        </p:nvSpPr>
        <p:spPr>
          <a:xfrm flipH="1">
            <a:off x="7857720" y="2286000"/>
            <a:ext cx="180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6"/>
          <p:cNvSpPr/>
          <p:nvPr/>
        </p:nvSpPr>
        <p:spPr>
          <a:xfrm flipH="1">
            <a:off x="7929720" y="22860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8"/>
          <p:cNvSpPr/>
          <p:nvPr/>
        </p:nvSpPr>
        <p:spPr>
          <a:xfrm flipH="1">
            <a:off x="8071920" y="228600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0"/>
          <p:cNvSpPr/>
          <p:nvPr/>
        </p:nvSpPr>
        <p:spPr>
          <a:xfrm flipH="1">
            <a:off x="8143920" y="23572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2"/>
          <p:cNvSpPr/>
          <p:nvPr/>
        </p:nvSpPr>
        <p:spPr>
          <a:xfrm flipH="1">
            <a:off x="8214840" y="23572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6"/>
          <p:cNvSpPr/>
          <p:nvPr/>
        </p:nvSpPr>
        <p:spPr>
          <a:xfrm flipH="1">
            <a:off x="8286840" y="22860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8"/>
          <p:cNvSpPr/>
          <p:nvPr/>
        </p:nvSpPr>
        <p:spPr>
          <a:xfrm flipH="1">
            <a:off x="8357760" y="23572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0"/>
          <p:cNvSpPr/>
          <p:nvPr/>
        </p:nvSpPr>
        <p:spPr>
          <a:xfrm flipH="1">
            <a:off x="8429760" y="22860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4"/>
          <p:cNvSpPr/>
          <p:nvPr/>
        </p:nvSpPr>
        <p:spPr>
          <a:xfrm flipH="1">
            <a:off x="8501040" y="22860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6"/>
          <p:cNvSpPr/>
          <p:nvPr/>
        </p:nvSpPr>
        <p:spPr>
          <a:xfrm flipH="1">
            <a:off x="8572680" y="22860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7213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7143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62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знакомую букву Л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726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219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17:3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