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2B7-F4E6-4958-A0FD-483CE72E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996-7C49-425C-BD03-17A922A7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1C7-8F3D-4578-AA9F-37A27C97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CC7-C1F3-4F8B-8491-F3DBFB98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2A5-675C-4A29-87A7-5280C323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45A-0389-4753-83C9-D1012376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ECE-30E9-42BE-91F8-2BF65A97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B5B-7C98-4644-8EC0-FD8D7DDB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5DF-DAFD-4907-B812-0E45AD0E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9FD-9551-4E1C-BBB5-6870F6C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19F-B33D-440B-882F-3AD2F35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433-9B07-42D2-8855-832966F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3B8C-06E0-4BE5-9EB6-3C3828B6F532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schoolhous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foto.mail.ru/mail/krutaya2009/_myphoto/47.htm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1430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b4b4b"/>
                </a:solidFill>
                <a:latin typeface="Constantia"/>
              </a:rPr>
              <a:t>Le 24 novembre, mardi.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43040" y="278568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4b4b"/>
                </a:solidFill>
                <a:latin typeface="Constantia"/>
              </a:rPr>
              <a:t>En classe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ormez </a:t>
            </a: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équipes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56800" y="1600200"/>
            <a:ext cx="363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Pourquoi on 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Constantia"/>
              </a:rPr>
              <a:t>aime </a:t>
            </a:r>
            <a:r>
              <a:rPr b="0" lang="en-US" sz="5400" spc="-1" strike="noStrike">
                <a:solidFill>
                  <a:srgbClr val="ff0000"/>
                </a:solidFill>
                <a:latin typeface="Constantia"/>
              </a:rPr>
              <a:t>aller à l’école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Constantia"/>
              </a:rPr>
              <a:t>Pourquoi on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Constantia"/>
              </a:rPr>
              <a:t>n’aime pas </a:t>
            </a:r>
            <a:r>
              <a:rPr b="0" lang="en-US" sz="5400" spc="-1" strike="noStrike">
                <a:solidFill>
                  <a:srgbClr val="008000"/>
                </a:solidFill>
                <a:latin typeface="Constantia"/>
              </a:rPr>
              <a:t>aller à l’ école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onstantia"/>
              </a:rPr>
              <a:t>Devoi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otre point de vue sur notre école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Qu’est-ce que vous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imez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Qu’est-ce que vous voudriez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hang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880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nstantia"/>
              </a:rPr>
              <a:t>Merci pour votre travail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920" y="1356840"/>
            <a:ext cx="74073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a3a3a"/>
                </a:solidFill>
                <a:latin typeface="Calibri"/>
              </a:rPr>
              <a:t>Bonjour, Monsieur le Maître d’éco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4280" y="3643200"/>
            <a:ext cx="74073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3a3a"/>
                </a:solidFill>
                <a:latin typeface="Constantia"/>
              </a:rPr>
              <a:t>Jean Ridez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rofesseur? Élève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85960" y="1500120"/>
            <a:ext cx="56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 doit avoir de la patienc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être poli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être gentil avec ses élèv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être juste dans ses notat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être travailleu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être en bons rapports avec ses élèv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encourager ses élèv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comprendre bien  les explications des prof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écrire bien sa narrat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ne doit pas faire des chahut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être discipliné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être un bon acteu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avoir de l’autorité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doit être attentif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l ne doit pas se fâcher pour des rie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es professeu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71360" y="1071720"/>
            <a:ext cx="7499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 doit avoir de la patience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doit être gentil avec ses élève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doit être juste dans ses notation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doit être en bons rapports avec ses élève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doit encourager ses élève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doit être travailleur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doit être un bon acteur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doit avoir de l’autorité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l ne doit pas se fâcher pour des rien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e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élèv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85560" y="1071720"/>
            <a:ext cx="7499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l doit être poli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l doit comprendre bien  les explications des prof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l doit écrire bien sa narr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l ne doit pas faire des chahu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l doit être discipliné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l doit être attentif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ttp://school1248.edusite.ru/images/p15_makarevichgg.jpg"/>
          <p:cNvPicPr/>
          <p:nvPr/>
        </p:nvPicPr>
        <p:blipFill>
          <a:blip r:embed="rId1"/>
          <a:stretch/>
        </p:blipFill>
        <p:spPr>
          <a:xfrm rot="21141000">
            <a:off x="985680" y="3944880"/>
            <a:ext cx="2411640" cy="24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school1248.edusite.ru/images/p39_skanirovanie0005-200x292-.jpg"/>
          <p:cNvPicPr/>
          <p:nvPr/>
        </p:nvPicPr>
        <p:blipFill>
          <a:blip r:embed="rId2"/>
          <a:stretch/>
        </p:blipFill>
        <p:spPr>
          <a:xfrm>
            <a:off x="3571920" y="285840"/>
            <a:ext cx="190512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Александра\Pictures\_avatar.jpg"/>
          <p:cNvPicPr/>
          <p:nvPr/>
        </p:nvPicPr>
        <p:blipFill>
          <a:blip r:embed="rId3"/>
          <a:stretch/>
        </p:blipFill>
        <p:spPr>
          <a:xfrm rot="670200">
            <a:off x="6410160" y="553680"/>
            <a:ext cx="1511640" cy="215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29.odnoklassniki.ru/getImage?photoId=177436949455&amp;photoType=0"/>
          <p:cNvPicPr/>
          <p:nvPr/>
        </p:nvPicPr>
        <p:blipFill>
          <a:blip r:embed="rId4"/>
          <a:stretch/>
        </p:blipFill>
        <p:spPr>
          <a:xfrm rot="946800">
            <a:off x="6114600" y="3382920"/>
            <a:ext cx="217188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cs9305.vkontakte.ru/u251786/a_eb2ece86.jpg"/>
          <p:cNvPicPr/>
          <p:nvPr/>
        </p:nvPicPr>
        <p:blipFill>
          <a:blip r:embed="rId5"/>
          <a:stretch/>
        </p:blipFill>
        <p:spPr>
          <a:xfrm rot="20838600">
            <a:off x="902880" y="419040"/>
            <a:ext cx="1658880" cy="255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56840" y="1500120"/>
            <a:ext cx="749772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  <a:ea typeface="Arial"/>
              </a:rPr>
              <a:t>Comment doit être le professeur</a:t>
            </a: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af9.mail.ru/cgi-bin/readmsg/x_c4e99a5e.jpg?id=12590000710000000467;0;10&amp;mode=attachment&amp;channel="/>
          <p:cNvPicPr/>
          <p:nvPr/>
        </p:nvPicPr>
        <p:blipFill>
          <a:blip r:embed="rId1"/>
          <a:stretch/>
        </p:blipFill>
        <p:spPr>
          <a:xfrm rot="1134600">
            <a:off x="6089760" y="275760"/>
            <a:ext cx="2070000" cy="22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cs9984.vkontakte.ru/u15596611/a_0ff3a55c.jpg"/>
          <p:cNvPicPr/>
          <p:nvPr/>
        </p:nvPicPr>
        <p:blipFill>
          <a:blip r:embed="rId2"/>
          <a:stretch/>
        </p:blipFill>
        <p:spPr>
          <a:xfrm rot="21001200">
            <a:off x="3401640" y="504720"/>
            <a:ext cx="1905120" cy="233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cs9301.vkontakte.ru/u25075616/a_2c965190.jpg"/>
          <p:cNvPicPr/>
          <p:nvPr/>
        </p:nvPicPr>
        <p:blipFill>
          <a:blip r:embed="rId3"/>
          <a:stretch/>
        </p:blipFill>
        <p:spPr>
          <a:xfrm rot="1420200">
            <a:off x="6200280" y="3514680"/>
            <a:ext cx="1708200" cy="313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content.foto.mail.ru/mail/krutaya2009/_myphoto/i-44.jpg">
            <a:hlinkClick r:id="rId4"/>
          </p:cNvPr>
          <p:cNvPicPr/>
          <p:nvPr/>
        </p:nvPicPr>
        <p:blipFill>
          <a:blip r:embed="rId5"/>
          <a:stretch/>
        </p:blipFill>
        <p:spPr>
          <a:xfrm rot="20908200">
            <a:off x="746280" y="172800"/>
            <a:ext cx="1996920" cy="2663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1285920"/>
            <a:ext cx="850572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Comment doit être l’élève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Picture 2" descr="http://af9.mail.ru/cgi-bin/readmsg/x_1cc3dddc.jpg?id=12590000710000000467;0;7&amp;mode=attachment&amp;channel="/>
          <p:cNvPicPr/>
          <p:nvPr/>
        </p:nvPicPr>
        <p:blipFill>
          <a:blip r:embed="rId6"/>
          <a:stretch/>
        </p:blipFill>
        <p:spPr>
          <a:xfrm rot="20758200">
            <a:off x="1522080" y="3841560"/>
            <a:ext cx="2513160" cy="2268360"/>
          </a:xfrm>
          <a:prstGeom prst="rect">
            <a:avLst/>
          </a:prstGeom>
          <a:ln w="0">
            <a:noFill/>
          </a:ln>
        </p:spPr>
      </p:pic>
      <p:pic>
        <p:nvPicPr>
          <p:cNvPr id="64" name="Приложение 3.wav" descr=""/>
          <p:cNvPicPr/>
          <p:nvPr/>
        </p:nvPicPr>
        <p:blipFill>
          <a:blip r:embed="rId7"/>
          <a:stretch/>
        </p:blipFill>
        <p:spPr>
          <a:xfrm>
            <a:off x="821520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5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ous faisons de la gymnastique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" name="Рисунок 3" descr="E:\Users\Александра\Documents\Школа - 2009\Vocabulaire progressif du francais\96.jpg"/>
          <p:cNvPicPr/>
          <p:nvPr/>
        </p:nvPicPr>
        <p:blipFill>
          <a:blip r:embed="rId1"/>
          <a:stretch/>
        </p:blipFill>
        <p:spPr>
          <a:xfrm rot="20808000">
            <a:off x="1428840" y="1785960"/>
            <a:ext cx="1727280" cy="1692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E:\Users\Александра\Documents\Школа - 2009\Vocabulaire progressif du francais\96.jpg"/>
          <p:cNvPicPr/>
          <p:nvPr/>
        </p:nvPicPr>
        <p:blipFill>
          <a:blip r:embed="rId2"/>
          <a:stretch/>
        </p:blipFill>
        <p:spPr>
          <a:xfrm rot="1381200">
            <a:off x="4214880" y="1928880"/>
            <a:ext cx="1584360" cy="1547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E:\Users\Александра\Documents\Школа - 2009\Vocabulaire progressif du francais\96.jpg"/>
          <p:cNvPicPr/>
          <p:nvPr/>
        </p:nvPicPr>
        <p:blipFill>
          <a:blip r:embed="rId3"/>
          <a:stretch/>
        </p:blipFill>
        <p:spPr>
          <a:xfrm>
            <a:off x="3000240" y="4500720"/>
            <a:ext cx="2735280" cy="1331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E:\Users\Александра\Documents\Школа - 2009\Vocabulaire progressif du francais\96.jpg"/>
          <p:cNvPicPr/>
          <p:nvPr/>
        </p:nvPicPr>
        <p:blipFill>
          <a:blip r:embed="rId4"/>
          <a:stretch/>
        </p:blipFill>
        <p:spPr>
          <a:xfrm rot="910800">
            <a:off x="7000560" y="1928520"/>
            <a:ext cx="107928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Приложение 4.wma" descr=""/>
          <p:cNvPicPr/>
          <p:nvPr/>
        </p:nvPicPr>
        <p:blipFill>
          <a:blip r:embed="rId5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789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coute deux monologues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mél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Содержимое 6" descr="E:\Users\Александра\Documents\Школа - 2009\Vocabulaire progressif du francais\16.jpg"/>
          <p:cNvPicPr/>
          <p:nvPr/>
        </p:nvPicPr>
        <p:blipFill>
          <a:blip r:embed="rId1"/>
          <a:stretch/>
        </p:blipFill>
        <p:spPr>
          <a:xfrm>
            <a:off x="5072040" y="1785960"/>
            <a:ext cx="2376360" cy="2987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E:\Users\Александра\Documents\Школа - 2009\Vocabulaire progressif du francais\38.jpg"/>
          <p:cNvPicPr/>
          <p:nvPr/>
        </p:nvPicPr>
        <p:blipFill>
          <a:blip r:embed="rId2"/>
          <a:stretch/>
        </p:blipFill>
        <p:spPr>
          <a:xfrm>
            <a:off x="1500120" y="1714680"/>
            <a:ext cx="2376720" cy="3168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1143000" y="52149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иложение 5.wma" descr=""/>
          <p:cNvPicPr/>
          <p:nvPr/>
        </p:nvPicPr>
        <p:blipFill>
          <a:blip r:embed="rId3"/>
          <a:stretch/>
        </p:blipFill>
        <p:spPr>
          <a:xfrm>
            <a:off x="1643040" y="1785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Приложение 6.wma" descr=""/>
          <p:cNvPicPr/>
          <p:nvPr/>
        </p:nvPicPr>
        <p:blipFill>
          <a:blip r:embed="rId4"/>
          <a:stretch/>
        </p:blipFill>
        <p:spPr>
          <a:xfrm>
            <a:off x="7143840" y="1857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509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729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2:56:48Z</dcterms:created>
  <dc:creator>Александра</dc:creator>
  <dc:description/>
  <dc:language>en-US</dc:language>
  <cp:lastModifiedBy>Vlad</cp:lastModifiedBy>
  <dcterms:modified xsi:type="dcterms:W3CDTF">2010-03-29T14:17:03Z</dcterms:modified>
  <cp:revision>46</cp:revision>
  <dc:subject/>
  <dc:title>Le 24 novembre, mardi.</dc:title>
</cp:coreProperties>
</file>