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jpeg" ContentType="image/jpeg"/>
  <Override PartName="/ppt/media/image25.jpeg" ContentType="image/jpeg"/>
  <Override PartName="/ppt/media/image24.jpeg" ContentType="image/jpeg"/>
  <Override PartName="/ppt/media/image21.jpeg" ContentType="image/jpeg"/>
  <Override PartName="/ppt/media/image2.wmf" ContentType="image/x-wmf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49.gif" ContentType="image/gif"/>
  <Override PartName="/ppt/media/image16.png" ContentType="image/png"/>
  <Override PartName="/ppt/media/image22.jpeg" ContentType="image/jpeg"/>
  <Override PartName="/ppt/media/image46.gif" ContentType="image/gif"/>
  <Override PartName="/ppt/media/image1.jpeg" ContentType="image/jpeg"/>
  <Override PartName="/ppt/media/image35.jpeg" ContentType="image/jpeg"/>
  <Override PartName="/ppt/media/image15.jpeg" ContentType="image/jpeg"/>
  <Override PartName="/ppt/media/image3.wmf" ContentType="image/x-wmf"/>
  <Override PartName="/ppt/media/image29.jpeg" ContentType="image/jpeg"/>
  <Override PartName="/ppt/media/image7.gif" ContentType="image/gif"/>
  <Override PartName="/ppt/media/image4.png" ContentType="image/png"/>
  <Override PartName="/ppt/media/image12.jpeg" ContentType="image/jpeg"/>
  <Override PartName="/ppt/media/image23.png" ContentType="image/png"/>
  <Override PartName="/ppt/media/image30.jpeg" ContentType="image/jpeg"/>
  <Override PartName="/ppt/media/image47.gif" ContentType="image/gif"/>
  <Override PartName="/ppt/media/image31.jpeg" ContentType="image/jpeg"/>
  <Override PartName="/ppt/media/image33.jpeg" ContentType="image/jpeg"/>
  <Override PartName="/ppt/media/image52.gif" ContentType="image/gif"/>
  <Override PartName="/ppt/media/image34.jpeg" ContentType="image/jpeg"/>
  <Override PartName="/ppt/media/image44.gif" ContentType="image/gif"/>
  <Override PartName="/ppt/media/image37.jpeg" ContentType="image/jpeg"/>
  <Override PartName="/ppt/media/image43.jpeg" ContentType="image/jpeg"/>
  <Override PartName="/ppt/media/image32.jpeg" ContentType="image/jpeg"/>
  <Override PartName="/ppt/media/image50.png" ContentType="image/png"/>
  <Override PartName="/ppt/media/image5.jpeg" ContentType="image/jpeg"/>
  <Override PartName="/ppt/media/image26.jpeg" ContentType="image/jpeg"/>
  <Override PartName="/ppt/media/image48.gif" ContentType="image/gif"/>
  <Override PartName="/ppt/media/image51.png" ContentType="image/png"/>
  <Override PartName="/ppt/media/image36.jpeg" ContentType="image/jpeg"/>
  <Override PartName="/ppt/media/image9.jpeg" ContentType="image/jpeg"/>
  <Override PartName="/ppt/media/image11.jpeg" ContentType="image/jpeg"/>
  <Override PartName="/ppt/media/image45.gif" ContentType="image/gif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media/image6.png" ContentType="image/png"/>
  <Override PartName="/ppt/media/image10.jpeg" ContentType="image/jpeg"/>
  <Override PartName="/ppt/media/image28.png" ContentType="image/png"/>
  <Override PartName="/ppt/media/image38.jpeg" ContentType="image/jpeg"/>
  <Override PartName="/ppt/media/image40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1EA3-D7AA-4891-BC4C-4A33A60C31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1E80-B91C-4756-AECB-2973B33CE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8897-35DE-4273-A227-189D7360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A9BF-BFD1-43AE-BD6B-F56165870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CC001-925F-4376-B537-BBFA0E277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CBEE-A4C8-41B6-87C7-F2383DD84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F5FF-1007-4E3B-BE6F-CEED32CC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C708F-E786-4B54-A317-A2F1C8CBE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75362-106C-43FE-BA53-3A6945F9F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EE83-B08F-4D6F-A87D-7A461073C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FADF-6D73-4F75-8CD8-4D8653491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76D49-10AF-43DD-B58C-F0D3D4BFF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00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93795-C36C-42C4-8847-CC27937A55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3.jpeg"/><Relationship Id="rId3" Type="http://schemas.openxmlformats.org/officeDocument/2006/relationships/image" Target="../media/image44.gif"/><Relationship Id="rId4" Type="http://schemas.openxmlformats.org/officeDocument/2006/relationships/image" Target="../media/image45.gif"/><Relationship Id="rId5" Type="http://schemas.openxmlformats.org/officeDocument/2006/relationships/image" Target="../media/image46.gif"/><Relationship Id="rId6" Type="http://schemas.openxmlformats.org/officeDocument/2006/relationships/image" Target="../media/image47.gif"/><Relationship Id="rId7" Type="http://schemas.openxmlformats.org/officeDocument/2006/relationships/image" Target="../media/image48.gif"/><Relationship Id="rId8" Type="http://schemas.openxmlformats.org/officeDocument/2006/relationships/image" Target="../media/image49.gif"/><Relationship Id="rId9" Type="http://schemas.openxmlformats.org/officeDocument/2006/relationships/image" Target="../media/image48.gif"/><Relationship Id="rId10" Type="http://schemas.openxmlformats.org/officeDocument/2006/relationships/image" Target="../media/image47.gif"/><Relationship Id="rId11" Type="http://schemas.openxmlformats.org/officeDocument/2006/relationships/image" Target="../media/image48.gif"/><Relationship Id="rId12" Type="http://schemas.openxmlformats.org/officeDocument/2006/relationships/image" Target="../media/image48.gif"/><Relationship Id="rId13" Type="http://schemas.openxmlformats.org/officeDocument/2006/relationships/image" Target="../media/image48.gif"/><Relationship Id="rId14" Type="http://schemas.openxmlformats.org/officeDocument/2006/relationships/image" Target="../media/image48.gif"/><Relationship Id="rId15" Type="http://schemas.openxmlformats.org/officeDocument/2006/relationships/image" Target="../media/image48.gif"/><Relationship Id="rId1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00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48000" y="189000"/>
            <a:ext cx="2448000" cy="271764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116000" y="2781360"/>
            <a:ext cx="2357280" cy="3672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651640" y="2708280"/>
            <a:ext cx="2576520" cy="38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00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57240">
            <a:solidFill>
              <a:srgbClr val="6600cc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7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" presetSubtype="10">
                                  <p:stCondLst>
                                    <p:cond delay="12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50000">
              <a:srgbClr val="3399ff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132000" y="27432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Михаил Васильевич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Исаковский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900 - 19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842920" y="1773360"/>
            <a:ext cx="655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Многие стихи, положенные на музыку, стали популярными народными песнями, они поются во всём мир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"Катюша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"И кто его знает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"В прифронтовом лесу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"Огонёк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"Ой, туманы мои..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"Враги сожгли родную хату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"Снова замерло всё до рассвета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"Летят перелётные птицы"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5280" y="549360"/>
            <a:ext cx="2239920" cy="36003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00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874872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87880"/>
          </a:xfrm>
          <a:prstGeom prst="rect">
            <a:avLst/>
          </a:prstGeom>
          <a:ln w="57240">
            <a:solidFill>
              <a:srgbClr val="ff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1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00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rcRect l="29591" t="18014" r="29004" b="28321"/>
          <a:stretch/>
        </p:blipFill>
        <p:spPr>
          <a:xfrm>
            <a:off x="1333440" y="341280"/>
            <a:ext cx="6475320" cy="617544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50000">
              <a:srgbClr val="3399ff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46240" y="404280"/>
            <a:ext cx="505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Алексей Иванович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Фатьянов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919 - 195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249228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ачало Великой Отечественной войны застает  на гастролях в авиагарнизоне под Брянс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Фатьянов пишет сатирические частушки, сценки, пес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Просит отправить его на фронт. Оказавшись в окружении, ансамбль трое суток прорывается к свои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Фатьянов ранен, после госпиталя направлен в войска Южно-Уральского округ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7236000" y="333360"/>
            <a:ext cx="1671480" cy="223668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50000">
              <a:srgbClr val="3399ff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54900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асилий Павлович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оловьёв-Седой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907 - 19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6588000" y="476280"/>
            <a:ext cx="2232000" cy="29527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0" y="2060640"/>
            <a:ext cx="6842160" cy="675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Весной 1942 Фатьянов знакомится с композитором В. П. Соловьевым-Седым,   в содружестве с которым пишет песн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Соловьи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Ничего не говорила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Давно мы дома не были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Где ж ты, мой сад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Где же вы теперь, друзья-однополчане?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Наш город” (“Песня о Ленинграде”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00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-20520"/>
            <a:ext cx="9144000" cy="687852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8675640" y="65977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" fill="hold"/>
                                        <p:tgtEl>
                                          <p:spTgt spid="9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50000">
              <a:srgbClr val="3399ff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082960" y="980640"/>
            <a:ext cx="4978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Лев Иванович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Ошанин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1912 - 1996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2349360" cy="40417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3059280" y="2336400"/>
            <a:ext cx="575928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В 1936-1939 годах учился в Литературном институт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В годы Великой Отечественной войны создал ряд популярных песе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«В бой за Родину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«Дороги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00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042920" y="476280"/>
            <a:ext cx="7058160" cy="3645000"/>
          </a:xfrm>
          <a:prstGeom prst="rect">
            <a:avLst/>
          </a:prstGeom>
          <a:ln w="57240">
            <a:solidFill>
              <a:srgbClr val="ba0000"/>
            </a:solidFill>
            <a:miter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66920" y="3376440"/>
            <a:ext cx="4608720" cy="348156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179280" y="189000"/>
            <a:ext cx="1532160" cy="153180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8991720" y="6705720"/>
            <a:ext cx="15228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0">
                                  <p:stCondLst>
                                    <p:cond delay="580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50000">
              <a:srgbClr val="3399ff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73280" y="475920"/>
            <a:ext cx="75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Евгений Михайлович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инокуров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925 - 199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2627280" y="2492280"/>
            <a:ext cx="4211640" cy="32767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00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206960" cy="495324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788000" y="1371600"/>
            <a:ext cx="4203720" cy="493704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-181080" y="0"/>
            <a:ext cx="9577440" cy="1125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835280" y="404640"/>
            <a:ext cx="63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000000"/>
                </a:solidFill>
                <a:latin typeface="Arial"/>
              </a:rPr>
              <a:t>22 июня 1941 год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5"/>
          <a:stretch/>
        </p:blipFill>
        <p:spPr>
          <a:xfrm>
            <a:off x="8675640" y="765000"/>
            <a:ext cx="152280" cy="152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70356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00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08000" y="446040"/>
            <a:ext cx="4319640" cy="298296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572000" y="404640"/>
            <a:ext cx="4410000" cy="302436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2916360" y="2349360"/>
            <a:ext cx="2828880" cy="433080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entr" presetID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45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00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Булат Окуджава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927 - 199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842160" y="476280"/>
            <a:ext cx="1585800" cy="21607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4392720" cy="421632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00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322200" y="333360"/>
            <a:ext cx="8497800" cy="619128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148360" y="333360"/>
            <a:ext cx="3689280" cy="6191280"/>
          </a:xfrm>
          <a:prstGeom prst="rect">
            <a:avLst/>
          </a:prstGeom>
          <a:ln w="57240">
            <a:solidFill>
              <a:srgbClr val="a50021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9009000" y="6723000"/>
            <a:ext cx="135000" cy="1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129781" fill="hold"/>
                                        <p:tgtEl>
                                          <p:spTgt spid="1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10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00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47640" y="0"/>
            <a:ext cx="6337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ff"/>
                </a:solidFill>
                <a:latin typeface="Arial"/>
              </a:rPr>
              <a:t>9 мая 1945 го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3854160" cy="509724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5508720" y="4292640"/>
            <a:ext cx="2665440" cy="232236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4859280" y="1341360"/>
            <a:ext cx="3888000" cy="265284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00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00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>
            <a:hlinkClick r:id="" action="ppaction://hlinkshowjump?jump=previousslide"/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148360" y="2847960"/>
            <a:ext cx="1295280" cy="12952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3059280" y="3286080"/>
            <a:ext cx="1523880" cy="15238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3851280" y="2060640"/>
            <a:ext cx="1871640" cy="1871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3780000" y="765000"/>
            <a:ext cx="2447640" cy="22194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7"/>
          <a:stretch/>
        </p:blipFill>
        <p:spPr>
          <a:xfrm rot="19644000">
            <a:off x="3851280" y="112536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8"/>
          <a:stretch/>
        </p:blipFill>
        <p:spPr>
          <a:xfrm>
            <a:off x="4067280" y="3141720"/>
            <a:ext cx="1800000" cy="18000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9"/>
          <a:stretch/>
        </p:blipFill>
        <p:spPr>
          <a:xfrm rot="5400000">
            <a:off x="5580000" y="3933720"/>
            <a:ext cx="1028880" cy="10288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4067280" y="3068640"/>
            <a:ext cx="1904760" cy="19447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11"/>
          <a:stretch/>
        </p:blipFill>
        <p:spPr>
          <a:xfrm>
            <a:off x="3132000" y="3141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12"/>
          <a:stretch/>
        </p:blipFill>
        <p:spPr>
          <a:xfrm rot="10585800">
            <a:off x="3995640" y="3068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13"/>
          <a:stretch/>
        </p:blipFill>
        <p:spPr>
          <a:xfrm rot="3711000">
            <a:off x="5148360" y="220464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14"/>
          <a:stretch/>
        </p:blipFill>
        <p:spPr>
          <a:xfrm>
            <a:off x="4500720" y="907920"/>
            <a:ext cx="1223640" cy="1224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15"/>
          <a:stretch/>
        </p:blipFill>
        <p:spPr>
          <a:xfrm rot="11527200">
            <a:off x="5724000" y="2923920"/>
            <a:ext cx="122400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00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0" y="-84240"/>
            <a:ext cx="9144000" cy="6942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179280" y="5592600"/>
            <a:ext cx="2664000" cy="10702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3"/>
          <a:stretch/>
        </p:blipFill>
        <p:spPr>
          <a:xfrm rot="17782200">
            <a:off x="217440" y="5694120"/>
            <a:ext cx="841320" cy="77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50000">
              <a:srgbClr val="3399ff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362320" y="-8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67160" y="1919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609480"/>
            <a:ext cx="2819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00000" y="404640"/>
            <a:ext cx="1938600" cy="302436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54" name=""/>
          <p:cNvSpPr/>
          <p:nvPr/>
        </p:nvSpPr>
        <p:spPr>
          <a:xfrm>
            <a:off x="3281040" y="404640"/>
            <a:ext cx="5005800" cy="18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Василий Иванови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Лебедев-Кума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</a:rPr>
              <a:t>1898 - 194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3059280" y="2332080"/>
            <a:ext cx="590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Служил в военно-морском флоте политработник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Был сотрудником газеты «Красный флот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Капитан первого ранг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Награждён тремя орденами и несколькими медаля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00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2508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2411280" y="115920"/>
            <a:ext cx="1656000" cy="226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9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50000">
              <a:srgbClr val="3399ff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680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Алексей Александрович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урков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899 - 198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23640" y="2133720"/>
            <a:ext cx="5986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Участник Гражданской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«Финской кампании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Великой Отечественной войн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Monotype Corsiva"/>
              </a:rPr>
              <a:t>1943 год – подполков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372360" y="765000"/>
            <a:ext cx="2346120" cy="30258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00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27320" y="1125360"/>
            <a:ext cx="6489360" cy="4283280"/>
          </a:xfrm>
          <a:prstGeom prst="rect">
            <a:avLst/>
          </a:prstGeom>
          <a:ln w="38160">
            <a:solidFill>
              <a:srgbClr val="ff6600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22320"/>
            <a:ext cx="9144000" cy="683568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9056520" y="6858000"/>
            <a:ext cx="87480" cy="8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78759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15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30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50000">
              <a:srgbClr val="3399ff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771640" y="1916280"/>
            <a:ext cx="6372360" cy="51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305280" indent="-3052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Военный корреспондент газет «Красная звезда», «Правда», «Комсомольская правда», «Боевое знамя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1942 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было присвоено звание старшего батальонного комисса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 algn="ctr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В </a:t>
            </a:r>
            <a:r>
              <a:rPr b="1" lang="en-US" sz="3600" spc="-1" strike="noStrike">
                <a:solidFill>
                  <a:srgbClr val="0000ff"/>
                </a:solidFill>
                <a:latin typeface="Monotype Corsiva"/>
              </a:rPr>
              <a:t>1943 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- звание подполковника, а после войны - полковника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763640" y="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Константин Михайлович 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Симонов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915 – 19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50920" y="836640"/>
            <a:ext cx="2824200" cy="3429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3300"/>
            </a:gs>
            <a:gs pos="50000">
              <a:srgbClr val="0000ff"/>
            </a:gs>
            <a:gs pos="100000">
              <a:srgbClr val="ff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-3240"/>
            <a:ext cx="9144000" cy="68598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7c80"/>
            </a:gs>
            <a:gs pos="50000">
              <a:srgbClr val="3399ff"/>
            </a:gs>
            <a:gs pos="100000">
              <a:srgbClr val="ff7c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132000" y="333000"/>
            <a:ext cx="55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Михаил Васильевич</a:t>
            </a:r>
            <a:br>
              <a:rPr sz="4000"/>
            </a:b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Исаковский</a:t>
            </a:r>
            <a:br>
              <a:rPr sz="4000"/>
            </a:b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900 - 197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68360" y="765000"/>
            <a:ext cx="2463840" cy="3888000"/>
          </a:xfrm>
          <a:prstGeom prst="rect">
            <a:avLst/>
          </a:prstGeom>
          <a:ln w="76320">
            <a:solidFill>
              <a:srgbClr val="0000ff"/>
            </a:solidFill>
            <a:miter/>
          </a:ln>
        </p:spPr>
      </p:pic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203280" y="1989000"/>
            <a:ext cx="5761080" cy="41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За свои заслуги получил Государственную премию СССР (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1943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Monotype Corsiva"/>
              </a:rPr>
              <a:t>1949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В 1970 году получил звание Герой Социалистического Труд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Награжден 4 орденами Лен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7480" indent="-267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Monotype Corsiva"/>
              </a:rPr>
              <a:t>2 другими орденами, а также меда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5T10:19:30Z</dcterms:created>
  <dc:creator>COMP</dc:creator>
  <dc:description/>
  <dc:language>en-US</dc:language>
  <cp:lastModifiedBy>COMP</cp:lastModifiedBy>
  <dcterms:modified xsi:type="dcterms:W3CDTF">2010-01-25T10:47:44Z</dcterms:modified>
  <cp:revision>28</cp:revision>
  <dc:subject/>
  <dc:title>Слайд 1</dc:title>
</cp:coreProperties>
</file>