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4.jpeg" ContentType="image/jpeg"/>
  <Override PartName="/ppt/media/image16.wmf" ContentType="image/x-wmf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7DE-3EA2-4EBB-8F70-9FB19D4D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B33-6672-48E7-B70C-06DE61C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76B-9C80-4645-817D-F131E78C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882-45E9-4019-A70D-95C59C6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E0EA-8FCD-40DB-A7FE-F29A977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E43-012D-4DEB-8163-8063EDD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FFCF-D158-4342-B82D-714A4FF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E85E-0EE5-4D01-A9BC-7382778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C5C-99F3-4BCA-A0F8-9F7D2761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3266-4DC5-4A08-9972-C32CAAB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336F-2D12-4B5A-8D0F-B9C6FD4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320-424A-4F1A-9A17-D7261FDD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EC38-C30D-4D9E-864B-4A3C55F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6DE-154A-49DA-8E3C-55867A29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166C-8A07-4C9C-8414-4D0CC410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DCC-F27F-499A-B6A7-59E8ACCD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E4A-C295-416D-98CA-48F91C9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6B1-85E6-429E-80EC-0E97375C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4C1-8F5B-4BA2-8FFB-350DBF21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69D-82BD-45E7-B06D-215F55A7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869-68A4-412B-A349-734160D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B3E-3DB0-46EC-854B-7B5CB0F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73B-EC40-4A6F-B5AF-9E5DE94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F87-4DF1-4C05-9DD5-28CBC43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2CB9-7289-4A67-B5E1-6390F9F4EE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9705-07D0-4014-B5C3-04B862571F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 меня растут год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удет и семнадц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де работать мне тогд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м заниматьс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В.Маяков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Изучаем себя: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что узнали сегодня о себе новог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4751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) ничего нового не узна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Б) узнали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что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MMj03363960000[1]"/>
          <p:cNvPicPr/>
          <p:nvPr/>
        </p:nvPicPr>
        <p:blipFill>
          <a:blip r:embed="rId1"/>
          <a:stretch/>
        </p:blipFill>
        <p:spPr>
          <a:xfrm>
            <a:off x="5292720" y="249228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еловек только там удовлетворяет других, где он удовлетворяет самого себя, лишь там он чего-то добивается, где сам верит в свои сил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юдвиг Фейерб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ЛЕДУЮЩИЙ  РАЗ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ый высокий уровень безработицы наблюдается среди молодых людей до 20 лет - </a:t>
            </a:r>
            <a:r>
              <a:rPr b="1" lang="ru-RU" sz="3200" spc="-1" strike="noStrike">
                <a:solidFill>
                  <a:srgbClr val="ffe701"/>
                </a:solidFill>
                <a:latin typeface="Tahoma"/>
              </a:rPr>
              <a:t>26%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общего количеств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j0186348"/>
          <p:cNvPicPr/>
          <p:nvPr/>
        </p:nvPicPr>
        <p:blipFill>
          <a:blip r:embed="rId1"/>
          <a:stretch/>
        </p:blipFill>
        <p:spPr>
          <a:xfrm>
            <a:off x="6732720" y="3573360"/>
            <a:ext cx="2050920" cy="288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0240695"/>
          <p:cNvPicPr/>
          <p:nvPr/>
        </p:nvPicPr>
        <p:blipFill>
          <a:blip r:embed="rId2"/>
          <a:stretch/>
        </p:blipFill>
        <p:spPr>
          <a:xfrm>
            <a:off x="3348000" y="4437000"/>
            <a:ext cx="2592360" cy="2076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Cj04303720000[1]"/>
          <p:cNvPicPr/>
          <p:nvPr/>
        </p:nvPicPr>
        <p:blipFill>
          <a:blip r:embed="rId3"/>
          <a:stretch/>
        </p:blipFill>
        <p:spPr>
          <a:xfrm>
            <a:off x="179280" y="3284640"/>
            <a:ext cx="2373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прос и предложение на рынке труда города Белгорода: как не стать безработны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февраль 2008 г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ллюстр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йды 2-6, 10-12 – из коллекции картино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Office Word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йд 8 – изображение, полученное в результате  фотографирования обложки видеокассеты «Уроки нравственнос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cc"/>
                </a:solidFill>
                <a:latin typeface="Tahoma"/>
              </a:rPr>
              <a:t>Кем быть?</a:t>
            </a: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MCj04077340000[1]"/>
          <p:cNvPicPr/>
          <p:nvPr/>
        </p:nvPicPr>
        <p:blipFill>
          <a:blip r:embed="rId1"/>
          <a:stretch/>
        </p:blipFill>
        <p:spPr>
          <a:xfrm>
            <a:off x="3419640" y="3429000"/>
            <a:ext cx="230472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9"/>
          <p:cNvSpPr/>
          <p:nvPr/>
        </p:nvSpPr>
        <p:spPr>
          <a:xfrm>
            <a:off x="4427640" y="404640"/>
            <a:ext cx="43210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йлевская Е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ОШ № 4» г.Белго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0" descr="MCj04348740000[1]"/>
          <p:cNvPicPr/>
          <p:nvPr/>
        </p:nvPicPr>
        <p:blipFill>
          <a:blip r:embed="rId2"/>
          <a:stretch/>
        </p:blipFill>
        <p:spPr>
          <a:xfrm>
            <a:off x="140328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MCj04348790000[1]"/>
          <p:cNvPicPr/>
          <p:nvPr/>
        </p:nvPicPr>
        <p:blipFill>
          <a:blip r:embed="rId3"/>
          <a:stretch/>
        </p:blipFill>
        <p:spPr>
          <a:xfrm>
            <a:off x="10429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MCj04348890000[1]"/>
          <p:cNvPicPr/>
          <p:nvPr/>
        </p:nvPicPr>
        <p:blipFill>
          <a:blip r:embed="rId4"/>
          <a:stretch/>
        </p:blipFill>
        <p:spPr>
          <a:xfrm>
            <a:off x="57960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MCj04348830000[1]"/>
          <p:cNvPicPr/>
          <p:nvPr/>
        </p:nvPicPr>
        <p:blipFill>
          <a:blip r:embed="rId5"/>
          <a:stretch/>
        </p:blipFill>
        <p:spPr>
          <a:xfrm>
            <a:off x="6931080" y="2205000"/>
            <a:ext cx="2212920" cy="221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MCj04348800000[1]"/>
          <p:cNvPicPr/>
          <p:nvPr/>
        </p:nvPicPr>
        <p:blipFill>
          <a:blip r:embed="rId6"/>
          <a:stretch/>
        </p:blipFill>
        <p:spPr>
          <a:xfrm>
            <a:off x="0" y="249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MCj04348940000[1]"/>
          <p:cNvPicPr/>
          <p:nvPr/>
        </p:nvPicPr>
        <p:blipFill>
          <a:blip r:embed="rId7"/>
          <a:stretch/>
        </p:blipFill>
        <p:spPr>
          <a:xfrm>
            <a:off x="4859280" y="0"/>
            <a:ext cx="2032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ь классного часа -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изучение себя, своей личности для выбора проф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MCj03832380000[1]"/>
          <p:cNvPicPr/>
          <p:nvPr/>
        </p:nvPicPr>
        <p:blipFill>
          <a:blip r:embed="rId1"/>
          <a:stretch/>
        </p:blipFill>
        <p:spPr>
          <a:xfrm>
            <a:off x="6372360" y="3645000"/>
            <a:ext cx="2355840" cy="2976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2288330000[1]"/>
          <p:cNvPicPr/>
          <p:nvPr/>
        </p:nvPicPr>
        <p:blipFill>
          <a:blip r:embed="rId2"/>
          <a:stretch/>
        </p:blipFill>
        <p:spPr>
          <a:xfrm>
            <a:off x="250920" y="3638520"/>
            <a:ext cx="3241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ини-сочинен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«Моя будущая профессия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нки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н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хгалте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ители-дальнобойщ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еджеры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правда, слово это было написано с ошибко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500720" y="1773360"/>
            <a:ext cx="4392360" cy="1295280"/>
          </a:xfrm>
          <a:custGeom>
            <a:avLst/>
            <a:gdLst>
              <a:gd name="textAreaLeft" fmla="*/ 1098000 w 4392360"/>
              <a:gd name="textAreaRight" fmla="*/ 3294360 w 4392360"/>
              <a:gd name="textAreaTop" fmla="*/ 16164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 сентябр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2001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5 класс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3" descr="MCj04153800000[1]"/>
          <p:cNvPicPr/>
          <p:nvPr/>
        </p:nvPicPr>
        <p:blipFill>
          <a:blip r:embed="rId1"/>
          <a:stretch/>
        </p:blipFill>
        <p:spPr>
          <a:xfrm>
            <a:off x="4932360" y="3141720"/>
            <a:ext cx="3668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Изучаем себя: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готовы ли вы к выбору профессии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 – 6 баллов – негото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– 12 баллов – низкая гото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 – 18 баллов – средняя гото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 – 24 балла – высокая готов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MCj04348810000[1]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MCj04348820000[1]"/>
          <p:cNvPicPr/>
          <p:nvPr/>
        </p:nvPicPr>
        <p:blipFill>
          <a:blip r:embed="rId2"/>
          <a:stretch/>
        </p:blipFill>
        <p:spPr>
          <a:xfrm>
            <a:off x="341964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Cj04348880000[1]"/>
          <p:cNvPicPr/>
          <p:nvPr/>
        </p:nvPicPr>
        <p:blipFill>
          <a:blip r:embed="rId3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Ваше мнение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1908000" y="1268280"/>
            <a:ext cx="5040360" cy="180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оры, влияющ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вы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фесс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аршеклассни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 rot="1423800">
            <a:off x="1798200" y="259848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5"/>
          <p:cNvSpPr/>
          <p:nvPr/>
        </p:nvSpPr>
        <p:spPr>
          <a:xfrm rot="492600">
            <a:off x="3634920" y="299700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/>
          <p:cNvSpPr/>
          <p:nvPr/>
        </p:nvSpPr>
        <p:spPr>
          <a:xfrm rot="20892000">
            <a:off x="5364000" y="292428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7"/>
          <p:cNvSpPr/>
          <p:nvPr/>
        </p:nvSpPr>
        <p:spPr>
          <a:xfrm rot="19914000">
            <a:off x="6948000" y="242064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468360" y="4365720"/>
            <a:ext cx="1942920" cy="1368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особ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2627280" y="4869000"/>
            <a:ext cx="1943280" cy="1368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4932360" y="4724280"/>
            <a:ext cx="1943280" cy="1368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сти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6948360" y="4149720"/>
            <a:ext cx="1943280" cy="1368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дущ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рпл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«Уроки  нравственности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  Альбертом  Лихановым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5370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т чего, по мнению Ирины Родниной, зависит профессиональ-ный  успех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Фото001"/>
          <p:cNvPicPr/>
          <p:nvPr/>
        </p:nvPicPr>
        <p:blipFill>
          <a:blip r:embed="rId1"/>
          <a:stretch/>
        </p:blipFill>
        <p:spPr>
          <a:xfrm>
            <a:off x="4859280" y="1628640"/>
            <a:ext cx="3855960" cy="4997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79280" y="6165720"/>
            <a:ext cx="2592360" cy="482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мотр фильма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Ваше мнение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979640" y="1413000"/>
            <a:ext cx="4968720" cy="1511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оры достиж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пеха в профе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5"/>
          <p:cNvSpPr/>
          <p:nvPr/>
        </p:nvSpPr>
        <p:spPr>
          <a:xfrm rot="1423800">
            <a:off x="1798200" y="259848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7"/>
          <p:cNvSpPr/>
          <p:nvPr/>
        </p:nvSpPr>
        <p:spPr>
          <a:xfrm rot="492600">
            <a:off x="3634920" y="299700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9"/>
          <p:cNvSpPr/>
          <p:nvPr/>
        </p:nvSpPr>
        <p:spPr>
          <a:xfrm rot="20892000">
            <a:off x="5364000" y="292428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0"/>
          <p:cNvSpPr/>
          <p:nvPr/>
        </p:nvSpPr>
        <p:spPr>
          <a:xfrm rot="19914000">
            <a:off x="6948000" y="2420640"/>
            <a:ext cx="486000" cy="1871640"/>
          </a:xfrm>
          <a:prstGeom prst="downArrow">
            <a:avLst>
              <a:gd name="adj1" fmla="val 50000"/>
              <a:gd name="adj2" fmla="val 9627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2" descr="MMj03363960000[1]"/>
          <p:cNvPicPr/>
          <p:nvPr/>
        </p:nvPicPr>
        <p:blipFill>
          <a:blip r:embed="rId1"/>
          <a:stretch/>
        </p:blipFill>
        <p:spPr>
          <a:xfrm>
            <a:off x="2700360" y="4869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MMj03363960000[1]"/>
          <p:cNvPicPr/>
          <p:nvPr/>
        </p:nvPicPr>
        <p:blipFill>
          <a:blip r:embed="rId2"/>
          <a:stretch/>
        </p:blipFill>
        <p:spPr>
          <a:xfrm>
            <a:off x="5003640" y="486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MMj03363960000[1]"/>
          <p:cNvPicPr/>
          <p:nvPr/>
        </p:nvPicPr>
        <p:blipFill>
          <a:blip r:embed="rId3"/>
          <a:stretch/>
        </p:blipFill>
        <p:spPr>
          <a:xfrm>
            <a:off x="7164360" y="4292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MMj03363960000[1]"/>
          <p:cNvPicPr/>
          <p:nvPr/>
        </p:nvPicPr>
        <p:blipFill>
          <a:blip r:embed="rId4"/>
          <a:stretch/>
        </p:blipFill>
        <p:spPr>
          <a:xfrm>
            <a:off x="539640" y="4437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Изучаем себя: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насколько вы волевой человек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MCj00787340000[1]"/>
          <p:cNvPicPr/>
          <p:nvPr/>
        </p:nvPicPr>
        <p:blipFill>
          <a:blip r:embed="rId1"/>
          <a:stretch/>
        </p:blipFill>
        <p:spPr>
          <a:xfrm>
            <a:off x="250920" y="3645000"/>
            <a:ext cx="3600360" cy="2741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Cj02512850000[1]"/>
          <p:cNvPicPr/>
          <p:nvPr/>
        </p:nvPicPr>
        <p:blipFill>
          <a:blip r:embed="rId2"/>
          <a:stretch/>
        </p:blipFill>
        <p:spPr>
          <a:xfrm>
            <a:off x="2771640" y="2205000"/>
            <a:ext cx="2952720" cy="197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MCj04061480000[1]"/>
          <p:cNvPicPr/>
          <p:nvPr/>
        </p:nvPicPr>
        <p:blipFill>
          <a:blip r:embed="rId3"/>
          <a:stretch/>
        </p:blipFill>
        <p:spPr>
          <a:xfrm>
            <a:off x="5724360" y="4581360"/>
            <a:ext cx="26640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6:57:50Z</dcterms:created>
  <dc:creator>Wolf</dc:creator>
  <dc:description/>
  <dc:language>en-US</dc:language>
  <cp:lastModifiedBy>Alena &amp; Oleg</cp:lastModifiedBy>
  <dcterms:modified xsi:type="dcterms:W3CDTF">2009-04-06T02:48:38Z</dcterms:modified>
  <cp:revision>35</cp:revision>
  <dc:subject/>
  <dc:title>Кем быть?  Проблемы выбора профессии в городе Белгороде </dc:title>
</cp:coreProperties>
</file>