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9.png" ContentType="image/png"/>
  <Override PartName="/ppt/media/image2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213-D1CF-4B9C-994E-25649246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8C5-7E73-43E2-A109-64C6471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422-E2EA-4211-B0E1-41BE386A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688-65AC-4F5E-B56B-5A5EF8C8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CC1-C83A-415F-B07F-9A949024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C86-ACE2-463C-89EF-F83024A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143-E764-4CBA-AC12-CDB1B36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7EA-9472-441F-B394-07E2387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0AF-FB13-42BE-A127-629F928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152-28FC-4833-962E-B4A5E2C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FAE-884F-4E30-9726-05F7733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B9F-15B3-497B-8CFC-AA95C689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059-B59C-412A-86E4-3F718A7F7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358120" cy="29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Чтоб сердце не было жестоко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тературно-музыкальная композиция по стихотворениям Николая Дегтярё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дминистратор\Рабочий стол\1\Сосульки\03.jpg"/>
          <p:cNvPicPr/>
          <p:nvPr/>
        </p:nvPicPr>
        <p:blipFill>
          <a:blip r:embed="rId1"/>
          <a:stretch/>
        </p:blipFill>
        <p:spPr>
          <a:xfrm>
            <a:off x="2857680" y="285840"/>
            <a:ext cx="6095880" cy="4038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714240" y="4572000"/>
            <a:ext cx="75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Я сегодня увидел вес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В отраженье сосульки на кр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Неужели опять не ус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alibri"/>
              </a:rPr>
              <a:t>Если звуки капели услыш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Администратор\Рабочий стол\1\Сосульки\op_clip_image011_0000.jpg"/>
          <p:cNvPicPr/>
          <p:nvPr/>
        </p:nvPicPr>
        <p:blipFill>
          <a:blip r:embed="rId1"/>
          <a:stretch/>
        </p:blipFill>
        <p:spPr>
          <a:xfrm>
            <a:off x="2500200" y="285840"/>
            <a:ext cx="627228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42960" y="50720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И смеётся, и стонет ду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 ней ликует и плачет при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До чего же она хорош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 пороге цветущего г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Администратор\Рабочий стол\1\Цветок\normal_%CF%EE%E4%F1%ED%E5%E6%ED%E8%EA%E8.jpg"/>
          <p:cNvPicPr/>
          <p:nvPr/>
        </p:nvPicPr>
        <p:blipFill>
          <a:blip r:embed="rId1"/>
          <a:stretch/>
        </p:blipFill>
        <p:spPr>
          <a:xfrm>
            <a:off x="0" y="0"/>
            <a:ext cx="6591240" cy="4381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Администратор\Рабочий стол\1\Цветок\podsnejniki.jpg"/>
          <p:cNvPicPr/>
          <p:nvPr/>
        </p:nvPicPr>
        <p:blipFill>
          <a:blip r:embed="rId2"/>
          <a:stretch/>
        </p:blipFill>
        <p:spPr>
          <a:xfrm>
            <a:off x="3786120" y="3286080"/>
            <a:ext cx="5357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1\Цветок\0_165e_3cec0109_XL.jpeg"/>
          <p:cNvPicPr/>
          <p:nvPr/>
        </p:nvPicPr>
        <p:blipFill>
          <a:blip r:embed="rId1"/>
          <a:stretch/>
        </p:blipFill>
        <p:spPr>
          <a:xfrm>
            <a:off x="428760" y="642960"/>
            <a:ext cx="82836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Рабочий стол\1\Цветок\0_946_60a3b689_XL.jpe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572080" y="642960"/>
            <a:ext cx="32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ркий багу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а не цвет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стник весн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гожда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на поляне - о чудо!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- раст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жный подснежни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жел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Администратор\Рабочий стол\1\Цветок\rpb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Администратор\Рабочий стол\1\Цветок\23384926_04.jpg"/>
          <p:cNvPicPr/>
          <p:nvPr/>
        </p:nvPicPr>
        <p:blipFill>
          <a:blip r:embed="rId2"/>
          <a:stretch/>
        </p:blipFill>
        <p:spPr>
          <a:xfrm>
            <a:off x="0" y="2892600"/>
            <a:ext cx="5286240" cy="3965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14200" y="35712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Не грубой колюч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жизнь воскреси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ff"/>
                </a:solidFill>
                <a:latin typeface="Calibri"/>
              </a:rPr>
              <a:t>А фиолетов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500800" y="435780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Сквозь сырость и холод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 она прояв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Надеждой и 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1\Пожары\47.jpg"/>
          <p:cNvPicPr/>
          <p:nvPr/>
        </p:nvPicPr>
        <p:blipFill>
          <a:blip r:embed="rId1"/>
          <a:stretch/>
        </p:blipFill>
        <p:spPr>
          <a:xfrm>
            <a:off x="1428840" y="1214280"/>
            <a:ext cx="6159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Администратор\Рабочий стол\1\Пожары\2073888.jpg"/>
          <p:cNvPicPr/>
          <p:nvPr/>
        </p:nvPicPr>
        <p:blipFill>
          <a:blip r:embed="rId1"/>
          <a:stretch/>
        </p:blipFill>
        <p:spPr>
          <a:xfrm>
            <a:off x="714240" y="57168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Администратор\Рабочий стол\1\Пожары\fire.JPG"/>
          <p:cNvPicPr/>
          <p:nvPr/>
        </p:nvPicPr>
        <p:blipFill>
          <a:blip r:embed="rId1"/>
          <a:stretch/>
        </p:blipFill>
        <p:spPr>
          <a:xfrm>
            <a:off x="928800" y="714240"/>
            <a:ext cx="7143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Администратор\Рабочий стол\1\Пожары\default.jpeg"/>
          <p:cNvPicPr/>
          <p:nvPr/>
        </p:nvPicPr>
        <p:blipFill>
          <a:blip r:embed="rId1"/>
          <a:stretch/>
        </p:blipFill>
        <p:spPr>
          <a:xfrm>
            <a:off x="4524480" y="0"/>
            <a:ext cx="4619520" cy="331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Администратор\Рабочий стол\1\Пожары\251721.jpg"/>
          <p:cNvPicPr/>
          <p:nvPr/>
        </p:nvPicPr>
        <p:blipFill>
          <a:blip r:embed="rId2"/>
          <a:stretch/>
        </p:blipFill>
        <p:spPr>
          <a:xfrm>
            <a:off x="0" y="2365200"/>
            <a:ext cx="60008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:\Обработанные\IMGP01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Администратор\Рабочий стол\1\Пожары\u3_14204905.jpg"/>
          <p:cNvPicPr/>
          <p:nvPr/>
        </p:nvPicPr>
        <p:blipFill>
          <a:blip r:embed="rId1"/>
          <a:stretch/>
        </p:blipFill>
        <p:spPr>
          <a:xfrm>
            <a:off x="857160" y="500040"/>
            <a:ext cx="7572600" cy="568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Администратор\Рабочий стол\1\Пожары\ras2.jpg"/>
          <p:cNvPicPr/>
          <p:nvPr/>
        </p:nvPicPr>
        <p:blipFill>
          <a:blip r:embed="rId2"/>
          <a:stretch/>
        </p:blipFill>
        <p:spPr>
          <a:xfrm>
            <a:off x="-55440" y="500040"/>
            <a:ext cx="92138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Администратор\Рабочий стол\1\Берёза\731654.jpg"/>
          <p:cNvPicPr/>
          <p:nvPr/>
        </p:nvPicPr>
        <p:blipFill>
          <a:blip r:embed="rId1"/>
          <a:stretch/>
        </p:blipFill>
        <p:spPr>
          <a:xfrm>
            <a:off x="285840" y="714240"/>
            <a:ext cx="4095720" cy="545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Администратор\Рабочий стол\1\Берёза\image_s500.jpeg"/>
          <p:cNvPicPr/>
          <p:nvPr/>
        </p:nvPicPr>
        <p:blipFill>
          <a:blip r:embed="rId2"/>
          <a:stretch/>
        </p:blipFill>
        <p:spPr>
          <a:xfrm>
            <a:off x="3857760" y="1143000"/>
            <a:ext cx="4976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Администратор\Рабочий стол\1\Берёза\zimnjaja_bereza.jpg"/>
          <p:cNvPicPr/>
          <p:nvPr/>
        </p:nvPicPr>
        <p:blipFill>
          <a:blip r:embed="rId1"/>
          <a:stretch/>
        </p:blipFill>
        <p:spPr>
          <a:xfrm>
            <a:off x="285840" y="214200"/>
            <a:ext cx="4857840" cy="6475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5286240" y="1214280"/>
            <a:ext cx="36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ажды я видел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ёрзшие слё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оманной ветке у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ой берё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Администратор\Рабочий стол\1\Image1.jpg"/>
          <p:cNvPicPr/>
          <p:nvPr/>
        </p:nvPicPr>
        <p:blipFill>
          <a:blip r:embed="rId1"/>
          <a:stretch/>
        </p:blipFill>
        <p:spPr>
          <a:xfrm>
            <a:off x="1571760" y="357120"/>
            <a:ext cx="6105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Администратор\Рабочий стол\1\Берёза\1744986.jpg"/>
          <p:cNvPicPr/>
          <p:nvPr/>
        </p:nvPicPr>
        <p:blipFill>
          <a:blip r:embed="rId1"/>
          <a:stretch/>
        </p:blipFill>
        <p:spPr>
          <a:xfrm>
            <a:off x="285840" y="285840"/>
            <a:ext cx="4471920" cy="6143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5143680" y="428760"/>
            <a:ext cx="40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 чем сравнить тебя берез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е словом все опишеш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лест тот, что вдруг услыш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возь пронзительную ти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споешь, не просвист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зумруд листка прозрач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наряд для новобрач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площенье соверш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сть, трепет – вот блажен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заре ее увиде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ж не сможешь ты оби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и людей и ни зверюшек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удешь лишь березку сл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пот этот очень ди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но гуслей звук стари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люблю тебя, берез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Администратор\Рабочий стол\1\Берёза\2697285.jpg"/>
          <p:cNvPicPr/>
          <p:nvPr/>
        </p:nvPicPr>
        <p:blipFill>
          <a:blip r:embed="rId1"/>
          <a:stretch/>
        </p:blipFill>
        <p:spPr>
          <a:xfrm>
            <a:off x="214200" y="214200"/>
            <a:ext cx="4357800" cy="581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Администратор\Рабочий стол\1\Берёза\normal_%E1%E5%F0%E5%E7%E0.JPG"/>
          <p:cNvPicPr/>
          <p:nvPr/>
        </p:nvPicPr>
        <p:blipFill>
          <a:blip r:embed="rId2"/>
          <a:stretch/>
        </p:blipFill>
        <p:spPr>
          <a:xfrm>
            <a:off x="928800" y="285840"/>
            <a:ext cx="4357440" cy="581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Администратор\Рабочий стол\1\Берёза\birch.jpg"/>
          <p:cNvPicPr/>
          <p:nvPr/>
        </p:nvPicPr>
        <p:blipFill>
          <a:blip r:embed="rId3"/>
          <a:stretch/>
        </p:blipFill>
        <p:spPr>
          <a:xfrm>
            <a:off x="1857240" y="357120"/>
            <a:ext cx="4357800" cy="5810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Администратор\Рабочий стол\1\Берёза\yaray0087.jpg"/>
          <p:cNvPicPr/>
          <p:nvPr/>
        </p:nvPicPr>
        <p:blipFill>
          <a:blip r:embed="rId4"/>
          <a:stretch/>
        </p:blipFill>
        <p:spPr>
          <a:xfrm>
            <a:off x="2857680" y="428760"/>
            <a:ext cx="3962160" cy="5929200"/>
          </a:xfrm>
          <a:prstGeom prst="rect">
            <a:avLst/>
          </a:prstGeom>
          <a:ln w="0">
            <a:noFill/>
          </a:ln>
        </p:spPr>
      </p:pic>
      <p:pic>
        <p:nvPicPr>
          <p:cNvPr id="89" name="Приложение 1.mp3" descr=""/>
          <p:cNvPicPr/>
          <p:nvPr/>
        </p:nvPicPr>
        <p:blipFill>
          <a:blip r:embed="rId5"/>
          <a:stretch/>
        </p:blipFill>
        <p:spPr>
          <a:xfrm>
            <a:off x="8286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Администратор\Рабочий стол\1\Берёза\1744986.jpg"/>
          <p:cNvPicPr/>
          <p:nvPr/>
        </p:nvPicPr>
        <p:blipFill>
          <a:blip r:embed="rId1"/>
          <a:stretch/>
        </p:blipFill>
        <p:spPr>
          <a:xfrm>
            <a:off x="285840" y="285840"/>
            <a:ext cx="4471920" cy="61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5143680" y="428760"/>
            <a:ext cx="40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 чем сравнить тебя берез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е словом все опишеш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лест тот, что вдруг услыши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квозь пронзительную тиш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споешь, не просвистиш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зумруд листка прозрач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наряд для новобрач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площенье совершен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отость, трепет – вот блажен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заре ее увиде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ж не сможешь ты обид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и людей и ни зверюшек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удешь лишь березку сл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Шепот этот очень ди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овно гуслей звук стари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елый ствол и листьев блестка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люблю тебя, берез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Администратор\Рабочий стол\1\Зея\cdfcc11306c8.jpg"/>
          <p:cNvPicPr/>
          <p:nvPr/>
        </p:nvPicPr>
        <p:blipFill>
          <a:blip r:embed="rId1"/>
          <a:stretch/>
        </p:blipFill>
        <p:spPr>
          <a:xfrm>
            <a:off x="0" y="0"/>
            <a:ext cx="5524560" cy="414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Администратор\Рабочий стол\1\Зея\star28.jpg"/>
          <p:cNvPicPr/>
          <p:nvPr/>
        </p:nvPicPr>
        <p:blipFill>
          <a:blip r:embed="rId2"/>
          <a:stretch/>
        </p:blipFill>
        <p:spPr>
          <a:xfrm>
            <a:off x="5334120" y="17780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Администратор\Рабочий стол\1\Зея\big2.jpg"/>
          <p:cNvPicPr/>
          <p:nvPr/>
        </p:nvPicPr>
        <p:blipFill>
          <a:blip r:embed="rId3"/>
          <a:stretch/>
        </p:blipFill>
        <p:spPr>
          <a:xfrm>
            <a:off x="928800" y="642960"/>
            <a:ext cx="7359480" cy="5516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000920" y="21420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Администратор\Рабочий стол\1\Зея\719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Администратор\Рабочий стол\1\Зея\538529616.jpg"/>
          <p:cNvPicPr/>
          <p:nvPr/>
        </p:nvPicPr>
        <p:blipFill>
          <a:blip r:embed="rId2"/>
          <a:stretch/>
        </p:blipFill>
        <p:spPr>
          <a:xfrm>
            <a:off x="1182600" y="1571760"/>
            <a:ext cx="7961400" cy="52862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7143840" y="3571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C:\Documents and Settings\Администратор\Рабочий стол\1\Зея\10957.JPG"/>
          <p:cNvPicPr/>
          <p:nvPr/>
        </p:nvPicPr>
        <p:blipFill>
          <a:blip r:embed="rId1"/>
          <a:stretch/>
        </p:blipFill>
        <p:spPr>
          <a:xfrm>
            <a:off x="2928960" y="2197080"/>
            <a:ext cx="6215040" cy="466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Администратор\Рабочий стол\1\Зея\664908.jpg"/>
          <p:cNvPicPr/>
          <p:nvPr/>
        </p:nvPicPr>
        <p:blipFill>
          <a:blip r:embed="rId2"/>
          <a:stretch/>
        </p:blipFill>
        <p:spPr>
          <a:xfrm>
            <a:off x="0" y="0"/>
            <a:ext cx="6934320" cy="354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Администратор\Рабочий стол\1\Зея\a_381.jpg"/>
          <p:cNvPicPr/>
          <p:nvPr/>
        </p:nvPicPr>
        <p:blipFill>
          <a:blip r:embed="rId3"/>
          <a:stretch/>
        </p:blipFill>
        <p:spPr>
          <a:xfrm>
            <a:off x="498600" y="642960"/>
            <a:ext cx="8143920" cy="55720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7000920" y="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:\Обработанные\2.JPG"/>
          <p:cNvPicPr/>
          <p:nvPr/>
        </p:nvPicPr>
        <p:blipFill>
          <a:blip r:embed="rId1"/>
          <a:stretch/>
        </p:blipFill>
        <p:spPr>
          <a:xfrm>
            <a:off x="2286000" y="285840"/>
            <a:ext cx="4240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Documents and Settings\Администратор\Рабочий стол\1\Зея\12_big.jpg"/>
          <p:cNvPicPr/>
          <p:nvPr/>
        </p:nvPicPr>
        <p:blipFill>
          <a:blip r:embed="rId1"/>
          <a:stretch/>
        </p:blipFill>
        <p:spPr>
          <a:xfrm>
            <a:off x="0" y="0"/>
            <a:ext cx="6350040" cy="483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Администратор\Рабочий стол\1\Зея\ohrana.jpg"/>
          <p:cNvPicPr/>
          <p:nvPr/>
        </p:nvPicPr>
        <p:blipFill>
          <a:blip r:embed="rId2"/>
          <a:stretch/>
        </p:blipFill>
        <p:spPr>
          <a:xfrm>
            <a:off x="2583000" y="2500200"/>
            <a:ext cx="6561000" cy="4357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7000920" y="500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642960" y="5500800"/>
            <a:ext cx="157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Река  </a:t>
            </a: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А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Администратор\Рабочий стол\1\Белогорск\2007 08 31_clip_image002.jpg"/>
          <p:cNvPicPr/>
          <p:nvPr/>
        </p:nvPicPr>
        <p:blipFill>
          <a:blip r:embed="rId1"/>
          <a:stretch/>
        </p:blipFill>
        <p:spPr>
          <a:xfrm>
            <a:off x="0" y="0"/>
            <a:ext cx="526428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Администратор\Рабочий стол\1\Белогорск\071109_water_l.jpg"/>
          <p:cNvPicPr/>
          <p:nvPr/>
        </p:nvPicPr>
        <p:blipFill>
          <a:blip r:embed="rId2"/>
          <a:stretch/>
        </p:blipFill>
        <p:spPr>
          <a:xfrm>
            <a:off x="3905280" y="292428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6643800" y="12142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ка То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Администратор\Рабочий стол\1\Белогорск\image001.gif"/>
          <p:cNvPicPr/>
          <p:nvPr/>
        </p:nvPicPr>
        <p:blipFill>
          <a:blip r:embed="rId1"/>
          <a:stretch/>
        </p:blipFill>
        <p:spPr>
          <a:xfrm>
            <a:off x="4143240" y="2142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Администратор\Рабочий стол\1\Белогорск\belogorsk001.JPG"/>
          <p:cNvPicPr/>
          <p:nvPr/>
        </p:nvPicPr>
        <p:blipFill>
          <a:blip r:embed="rId2"/>
          <a:stretch/>
        </p:blipFill>
        <p:spPr>
          <a:xfrm>
            <a:off x="214200" y="428760"/>
            <a:ext cx="5572080" cy="417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Администратор\Рабочий стол\1\Белогорск\image005.jpg"/>
          <p:cNvPicPr/>
          <p:nvPr/>
        </p:nvPicPr>
        <p:blipFill>
          <a:blip r:embed="rId3"/>
          <a:stretch/>
        </p:blipFill>
        <p:spPr>
          <a:xfrm>
            <a:off x="5000760" y="2571840"/>
            <a:ext cx="3929040" cy="326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Администратор\Рабочий стол\1\Белогорск\image004.jpg"/>
          <p:cNvPicPr/>
          <p:nvPr/>
        </p:nvPicPr>
        <p:blipFill>
          <a:blip r:embed="rId4"/>
          <a:stretch/>
        </p:blipFill>
        <p:spPr>
          <a:xfrm>
            <a:off x="500040" y="2714760"/>
            <a:ext cx="5200560" cy="39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Администратор\Рабочий стол\1\Белогорск\image003.jpg"/>
          <p:cNvPicPr/>
          <p:nvPr/>
        </p:nvPicPr>
        <p:blipFill>
          <a:blip r:embed="rId5"/>
          <a:stretch/>
        </p:blipFill>
        <p:spPr>
          <a:xfrm>
            <a:off x="1797120" y="1243080"/>
            <a:ext cx="57038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Администратор\Рабочий стол\1\Белогорск\Image1.jpg"/>
          <p:cNvPicPr/>
          <p:nvPr/>
        </p:nvPicPr>
        <p:blipFill>
          <a:blip r:embed="rId1"/>
          <a:stretch/>
        </p:blipFill>
        <p:spPr>
          <a:xfrm>
            <a:off x="357120" y="-3240"/>
            <a:ext cx="84297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Администратор\Рабочий стол\1\Зея\920625.jpg"/>
          <p:cNvPicPr/>
          <p:nvPr/>
        </p:nvPicPr>
        <p:blipFill>
          <a:blip r:embed="rId1"/>
          <a:stretch/>
        </p:blipFill>
        <p:spPr>
          <a:xfrm>
            <a:off x="214200" y="0"/>
            <a:ext cx="872352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I:\Обработанные\3.JPG"/>
          <p:cNvPicPr/>
          <p:nvPr/>
        </p:nvPicPr>
        <p:blipFill>
          <a:blip r:embed="rId1"/>
          <a:stretch/>
        </p:blipFill>
        <p:spPr>
          <a:xfrm>
            <a:off x="428760" y="285840"/>
            <a:ext cx="4214520" cy="6323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857840" y="214200"/>
            <a:ext cx="38574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о зл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злым станов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 добр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мне не го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всеми бороться – себя поб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, себе самому навре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оронке остать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зьями рас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жто всегда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ем-то сраж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надо ж к чему-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стрем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в жизни когда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го-то доб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о дал ответ седовласый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исчезнувший в этот же ми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Стремись стать со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если ты Человек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то растранжир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апрасно свой 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инистратор\Рабочий стол\1\Иисус\p11929.jpg"/>
          <p:cNvPicPr/>
          <p:nvPr/>
        </p:nvPicPr>
        <p:blipFill>
          <a:blip r:embed="rId1"/>
          <a:stretch/>
        </p:blipFill>
        <p:spPr>
          <a:xfrm>
            <a:off x="785880" y="428760"/>
            <a:ext cx="3524040" cy="431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Администратор\Рабочий стол\1\Иисус\115489089047cf9abfed8f8.jpg"/>
          <p:cNvPicPr/>
          <p:nvPr/>
        </p:nvPicPr>
        <p:blipFill>
          <a:blip r:embed="rId2"/>
          <a:stretch/>
        </p:blipFill>
        <p:spPr>
          <a:xfrm>
            <a:off x="4734000" y="1143000"/>
            <a:ext cx="39812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Администратор\Рабочий стол\1\Иисус\1210597475_1_FT201_p0000095.jpg"/>
          <p:cNvPicPr/>
          <p:nvPr/>
        </p:nvPicPr>
        <p:blipFill>
          <a:blip r:embed="rId1"/>
          <a:stretch/>
        </p:blipFill>
        <p:spPr>
          <a:xfrm>
            <a:off x="2162160" y="338040"/>
            <a:ext cx="4819680" cy="6181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Администратор\Рабочий стол\1\Иисус\38792.jpg"/>
          <p:cNvPicPr/>
          <p:nvPr/>
        </p:nvPicPr>
        <p:blipFill>
          <a:blip r:embed="rId2"/>
          <a:stretch/>
        </p:blipFill>
        <p:spPr>
          <a:xfrm>
            <a:off x="2171880" y="303120"/>
            <a:ext cx="4900320" cy="6126120"/>
          </a:xfrm>
          <a:prstGeom prst="rect">
            <a:avLst/>
          </a:prstGeom>
          <a:ln w="0">
            <a:noFill/>
          </a:ln>
        </p:spPr>
      </p:pic>
      <p:pic>
        <p:nvPicPr>
          <p:cNvPr id="123" name="Приложение 2.mp3" descr=""/>
          <p:cNvPicPr/>
          <p:nvPr/>
        </p:nvPicPr>
        <p:blipFill>
          <a:blip r:embed="rId3"/>
          <a:stretch/>
        </p:blipFill>
        <p:spPr>
          <a:xfrm>
            <a:off x="842976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Администратор\Рабочий стол\1\Иисус\26.JPG"/>
          <p:cNvPicPr/>
          <p:nvPr/>
        </p:nvPicPr>
        <p:blipFill>
          <a:blip r:embed="rId1"/>
          <a:stretch/>
        </p:blipFill>
        <p:spPr>
          <a:xfrm>
            <a:off x="2643120" y="285840"/>
            <a:ext cx="38005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Администратор\Рабочий стол\1\Иисус\aura_2.jpg"/>
          <p:cNvPicPr/>
          <p:nvPr/>
        </p:nvPicPr>
        <p:blipFill>
          <a:blip r:embed="rId1"/>
          <a:stretch/>
        </p:blipFill>
        <p:spPr>
          <a:xfrm>
            <a:off x="214200" y="1357200"/>
            <a:ext cx="2519640" cy="356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Documents and Settings\Администратор\Рабочий стол\1\Иисус\2797170.jpg"/>
          <p:cNvPicPr/>
          <p:nvPr/>
        </p:nvPicPr>
        <p:blipFill>
          <a:blip r:embed="rId2"/>
          <a:stretch/>
        </p:blipFill>
        <p:spPr>
          <a:xfrm>
            <a:off x="6357960" y="1428840"/>
            <a:ext cx="26035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928960" y="357120"/>
            <a:ext cx="3571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е Богородица яв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 сне, как свет людских наде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вся квартира озар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иянием Её оде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на пришла, а с чем - не зн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о уж, конечно, неспроста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гда-то женщина зем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м подарившая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эта светлая отра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уши покой и радость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ня коснулись, как прох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ды лесной сквозь жара п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смысл, и ощущенье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снулись ласково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все исчезли укориз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дым уходит от ог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эту радость один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е понесу - она для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тоб сердце не было жест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я не зря свой прожил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I:\Обработанные\Соратник 4.JPG"/>
          <p:cNvPicPr/>
          <p:nvPr/>
        </p:nvPicPr>
        <p:blipFill>
          <a:blip r:embed="rId1"/>
          <a:stretch/>
        </p:blipFill>
        <p:spPr>
          <a:xfrm>
            <a:off x="214200" y="1571760"/>
            <a:ext cx="4786560" cy="445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I:\Обработанные\Соратник 3.JPG"/>
          <p:cNvPicPr/>
          <p:nvPr/>
        </p:nvPicPr>
        <p:blipFill>
          <a:blip r:embed="rId2"/>
          <a:stretch/>
        </p:blipFill>
        <p:spPr>
          <a:xfrm>
            <a:off x="5143680" y="500040"/>
            <a:ext cx="3786120" cy="5786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000080" y="78588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луб «Сорат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I:\Обработанные\3.JPG"/>
          <p:cNvPicPr/>
          <p:nvPr/>
        </p:nvPicPr>
        <p:blipFill>
          <a:blip r:embed="rId1"/>
          <a:stretch/>
        </p:blipFill>
        <p:spPr>
          <a:xfrm>
            <a:off x="428760" y="285840"/>
            <a:ext cx="4214520" cy="6323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4857840" y="214200"/>
            <a:ext cx="38574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о злом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злым станов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оться с добр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мне не го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всеми бороться – себя поб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, себе самому навре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торонке остать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рузьями рас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жто всегда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ем-то сраж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надо ж к чему-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стрем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 в жизни когда-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го-то доб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о дал ответ седовласый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-то исчезнувший в этот же ми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Стремись стать со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если ты Человек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то растранжириш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апрасно свой в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:\Обработанные\2.JPG"/>
          <p:cNvPicPr/>
          <p:nvPr/>
        </p:nvPicPr>
        <p:blipFill>
          <a:blip r:embed="rId1"/>
          <a:stretch/>
        </p:blipFill>
        <p:spPr>
          <a:xfrm>
            <a:off x="571680" y="357120"/>
            <a:ext cx="4240080" cy="6113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5000760" y="785880"/>
            <a:ext cx="378612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мысл, и ощущенье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снулись ласково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все исчезли укориз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к дым уходит от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 эту радость один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понесу - она для вс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б сердце не было жест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 я не зря свой прожил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членов кружка «Лир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 Н. Т. Дегтярёвым состоялас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.03.2009 год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актовом зал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У СОШ с. Томск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:\Обработанные\У моря.JPG"/>
          <p:cNvPicPr/>
          <p:nvPr/>
        </p:nvPicPr>
        <p:blipFill>
          <a:blip r:embed="rId1"/>
          <a:stretch/>
        </p:blipFill>
        <p:spPr>
          <a:xfrm>
            <a:off x="500040" y="428760"/>
            <a:ext cx="4786200" cy="5967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572080" y="15001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У моря есть свои законы,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Для слабых место на зем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Они не впишутся в кан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d0d0d"/>
                </a:solidFill>
                <a:latin typeface="Calibri"/>
              </a:rPr>
              <a:t>Что действуют при Непт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Documents and Settings\Администратор\Рабочий стол\1\Багульник\rho_dah0.jpg"/>
          <p:cNvPicPr/>
          <p:nvPr/>
        </p:nvPicPr>
        <p:blipFill>
          <a:blip r:embed="rId1"/>
          <a:stretch/>
        </p:blipFill>
        <p:spPr>
          <a:xfrm>
            <a:off x="-214200" y="2857680"/>
            <a:ext cx="534816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C:\Documents and Settings\Администратор\Рабочий стол\1\Багульник\168004681.jpg"/>
          <p:cNvPicPr/>
          <p:nvPr/>
        </p:nvPicPr>
        <p:blipFill>
          <a:blip r:embed="rId2"/>
          <a:stretch/>
        </p:blipFill>
        <p:spPr>
          <a:xfrm>
            <a:off x="3238560" y="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Администратор\Рабочий стол\1\Багульник\post-17445-1171681428.jpg"/>
          <p:cNvPicPr/>
          <p:nvPr/>
        </p:nvPicPr>
        <p:blipFill>
          <a:blip r:embed="rId1"/>
          <a:stretch/>
        </p:blipFill>
        <p:spPr>
          <a:xfrm>
            <a:off x="3929040" y="214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1\Багульник\81471.jpg"/>
          <p:cNvPicPr/>
          <p:nvPr/>
        </p:nvPicPr>
        <p:blipFill>
          <a:blip r:embed="rId2"/>
          <a:stretch/>
        </p:blipFill>
        <p:spPr>
          <a:xfrm>
            <a:off x="21420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14200" y="714240"/>
            <a:ext cx="3643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Как быстро Природа весной ожива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Багульник цвет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где подснежник отцв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И почки березы уже набух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ff"/>
                </a:solidFill>
                <a:latin typeface="Calibri"/>
              </a:rPr>
              <a:t>В сиреневой мгле на окраинах 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143680" y="46432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При родах присутствую я у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Свидетельствую появленье ве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1\Багульник\63.jpg"/>
          <p:cNvPicPr/>
          <p:nvPr/>
        </p:nvPicPr>
        <p:blipFill>
          <a:blip r:embed="rId1"/>
          <a:stretch/>
        </p:blipFill>
        <p:spPr>
          <a:xfrm>
            <a:off x="0" y="0"/>
            <a:ext cx="9293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Администратор\Рабочий стол\1\Сосульки\icicle.jpg"/>
          <p:cNvPicPr/>
          <p:nvPr/>
        </p:nvPicPr>
        <p:blipFill>
          <a:blip r:embed="rId1"/>
          <a:stretch/>
        </p:blipFill>
        <p:spPr>
          <a:xfrm>
            <a:off x="571680" y="42876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5:07:19Z</dcterms:created>
  <dc:creator>Zver</dc:creator>
  <dc:description/>
  <dc:language>en-US</dc:language>
  <cp:lastModifiedBy>user</cp:lastModifiedBy>
  <dcterms:modified xsi:type="dcterms:W3CDTF">2011-01-31T17:40:45Z</dcterms:modified>
  <cp:revision>31</cp:revision>
  <dc:subject/>
  <dc:title>«Чтоб сердце не было жестоко»</dc:title>
</cp:coreProperties>
</file>