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C9B8-649C-4318-8719-61E85B487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2D59-F608-4F9C-993B-D5078CCB9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2BA4-9188-4A4A-B9CF-91D599A17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CE83-08D2-45F4-A2F0-F22F52B07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B54A8-1F10-45AD-BEB7-7B95E33A4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804B7-780B-4113-933C-F2DB7AD54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23A86-43EF-4D1C-9BAF-0ED428B23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D2E8D-94EE-458E-9F66-0F9F86AFA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3053C-F829-418E-9A05-CC3398178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AE1B4-38A1-4318-AB05-A0C9E1352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8F8B7-D66B-4D92-922B-4C54BFBC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E072-E024-4678-B9A0-C255189D8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82CAA-D7AE-44FD-B5B8-58B4AA00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2E7F7-5F65-441F-B75C-416D6CAD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0D273-4559-4678-8866-A3262087F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D8BF4-78FD-443E-A853-D23E20CF8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3955A-1867-4198-91AD-FAD815CC8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BDFC-039C-45D6-A9BB-739591AF9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0F31-EA6D-4C16-A4EF-C4CCB1DE3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3B87-B36C-46A5-83BC-78F16469D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EAB7-D83C-4C18-B47D-B9B4CBFB7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CD07-E111-4960-A218-FF2163A3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3E83-9F40-4FEE-ACA8-F2916025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6A38-0325-45DD-98E5-D7F356C7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9BFEB-278D-4ACD-9E2E-AF134B9E479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1F8C2-62D0-43FC-83B7-8885C48F052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1600200"/>
            <a:ext cx="791856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692360" y="2492280"/>
            <a:ext cx="547200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Walking</a:t>
            </a:r>
            <a:endParaRPr b="0" i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211640" y="333360"/>
            <a:ext cx="4456080" cy="6191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 rot="601200">
            <a:off x="1692000" y="4436640"/>
            <a:ext cx="300996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Verdana"/>
              </a:rPr>
              <a:t>                                                                   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47880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5040360" cy="3033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 rot="21207600">
            <a:off x="3348000" y="2565000"/>
            <a:ext cx="475308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427640" y="476280"/>
            <a:ext cx="42876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7716960" cy="57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21:10:40Z</dcterms:created>
  <dc:creator>Arina</dc:creator>
  <dc:description/>
  <dc:language>en-US</dc:language>
  <cp:lastModifiedBy>Arina</cp:lastModifiedBy>
  <dcterms:modified xsi:type="dcterms:W3CDTF">2009-02-18T17:53:46Z</dcterms:modified>
  <cp:revision>3</cp:revision>
  <dc:subject/>
  <dc:title>Слайд 1</dc:title>
</cp:coreProperties>
</file>