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53E-38A1-4B17-A09A-EF6A5D87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ABF-1A2F-4F3D-9657-FD2A9BCD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9E0-943D-4F73-83C0-5E010181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D5A-B8A0-47F5-98D8-9B96D348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97E-D092-4B96-A062-9C9D8304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59D-EF96-4782-821E-1850974A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989-82AF-4BCE-B1AB-64C8212F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292-D58D-4A20-8C3F-8F846437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E16-B93E-4753-9681-783AF153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377-938C-454E-A59D-B862A773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59C-9830-4A37-B2AF-D5D1836E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1A2-C7F7-4AD0-A7DC-928223B8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69EC-3329-4DD6-81A2-BCBC7D82D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33720" y="2349360"/>
            <a:ext cx="4778280" cy="14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еглые глас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557440" cy="2664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179280" y="3112920"/>
            <a:ext cx="4464000" cy="3745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4"/>
          <a:stretch/>
        </p:blipFill>
        <p:spPr>
          <a:xfrm>
            <a:off x="3492360" y="1125360"/>
            <a:ext cx="2738520" cy="302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5364000" y="2349360"/>
            <a:ext cx="34639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66400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1187280" y="3141720"/>
            <a:ext cx="2808360" cy="359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tretch/>
        </p:blipFill>
        <p:spPr>
          <a:xfrm>
            <a:off x="4067280" y="0"/>
            <a:ext cx="2520720" cy="374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5"/>
          <a:stretch/>
        </p:blipFill>
        <p:spPr>
          <a:xfrm>
            <a:off x="5508720" y="3186000"/>
            <a:ext cx="3240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952720" cy="350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3"/>
          <a:stretch/>
        </p:blipFill>
        <p:spPr>
          <a:xfrm>
            <a:off x="4643280" y="0"/>
            <a:ext cx="33721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8:20:54Z</dcterms:created>
  <dc:creator>XP GAME 2007</dc:creator>
  <dc:description/>
  <dc:language>en-US</dc:language>
  <cp:lastModifiedBy>Питонище</cp:lastModifiedBy>
  <dcterms:modified xsi:type="dcterms:W3CDTF">2010-05-09T16:46:47Z</dcterms:modified>
  <cp:revision>4</cp:revision>
  <dc:subject/>
  <dc:title>Слайд 1</dc:title>
</cp:coreProperties>
</file>