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13D9-EF80-4C6A-B0A3-C66B40FBD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0CD8-26CB-4605-8730-B5E51420FB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243-7284-4BF6-A0D3-6401A5028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EE4-A06A-416A-98E0-ED1ECDC4E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3FB3-331C-4678-B16D-22B78688B1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2466-D07D-42AD-A141-BB4633D6D5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7EEE-ACC4-40F0-BB7E-76185D0166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B4C-9694-48ED-A4BB-63DB280CF8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93E1-98F0-4FD5-B20F-A33A63CF0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65F1-C202-4D56-B498-337DE745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B06-0C49-47CA-AD7C-6315A56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753-2DFC-4D15-A368-45E09EA0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52A-F96B-41A5-891D-7F5D39EA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12F9-AAA7-45B2-8BF7-C0AA46C5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E7A8-5024-45CD-B09C-6AB37591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FF57-AA72-4926-B2BF-92359E2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A85E-DC59-4757-95B5-C6451E33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DB80-575F-41B6-899B-7425B0C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05BD-E4B5-4E22-9A04-3D795B9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961-16F0-4E5B-B38A-2879C1D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1FE-BE75-4A9B-B2A6-200F907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51A8-5EC4-4779-BA05-3B0AB19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743-FA5D-4D6E-9CAD-DA33385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BB0A-D503-487E-AC80-73D0B47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408B-A9A2-4359-A0DC-34D9CAC0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ACD6-69D6-41C0-8234-A8E5EE1C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E17-A041-4456-A953-5AB9BC35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B1D-5E1A-4874-9720-8D715158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2F8-A850-47EF-8B2A-A464726C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3C9-6C72-4206-895B-C517B963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BD9-826B-4943-A7E4-BAF2E61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4E2-11B4-408D-85F8-BCE5E9A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2CD-3A3F-4F90-AF6E-A77D4B6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D43-72EA-470E-88C6-1F3AC34A3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D60-36D3-46AF-9D9F-F25C92A665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2492280" y="2862360"/>
            <a:ext cx="415944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Фи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287280" y="657360"/>
            <a:ext cx="8569440" cy="68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рограммируемые устр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87280" y="1484280"/>
            <a:ext cx="8569440" cy="68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Сче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87280" y="2313000"/>
            <a:ext cx="8569440" cy="68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Фирм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87280" y="3105000"/>
            <a:ext cx="8569440" cy="68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Первые букв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6696000" y="692280"/>
            <a:ext cx="2089080" cy="61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6732720" y="1484280"/>
            <a:ext cx="2089080" cy="61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6732720" y="2311560"/>
            <a:ext cx="2089080" cy="61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6767640" y="3141720"/>
            <a:ext cx="2089080" cy="612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809360"/>
            <a:ext cx="8229600" cy="32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манки, музыкальные шкатулки и предмет Х. Все эти предметы объединяет одно - они работают по программе. Это особенно удивительно, если вспомнить, что во время их создания о программировании никто еще не догадывался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шарманке и музыкальных шкатулках так называемая “программа” записана в виде штырьков, расположенных на валу. При вращении вала штырьки задевают пластинки, звучание которых сливается в стройную мелодию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прос: Назовите предмет Х.</a:t>
            </a: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1" name="Rectangle 3">
            <a:hlinkClick r:id="" action="ppaction://hlinkshowjump?jump=lastslide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7280" y="-3240"/>
            <a:ext cx="8569440" cy="68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Программируемые устрой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1360"/>
            <a:ext cx="8229600" cy="32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евнем Риме использовалось много приспособлений доля счета - пальцы рук, узлы на веревке, камешки в желобке, зарубки на палке. Одно из этих приспособлений называлось "калькулюс", от которого произошло слово калькулятор. Что называлось этим словом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4" name="Rectangle 3">
            <a:hlinkClick r:id="" action="ppaction://hlinkshowjump?jump=lastslide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87280" y="584280"/>
            <a:ext cx="8569440" cy="68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Сче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мериканский изобретатель Герман Холлерит создал электромеханическую счетную машину – табулятор, в котором использовались перфокарты. Спрос на эту машину был столь велик, что Холлериту пришлось основать собственную фирму. Конечно, с течением времени эта фирма претерпела множество изменений и переименований, но она существует и по сегодняшний день. Как называется эта фирма?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Rectangle 3">
            <a:hlinkClick r:id="" action="ppaction://hlinkshowjump?jump=lastslide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87280" y="584280"/>
            <a:ext cx="8569440" cy="684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Фирм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е две буквы этих слов совпадают. Назовите эти слова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Набор цветов, которые могут использоваться в изображени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Место хранения (постоянного или временного) информации в компьютере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Язык программирования</a:t>
            </a: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90" name="Rectangle 3">
            <a:hlinkClick r:id="" action="ppaction://hlinkshowjump?jump=lastslide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87280" y="620640"/>
            <a:ext cx="8569440" cy="684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Первые букв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0:18:20Z</dcterms:created>
  <dc:creator>ДК</dc:creator>
  <dc:description/>
  <dc:language>en-US</dc:language>
  <cp:lastModifiedBy>Класс 28</cp:lastModifiedBy>
  <dcterms:modified xsi:type="dcterms:W3CDTF">2010-01-31T10:46:34Z</dcterms:modified>
  <cp:revision>12</cp:revision>
  <dc:subject/>
  <dc:title>Слайд 1</dc:title>
</cp:coreProperties>
</file>