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C21-B0BC-47C9-8DEA-DA4EAB34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027-66BA-46BC-A04B-C38C327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BB8-9B31-469B-B7A0-C10C1D3E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F74-6560-4762-B90F-6B4D65AA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C268-4998-455C-9AEA-6B591858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CEF8-987E-48AB-BD72-CE24803C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935A-B485-4D8D-967C-A852DE99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540C-6FB7-4E50-B16F-8EF1DEDD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8FE8-852F-459B-82BF-8A29DB24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4118-2D8D-4012-8B41-45314A16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6C21-C619-424B-B8D3-BA8D1B2E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C7E-C27A-48CD-A192-A5223C2B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0C0A-1082-4F80-9FAF-25CE7A22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4099-D873-4826-A564-AF710DB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0587-1CF3-48B8-94DD-73DA86A4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29F1-5788-4349-B081-DF4D6433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1A6D-4601-42E2-BF59-052E2272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832-6D6B-4A1F-8599-DDC02254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D06-A135-4AA6-87B2-7F40C799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91D-7682-42D6-B287-8822F4E8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2C8-7319-4344-9647-AD29AEEC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379-FAF8-4C84-878D-438927CD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A7E-7156-4AF1-B11A-EF1B104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734-F0DC-4084-BA28-1A073629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1092-543B-485B-834A-99FDDF455F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3656-2CB9-4B35-B7BB-90C428F712D8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b3384"/>
                </a:solidFill>
                <a:latin typeface="Times New Roman"/>
              </a:rPr>
              <a:t>School</a:t>
            </a:r>
            <a:r>
              <a:rPr b="1" lang="en-GB" sz="6600" spc="-1" strike="noStrike">
                <a:solidFill>
                  <a:srgbClr val="4b3384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33080" y="375408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oo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Spotligh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5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tho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Virginia Ev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ny Dooley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ga Podolyak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lia Vaulina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ach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L.V. Kostousova, lyceum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№1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ungu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Use a/an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 ca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 a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 eg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 lem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. apple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 dol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 fla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. erase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 han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. garlic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Name the missing letters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 - - - - - y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 - - - - - h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 - - - - - 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 - - - c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 - - - 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Thank you for your work!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Read the poem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t school I learn,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t school I play,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 go to school every day.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827080" cy="4724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rack No36.mp3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Listen and repe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3373560" cy="2335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657600" y="1219320"/>
            <a:ext cx="5029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glish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thematics (Maths)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ience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rt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ograph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ic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tion Technology (IT)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ysical Education (PE)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91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What subjects does Jane like?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ohyti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hgi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isecc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usm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ma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5751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What subjects does Jane like?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cienc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usic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5751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Fill in the gaps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 learn to speak ….,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 work on the computer at …. ,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 study the past at …. ,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 run and jump at ….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Fill in the gaps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69800" y="167652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 learn to speak English,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 work on the computer at IT,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 study the past at History,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 run and jump at PE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Read 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nday, Monday, Tuesday,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ednesday and Thursday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iday, Saturday, agai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nday comes,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urrah!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Listen and read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unday,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onday,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uesday,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ednesday,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ursday,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iday,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aturday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Track No3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63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36:36Z</dcterms:created>
  <dc:creator>Матаня</dc:creator>
  <dc:description/>
  <dc:language>en-US</dc:language>
  <cp:lastModifiedBy>Верволк</cp:lastModifiedBy>
  <dcterms:modified xsi:type="dcterms:W3CDTF">2009-06-13T14:15:44Z</dcterms:modified>
  <cp:revision>19</cp:revision>
  <dc:subject/>
  <dc:title>Слайд 1</dc:title>
</cp:coreProperties>
</file>