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gif" ContentType="image/gif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77EE-203E-4592-9A6E-EDA3056B5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7EAD-5214-4B07-ADF7-5914778998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542-721B-45C0-8A2E-188BEAE8B8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63E-C773-4440-9B1C-46DE0216DC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CEB6-9D97-4BC8-8DEB-9140B33564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40B9-BA3F-46AE-A75E-06070BF9D9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0333-3FD5-4A34-B965-4F3120A6A6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5C4-D52D-4DC2-A887-A4E39F259C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D1A3-A633-43DB-AEF7-B992DC0AE6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65E-E6ED-4D69-8417-D0514A50F8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A4B-2397-4B5C-8881-C0EE44847B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DCBD-16BD-4C99-952D-A4EE90C34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A5C-1F94-415E-B624-FD524749F2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9B4-A8E9-4EF7-94F3-AC70051031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E7F-659A-47B6-B158-2813F2E324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3CC-BBDF-498E-BCC5-F8ECEC477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274B-98BD-4C04-A352-52D1476E94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9B4-88DB-441C-908D-401F3B9170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E86-5583-4D93-9BD4-7875A21304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7C6-4234-40BE-8CEE-4998D9EFAD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6600-0E55-4E25-9EF6-3CD073DB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A3BA-0626-423B-B7C6-93B55064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A412-2DA9-46D6-80F4-73C5338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B2BE-DD83-4BD4-9059-7CEF400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34C-AEB6-470B-8FF6-422F93B9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6B1-2D2C-454D-BC59-6982263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A5F0-37CA-43F8-A016-5E32D4B4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A882-5AD5-4329-875B-FF24547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607-0955-4CBC-902D-A653884C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A7B-4CEA-4FE6-8A7D-983CF9D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F84E-7FA0-48F9-95DD-81E4F04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F03E-8E78-45A7-B92E-11BC95DF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BAEC-24F9-428E-86D6-BFD423E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C61-AF7E-438D-B61A-6E480B3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522-2DFD-496B-9FFB-6E29AA16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83C-4BD1-41E3-A52E-75649E4A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CE7-7204-4F2C-8BF5-A137DE34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7642-F031-467E-AE18-F57577E8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7E9A-E385-4D6E-857C-45913ADA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73E8-3D2A-478C-9580-0031D01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915A-37EF-4E93-B0B8-408FDD1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CF09-3580-4190-AE09-E50DE637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4621-A2C6-4E41-8178-2D7A5CA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2534-CE4A-46F0-A304-FFBE0BED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9D6E-18D6-4709-BBEC-3A274C0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97D0-A331-4E20-9B2D-09BBA42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8E04-2CE5-43E1-A584-2AEFD49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7210-0E4F-480B-A7F6-E241688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42FC-662E-4933-8B48-5A96EA85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AFDA-B74A-4536-AEE8-014CFAD1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9E26-BA12-45C1-8091-85DECDB0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9816-C8C0-47F8-9016-6200582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7105-2D06-4CDA-9E3C-C5E81644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898B-080F-48BC-A8E0-8B6C461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A04B-37F2-4E1C-8D27-1B5B2FA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CF04-B916-4085-84B5-5DDECA8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1F94-2ECE-4FAB-B15D-E7F709C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6FFC-EF64-40F8-8778-C728D4A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CF67-C5B6-458B-B3E0-E4FA0A79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AA61-C491-4589-B310-E6F2A8A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E652-8BF9-4FF8-A283-5CC5C23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1ED4-F60B-4C08-BCEB-CA7D1B85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3EBE-9851-4350-A50E-E1A682C4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3470-273A-4526-B193-2A69B9A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77EA-7FD1-4B0F-A1E7-425E062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AC52-C9A4-4882-B128-69B9B402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9878-1355-4500-B18C-6D98214D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1441-C311-4AFC-ADD9-23EE27A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947-6634-4E83-B496-46201C3954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3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78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79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8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8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8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91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94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97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9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00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2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03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06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09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12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15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2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24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3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2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33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5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3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7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8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39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3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4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5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53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56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6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65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6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71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7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66E8-128D-4276-BD3D-C3C47F707E2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6C15-C22A-462B-AB11-A11150D411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03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04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6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07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08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09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0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1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12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13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4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5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316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7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8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319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0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1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322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3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4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325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6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7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328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9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0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331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2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3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334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5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6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337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8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9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340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1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2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343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4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5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346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7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8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349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0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1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352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3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4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355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6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7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358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9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0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361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2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3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364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5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6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367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8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9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370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71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72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373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74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75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6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7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378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79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0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381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2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3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384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5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6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87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8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89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390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1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2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393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4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5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96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7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98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399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0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01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02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3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04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05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6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07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08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9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410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11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12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3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4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5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6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7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8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9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20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421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D0E-4AAE-4B27-B504-76639059462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33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Tahoma"/>
              </a:rPr>
              <a:t>Мы родом не из детства –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из войны</a:t>
            </a:r>
            <a:r>
              <a:rPr b="1" lang="ru-RU" sz="60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500120" y="4500360"/>
            <a:ext cx="640080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ям пережившим страшное военное время посвящ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4786200" y="592920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Tahoma"/>
              </a:rPr>
              <a:t>Учитель: Рыжова Н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Tahoma"/>
              </a:rPr>
              <a:t>МОУ «Поповская основна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5761080" cy="4091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200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24360" y="333360"/>
            <a:ext cx="496872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4" descr="леня голиков фото"/>
          <p:cNvPicPr/>
          <p:nvPr/>
        </p:nvPicPr>
        <p:blipFill>
          <a:blip r:embed="rId1"/>
          <a:stretch/>
        </p:blipFill>
        <p:spPr>
          <a:xfrm>
            <a:off x="1116000" y="260280"/>
            <a:ext cx="2336760" cy="2592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марат казей фото"/>
          <p:cNvPicPr/>
          <p:nvPr/>
        </p:nvPicPr>
        <p:blipFill>
          <a:blip r:embed="rId2"/>
          <a:stretch/>
        </p:blipFill>
        <p:spPr>
          <a:xfrm>
            <a:off x="5580000" y="26028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александр бородулин фото"/>
          <p:cNvPicPr/>
          <p:nvPr/>
        </p:nvPicPr>
        <p:blipFill>
          <a:blip r:embed="rId3"/>
          <a:stretch/>
        </p:blipFill>
        <p:spPr>
          <a:xfrm>
            <a:off x="971640" y="3645000"/>
            <a:ext cx="2592360" cy="2484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сканирование0003"/>
          <p:cNvPicPr/>
          <p:nvPr/>
        </p:nvPicPr>
        <p:blipFill>
          <a:blip r:embed="rId4"/>
          <a:stretch/>
        </p:blipFill>
        <p:spPr>
          <a:xfrm>
            <a:off x="5580000" y="3500280"/>
            <a:ext cx="1944720" cy="2735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1191240" y="292428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535680" y="618804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лександр Бороду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5512680" y="28749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5013360" y="62596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инаида Самсо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инаида Самсонова – наша землячк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4" name="Picture 4" descr="га 011"/>
          <p:cNvPicPr/>
          <p:nvPr/>
        </p:nvPicPr>
        <p:blipFill>
          <a:blip r:embed="rId1"/>
          <a:stretch/>
        </p:blipFill>
        <p:spPr>
          <a:xfrm>
            <a:off x="826920" y="1341360"/>
            <a:ext cx="2911680" cy="4530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сканирование0003"/>
          <p:cNvPicPr/>
          <p:nvPr/>
        </p:nvPicPr>
        <p:blipFill>
          <a:blip r:embed="rId2"/>
          <a:stretch/>
        </p:blipFill>
        <p:spPr>
          <a:xfrm>
            <a:off x="4643280" y="1413000"/>
            <a:ext cx="31226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4" descr="0_1dd97_eec6ffeb_XL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3682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кольким детя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озвратили детств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 весну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4" descr="img199"/>
          <p:cNvPicPr/>
          <p:nvPr/>
        </p:nvPicPr>
        <p:blipFill>
          <a:blip r:embed="rId1"/>
          <a:stretch/>
        </p:blipFill>
        <p:spPr>
          <a:xfrm>
            <a:off x="324000" y="189000"/>
            <a:ext cx="4047840" cy="63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3" name="Рисунок 5" descr="255755.jpg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534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34" name="metronom1.mp3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-2360880"/>
            <a:ext cx="1222200" cy="52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53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583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4000" y="3499920"/>
            <a:ext cx="215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8" name="Picture 12" descr="soviet-posters-099"/>
          <p:cNvPicPr/>
          <p:nvPr/>
        </p:nvPicPr>
        <p:blipFill>
          <a:blip r:embed="rId2"/>
          <a:stretch/>
        </p:blipFill>
        <p:spPr>
          <a:xfrm>
            <a:off x="5003640" y="1341360"/>
            <a:ext cx="3810240" cy="5305680"/>
          </a:xfrm>
          <a:prstGeom prst="rect">
            <a:avLst/>
          </a:prstGeom>
          <a:ln w="0">
            <a:noFill/>
          </a:ln>
        </p:spPr>
      </p:pic>
      <p:pic>
        <p:nvPicPr>
          <p:cNvPr id="539" name="maywaltz.mp3" descr=""/>
          <p:cNvPicPr/>
          <p:nvPr/>
        </p:nvPicPr>
        <p:blipFill>
          <a:blip r:embed="rId3"/>
          <a:stretch/>
        </p:blipFill>
        <p:spPr>
          <a:xfrm>
            <a:off x="18352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4720" y="3357720"/>
            <a:ext cx="453528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Будь проклят фашизм 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и его прародитель!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Picture 4" descr="img200"/>
          <p:cNvPicPr/>
          <p:nvPr/>
        </p:nvPicPr>
        <p:blipFill>
          <a:blip r:embed="rId1"/>
          <a:stretch/>
        </p:blipFill>
        <p:spPr>
          <a:xfrm>
            <a:off x="468360" y="260280"/>
            <a:ext cx="3446280" cy="6597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1209973701_st_001"/>
          <p:cNvPicPr/>
          <p:nvPr/>
        </p:nvPicPr>
        <p:blipFill>
          <a:blip r:embed="rId2"/>
          <a:stretch/>
        </p:blipFill>
        <p:spPr>
          <a:xfrm>
            <a:off x="5148360" y="260280"/>
            <a:ext cx="27352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5" name="Рисунок 3" descr="258765.jpg"/>
          <p:cNvPicPr/>
          <p:nvPr/>
        </p:nvPicPr>
        <p:blipFill>
          <a:blip r:embed="rId1"/>
          <a:stretch/>
        </p:blipFill>
        <p:spPr>
          <a:xfrm>
            <a:off x="250920" y="189000"/>
            <a:ext cx="4209840" cy="645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6" name="Rectangle 5"/>
          <p:cNvSpPr/>
          <p:nvPr/>
        </p:nvSpPr>
        <p:spPr>
          <a:xfrm>
            <a:off x="4572000" y="1989000"/>
            <a:ext cx="4248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ы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не хотим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ойны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Мир! Мир! Мир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9" name="Picture 4" descr="37R5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676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7" name="Picture 4" descr="-----1-ed1b9"/>
          <p:cNvPicPr/>
          <p:nvPr/>
        </p:nvPicPr>
        <p:blipFill>
          <a:blip r:embed="rId1"/>
          <a:stretch/>
        </p:blipFill>
        <p:spPr>
          <a:xfrm>
            <a:off x="54000" y="189000"/>
            <a:ext cx="3757680" cy="4392360"/>
          </a:xfrm>
          <a:prstGeom prst="rect">
            <a:avLst/>
          </a:prstGeom>
          <a:ln w="0">
            <a:noFill/>
          </a:ln>
        </p:spPr>
      </p:pic>
      <p:sp>
        <p:nvSpPr>
          <p:cNvPr id="488" name="WordArt 5"/>
          <p:cNvSpPr txBox="1"/>
          <p:nvPr/>
        </p:nvSpPr>
        <p:spPr>
          <a:xfrm rot="278400">
            <a:off x="1907640" y="260280"/>
            <a:ext cx="45356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йна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6360" y="198900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0" y="5445000"/>
            <a:ext cx="8459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3095640" y="2133720"/>
            <a:ext cx="6048360" cy="441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3" name="Picture 4" descr="леня голиков фото"/>
          <p:cNvPicPr/>
          <p:nvPr/>
        </p:nvPicPr>
        <p:blipFill>
          <a:blip r:embed="rId1"/>
          <a:stretch/>
        </p:blipFill>
        <p:spPr>
          <a:xfrm>
            <a:off x="0" y="189000"/>
            <a:ext cx="2792520" cy="3097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марат казей фото"/>
          <p:cNvPicPr/>
          <p:nvPr/>
        </p:nvPicPr>
        <p:blipFill>
          <a:blip r:embed="rId2"/>
          <a:stretch/>
        </p:blipFill>
        <p:spPr>
          <a:xfrm>
            <a:off x="2987640" y="98100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вася коробко фото"/>
          <p:cNvPicPr/>
          <p:nvPr/>
        </p:nvPicPr>
        <p:blipFill>
          <a:blip r:embed="rId3"/>
          <a:stretch/>
        </p:blipFill>
        <p:spPr>
          <a:xfrm>
            <a:off x="6156360" y="3141720"/>
            <a:ext cx="298764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7" name="Picture 4" descr="дети войны фото"/>
          <p:cNvPicPr/>
          <p:nvPr/>
        </p:nvPicPr>
        <p:blipFill>
          <a:blip r:embed="rId1"/>
          <a:stretch/>
        </p:blipFill>
        <p:spPr>
          <a:xfrm>
            <a:off x="250920" y="189000"/>
            <a:ext cx="3894120" cy="5472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фото ленинград 4"/>
          <p:cNvPicPr/>
          <p:nvPr/>
        </p:nvPicPr>
        <p:blipFill>
          <a:blip r:embed="rId2"/>
          <a:stretch/>
        </p:blipFill>
        <p:spPr>
          <a:xfrm>
            <a:off x="4319640" y="260280"/>
            <a:ext cx="456228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0" name="Picture 4" descr="1_2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27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2" name="Picture 4" descr="фото ленинград 1"/>
          <p:cNvPicPr/>
          <p:nvPr/>
        </p:nvPicPr>
        <p:blipFill>
          <a:blip r:embed="rId1"/>
          <a:stretch/>
        </p:blipFill>
        <p:spPr>
          <a:xfrm>
            <a:off x="250920" y="260280"/>
            <a:ext cx="4213080" cy="5618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06"/>
          <p:cNvPicPr/>
          <p:nvPr/>
        </p:nvPicPr>
        <p:blipFill>
          <a:blip r:embed="rId2"/>
          <a:stretch/>
        </p:blipFill>
        <p:spPr>
          <a:xfrm>
            <a:off x="4859280" y="333360"/>
            <a:ext cx="396072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 время налёта фашистской авиа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5" name="Picture 4" descr="фото- дети"/>
          <p:cNvPicPr/>
          <p:nvPr/>
        </p:nvPicPr>
        <p:blipFill>
          <a:blip r:embed="rId1"/>
          <a:stretch/>
        </p:blipFill>
        <p:spPr>
          <a:xfrm>
            <a:off x="539640" y="1484280"/>
            <a:ext cx="777564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аня Савиче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7" name="Picture 4" descr="таня савичева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1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Picture 4" descr="um12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0:20Z</dcterms:created>
  <dc:creator>Лапазин                                             </dc:creator>
  <dc:description/>
  <dc:language>en-US</dc:language>
  <cp:lastModifiedBy>seven</cp:lastModifiedBy>
  <dcterms:modified xsi:type="dcterms:W3CDTF">2012-01-23T15:50:46Z</dcterms:modified>
  <cp:revision>22</cp:revision>
  <dc:subject/>
  <dc:title>Страницы истории</dc:title>
</cp:coreProperties>
</file>