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BB1-6D6A-4A87-A308-09D89135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D6B-EAAD-48A2-A93F-3AD5934B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E7C-1F95-4707-A62A-F1B2CF9C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E26-9FA6-449A-B0C4-FE4FF5AC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45E-3DB3-443E-9656-5D361D3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8D0-CB9A-436E-9CBF-18ACAF9E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E6D-848D-4A2A-B1CE-58D52C53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66A-5CC8-47FC-9748-4FA7844E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07A-219F-49A6-9B30-D14F42CF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D20-4729-4553-B73B-530347B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0D2-2EB0-49E9-9FEC-AE981EBD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07A-54D7-4D96-807B-8F804F5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047-A895-4B06-9595-AB871155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image" Target="../media/image5.gif"/><Relationship Id="rId5" Type="http://schemas.openxmlformats.org/officeDocument/2006/relationships/slide" Target="slide16.xml"/><Relationship Id="rId6" Type="http://schemas.openxmlformats.org/officeDocument/2006/relationships/image" Target="../media/image5.gif"/><Relationship Id="rId7" Type="http://schemas.openxmlformats.org/officeDocument/2006/relationships/slide" Target="slide17.xm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9144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762120"/>
            <a:ext cx="861048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В каком году появилась книга, куда вошла пове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1830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183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1836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380880"/>
            <a:ext cx="84582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Кому принадлежат слов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480" indent="2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eorgia"/>
              </a:rPr>
              <a:t>«Сейчас прочел «Вечера..., они изумили меня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Georgia"/>
              </a:rPr>
              <a:t>Н.В. Гого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Georgia"/>
              </a:rPr>
              <a:t>А.С. Пушкин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Georgia"/>
              </a:rPr>
              <a:t>М.Ю. Лермонтов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0" b="4488"/>
          <a:stretch/>
        </p:blipFill>
        <p:spPr>
          <a:xfrm>
            <a:off x="0" y="0"/>
            <a:ext cx="9372600" cy="685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371600" y="1295280"/>
            <a:ext cx="6781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10010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 I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10010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10010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стера художественной 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10010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0" b="4488"/>
          <a:stretch/>
        </p:blipFill>
        <p:spPr>
          <a:xfrm>
            <a:off x="0" y="0"/>
            <a:ext cx="9372600" cy="6854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371600" y="1295280"/>
            <a:ext cx="67816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10010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 III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10010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10010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бы это значило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10010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 action="ppaction://hlinksldjump"/>
          </p:cNvPr>
          <p:cNvPicPr/>
          <p:nvPr/>
        </p:nvPicPr>
        <p:blipFill>
          <a:blip r:embed="rId2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1219320"/>
            <a:ext cx="20574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62720" y="1900080"/>
            <a:ext cx="2133360" cy="1457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133720" y="4572000"/>
            <a:ext cx="2286000" cy="1563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81080" y="2286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3888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7339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685800"/>
            <a:ext cx="7162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Рушн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Хуто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Смале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Черевич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14848" y="3837"/>
                </a:moveTo>
                <a:lnTo>
                  <a:pt x="17425" y="6448"/>
                </a:ln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lnTo>
                  <a:pt x="21811" y="10800"/>
                </a:lnTo>
                <a:lnTo>
                  <a:pt x="20158" y="10800"/>
                </a:lnTo>
                <a:lnTo>
                  <a:pt x="20158" y="17989"/>
                </a:lnTo>
                <a:lnTo>
                  <a:pt x="9539" y="17989"/>
                </a:lnTo>
                <a:lnTo>
                  <a:pt x="9539" y="10800"/>
                </a:lnTo>
                <a:lnTo>
                  <a:pt x="7885" y="10800"/>
                </a:lnTo>
                <a:close/>
              </a:path>
              <a:path fill="darkenLess" w="29697" h="21600">
                <a:moveTo>
                  <a:pt x="17425" y="6448"/>
                </a:moveTo>
                <a:lnTo>
                  <a:pt x="17425" y="4707"/>
                </a:lnTo>
                <a:lnTo>
                  <a:pt x="19200" y="4707"/>
                </a:lnTo>
                <a:lnTo>
                  <a:pt x="19200" y="8224"/>
                </a:lnTo>
                <a:close/>
              </a:path>
              <a:path fill="darkenLess" w="29697" h="21600">
                <a:moveTo>
                  <a:pt x="13926" y="14299"/>
                </a:moveTo>
                <a:lnTo>
                  <a:pt x="15771" y="14299"/>
                </a:lnTo>
                <a:lnTo>
                  <a:pt x="15771" y="17989"/>
                </a:lnTo>
                <a:lnTo>
                  <a:pt x="20158" y="17989"/>
                </a:lnTo>
                <a:lnTo>
                  <a:pt x="20158" y="10800"/>
                </a:lnTo>
                <a:lnTo>
                  <a:pt x="9539" y="10800"/>
                </a:lnTo>
                <a:lnTo>
                  <a:pt x="9539" y="17989"/>
                </a:lnTo>
                <a:lnTo>
                  <a:pt x="13926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3880" y="685800"/>
            <a:ext cx="6096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Бандура</a:t>
            </a:r>
            <a:r>
              <a:rPr b="0" lang="en-US" sz="88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Галуш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Ланиты</a:t>
            </a:r>
            <a:r>
              <a:rPr b="0" lang="en-US" sz="8800" spc="-1" strike="noStrike">
                <a:solidFill>
                  <a:srgbClr val="660033"/>
                </a:solidFill>
                <a:latin typeface="Georgia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Гопа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71600" y="762120"/>
            <a:ext cx="65530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Кожу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Люльк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Паруб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0033"/>
                </a:solidFill>
                <a:latin typeface="Georgia"/>
              </a:rPr>
              <a:t>Пищи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82296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90720" y="762120"/>
            <a:ext cx="75438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>
                        <a:alpha val="73333"/>
                      </a:srgbClr>
                    </a:gs>
                    <a:gs pos="50000">
                      <a:srgbClr val="2f0017"/>
                    </a:gs>
                    <a:gs pos="100000">
                      <a:srgbClr val="660033">
                        <a:alpha val="73333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 II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>
                      <a:alpha val="73333"/>
                    </a:srgbClr>
                  </a:gs>
                  <a:gs pos="50000">
                    <a:srgbClr val="2f0017"/>
                  </a:gs>
                  <a:gs pos="100000">
                    <a:srgbClr val="660033">
                      <a:alpha val="73333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>
                        <a:alpha val="73333"/>
                      </a:srgbClr>
                    </a:gs>
                    <a:gs pos="50000">
                      <a:srgbClr val="2f0017"/>
                    </a:gs>
                    <a:gs pos="100000">
                      <a:srgbClr val="660033">
                        <a:alpha val="73333"/>
                      </a:srgbClr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Юные художник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>
                      <a:alpha val="73333"/>
                    </a:srgbClr>
                  </a:gs>
                  <a:gs pos="50000">
                    <a:srgbClr val="2f0017"/>
                  </a:gs>
                  <a:gs pos="100000">
                    <a:srgbClr val="660033">
                      <a:alpha val="73333"/>
                    </a:srgbClr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15228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3124440" cy="4495680"/>
          </a:xfrm>
          <a:prstGeom prst="rect">
            <a:avLst/>
          </a:prstGeom>
          <a:ln w="25560">
            <a:solidFill>
              <a:srgbClr val="660033"/>
            </a:solidFill>
            <a:prstDash val="sysDot"/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3124080" cy="4457880"/>
          </a:xfrm>
          <a:prstGeom prst="rect">
            <a:avLst/>
          </a:prstGeom>
          <a:ln w="25560">
            <a:solidFill>
              <a:srgbClr val="660033"/>
            </a:solidFill>
            <a:prstDash val="sysDot"/>
            <a:miter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592800" cy="434340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3657600" y="1066680"/>
            <a:ext cx="54864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иколай Васильевич 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Гоголь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1809 – 1852)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523880" y="1523880"/>
            <a:ext cx="62485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f0017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 IV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f0017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f0017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ртретная галерея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f0017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2280" y="129528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Georgia"/>
              </a:rPr>
              <a:t>Она была ни хороша, ни дурна собою, однакож она так умела причаровать  к себе самых степенных козаков, что к ней хаживали и голова, и дьяк,  Осип Никифорович, и козак Корний Чуб. И к чести ее сказать, она умела искусно обходиться сн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54864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Georgia"/>
              </a:rPr>
              <a:t>Соло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4800600" cy="4698720"/>
          </a:xfrm>
          <a:prstGeom prst="rect">
            <a:avLst/>
          </a:prstGeom>
          <a:ln w="25560">
            <a:solidFill>
              <a:srgbClr val="660033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129528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Georgia"/>
              </a:rPr>
              <a:t>Несмотря на небольшой рост, в ширину был довольно увесист. Притом шаровары, которые носил он, были так широки, что, какой бы большой шаг не сделал, ног было совершенно не заметно и казалось винокуренная кадь двигалась по у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562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Georgia"/>
              </a:rPr>
              <a:t>Пацю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153280" cy="3560760"/>
          </a:xfrm>
          <a:prstGeom prst="rect">
            <a:avLst/>
          </a:prstGeom>
          <a:ln w="25560">
            <a:solidFill>
              <a:srgbClr val="660033"/>
            </a:solidFill>
            <a:prstDash val="sysDot"/>
            <a:miter/>
          </a:ln>
        </p:spPr>
      </p:pic>
    </p:spTree>
  </p:cSld>
  <p:transition>
    <p:fade thruBlk="true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129528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Georgia"/>
              </a:rPr>
              <a:t>Не успел оглянуться, как очутился перед большим домом, вошел, сам не зная как, на лестницу, отворил дверь и подался немного назад от блеска, увидевши убранную комнату, но немного ободрился, узнавши тех самых запорожцев, которые проезжали через Дикань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5715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Georgia"/>
              </a:rPr>
              <a:t>Ваку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14600" y="304920"/>
            <a:ext cx="3811680" cy="5410080"/>
          </a:xfrm>
          <a:prstGeom prst="rect">
            <a:avLst/>
          </a:prstGeom>
          <a:ln w="25560">
            <a:solidFill>
              <a:srgbClr val="660033"/>
            </a:solidFill>
            <a:prstDash val="sysDot"/>
            <a:miter/>
          </a:ln>
        </p:spPr>
      </p:pic>
    </p:spTree>
  </p:cSld>
  <p:transition>
    <p:fade thruBlk="true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523880" y="1523880"/>
            <a:ext cx="62485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f0017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 V 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f0017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2f0017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Юные артисты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2f0017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9907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85800" y="304920"/>
            <a:ext cx="822960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Я ПОЧИТАЮСЬ </a:t>
            </a:r>
            <a:endParaRPr b="1" lang="en-US" sz="2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ОЮ ДЛЯ ВСЕХ, </a:t>
            </a:r>
            <a:endParaRPr b="1" lang="en-US" sz="2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ТО НЕ РАЗГАДАЕТ МЕНЯ </a:t>
            </a:r>
            <a:endParaRPr b="1" lang="en-US" sz="2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ЕРШЕННО» </a:t>
            </a:r>
            <a:endParaRPr b="1" lang="en-US" sz="20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953400" y="6095880"/>
            <a:ext cx="2190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.В. Гоголь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304920"/>
            <a:ext cx="8915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Georgia"/>
              </a:rPr>
              <a:t>Литературная игра по повести Н.В. Гоголя «Ночь перед Рождество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666880" y="2590920"/>
            <a:ext cx="3886200" cy="3817800"/>
          </a:xfrm>
          <a:prstGeom prst="rect">
            <a:avLst/>
          </a:prstGeom>
          <a:ln w="25560">
            <a:solidFill>
              <a:srgbClr val="660033"/>
            </a:solidFill>
            <a:prstDash val="sysDot"/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676520" y="1523880"/>
            <a:ext cx="59436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000000"/>
                    </a:gs>
                    <a:gs pos="100000">
                      <a:srgbClr val="993366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ур I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000000"/>
                  </a:gs>
                  <a:gs pos="100000">
                    <a:srgbClr val="993366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3366"/>
                    </a:gs>
                    <a:gs pos="50000">
                      <a:srgbClr val="000000"/>
                    </a:gs>
                    <a:gs pos="100000">
                      <a:srgbClr val="993366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змин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3366"/>
                  </a:gs>
                  <a:gs pos="50000">
                    <a:srgbClr val="000000"/>
                  </a:gs>
                  <a:gs pos="100000">
                    <a:srgbClr val="993366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838080"/>
            <a:ext cx="8763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Georgia"/>
              </a:rPr>
              <a:t>Когда и где родился Гого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1812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г. в Санкт-Петербур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1809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г. в местечке Великие Сорочин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18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2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8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г. в Москв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380880"/>
            <a:ext cx="838224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Georgia"/>
              </a:rPr>
              <a:t>Какое учебное заведение и когда оконч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660033"/>
                </a:solidFill>
                <a:latin typeface="Georgia"/>
              </a:rPr>
              <a:t>Н.В. Гого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1828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г. Нежинская гимназия высших нау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1829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г. Царскосельский лиц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1826</a:t>
            </a:r>
            <a:r>
              <a:rPr b="0" lang="en-US" sz="44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660033"/>
                </a:solidFill>
                <a:latin typeface="Georgia"/>
              </a:rPr>
              <a:t>г. пансион при Московском университе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533520"/>
            <a:ext cx="97534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2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Georgia"/>
              </a:rPr>
              <a:t>Как назывался сборник, куда вошла повесть «Ночь перед Рождеством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80" indent="20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Georgia"/>
              </a:rPr>
              <a:t>Сборник «Арабески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Georgia"/>
              </a:rPr>
              <a:t>«Вечера на хуторе близ Диканьки»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6480" indent="2052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Georgia"/>
              </a:rPr>
              <a:t>«Ревизор»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0" b="4449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600" y="380880"/>
            <a:ext cx="89154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Georgia"/>
              </a:rPr>
              <a:t>Кто рассказывает пове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Georgia"/>
              </a:rPr>
              <a:t>Н.В. Гог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Georgia"/>
              </a:rPr>
              <a:t>Пасечник Рудый Пань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66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Georgia"/>
              </a:rPr>
              <a:t>Кузнец Ваку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lad</cp:lastModifiedBy>
  <dcterms:modified xsi:type="dcterms:W3CDTF">2010-02-13T08:37:2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