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BC1-DEE0-4712-88E8-1D18012C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B38-0D7D-4149-9F92-4A43E2E0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178-6BB6-4E45-95B1-9F4A2450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97C-7CF1-41FF-9355-F1E4267F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FF2-F83D-4A82-9E9F-1023C65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86C-51BC-4AAC-B15A-F817DBC2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253-B24C-4EAC-B8D4-79C2EACC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ED7-8725-4823-9715-10726B1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00A-96F4-4884-AE7C-3BC35EA3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91A-6A10-4C12-8EF6-58E8389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894-C8FC-42AA-BDA0-3E83116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C73-5629-4B3D-92C8-239FDCB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4F3-6B61-4624-9463-E7D278FA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ilverage.tomsk.ru/galimg/zveri_pinki/p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"/>
          <p:cNvPicPr/>
          <p:nvPr/>
        </p:nvPicPr>
        <p:blipFill>
          <a:blip r:embed="rId1"/>
          <a:stretch/>
        </p:blipFill>
        <p:spPr>
          <a:xfrm>
            <a:off x="0" y="-1035000"/>
            <a:ext cx="946800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556000" y="6922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Bernard MT Condensed"/>
              </a:rPr>
              <a:t>И.С. Тургене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urgenev2"/>
          <p:cNvPicPr/>
          <p:nvPr/>
        </p:nvPicPr>
        <p:blipFill>
          <a:blip r:embed="rId2"/>
          <a:stretch/>
        </p:blipFill>
        <p:spPr>
          <a:xfrm>
            <a:off x="539640" y="1125360"/>
            <a:ext cx="2881440" cy="38163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44" name="Text Box 6"/>
          <p:cNvSpPr/>
          <p:nvPr/>
        </p:nvSpPr>
        <p:spPr>
          <a:xfrm>
            <a:off x="4427640" y="2852640"/>
            <a:ext cx="3673440" cy="2390760"/>
          </a:xfrm>
          <a:prstGeom prst="rect">
            <a:avLst/>
          </a:prstGeom>
          <a:solidFill>
            <a:srgbClr val="fddc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바탕"/>
              </a:rPr>
              <a:t>Рассказ «Мум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바탕"/>
              </a:rPr>
              <a:t>(185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564000" y="476280"/>
            <a:ext cx="5038560" cy="56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И.С. Тургеневу удалось показать в повести тяжесть крепостного гнёта,  беспомощность подневольных людей, их лакейство, а так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(на примере Герасим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Monotype Corsiva"/>
              </a:rPr>
              <a:t>другой тип людей, желающих жить самостоятельно, не умеющих «пресмыкатьс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05780317_2275ru"/>
          <p:cNvPicPr/>
          <p:nvPr/>
        </p:nvPicPr>
        <p:blipFill>
          <a:blip r:embed="rId2"/>
          <a:stretch/>
        </p:blipFill>
        <p:spPr>
          <a:xfrm>
            <a:off x="395280" y="1844640"/>
            <a:ext cx="258588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Monotype Corsiva"/>
              </a:rPr>
              <a:t> 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Monotype Corsiva"/>
              </a:rPr>
              <a:t>Памятник Муму в г. Санкт-Петербур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Картинка 3 из 1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7201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Monotype Corsiva"/>
              </a:rPr>
              <a:t>План характеристики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Monotype Corsiva"/>
              </a:rPr>
              <a:t>Герасим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Герасим.WMA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611280" y="2697120"/>
            <a:ext cx="75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1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еобычайная сила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2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овые обязанности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3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Отношения с остальными слу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4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Случай в околот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5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рав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273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Monotype Corsiva"/>
              </a:rPr>
              <a:t>План характеристики</a:t>
            </a:r>
            <a:br>
              <a:rPr sz="6600"/>
            </a:br>
            <a:r>
              <a:rPr b="1" lang="en-US" sz="6600" spc="-1" strike="noStrike">
                <a:solidFill>
                  <a:srgbClr val="ff9900"/>
                </a:solidFill>
                <a:latin typeface="Monotype Corsiva"/>
              </a:rPr>
              <a:t>Герасим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Герасим.WMA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611280" y="2697120"/>
            <a:ext cx="75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1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еобычайная сила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2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овые обязанности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3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Отношения с остальными слу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4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Случай в околот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5.</a:t>
            </a:r>
            <a:r>
              <a:rPr b="0" lang="en-US" sz="4000" spc="-1" strike="noStrike">
                <a:solidFill>
                  <a:srgbClr val="66ff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66ffff"/>
                </a:solidFill>
                <a:latin typeface="Monotype Corsiva"/>
              </a:rPr>
              <a:t>Нрав Герас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273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Monotype Corsiva"/>
              </a:rPr>
              <a:t>Сравнение</a:t>
            </a: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  –</a:t>
            </a:r>
            <a:r>
              <a:rPr b="1" lang="en-US" sz="6600" spc="-1" strike="noStrike">
                <a:solidFill>
                  <a:srgbClr val="ffccff"/>
                </a:solidFill>
                <a:latin typeface="Monotype Corsiva"/>
              </a:rPr>
              <a:t>изображение одного явления с помощью сопоставления с другим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80360" cy="695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Екатерина\Pictures\pic531.jpg"/>
          <p:cNvPicPr/>
          <p:nvPr/>
        </p:nvPicPr>
        <p:blipFill>
          <a:blip r:embed="rId2"/>
          <a:stretch/>
        </p:blipFill>
        <p:spPr>
          <a:xfrm>
            <a:off x="971640" y="692280"/>
            <a:ext cx="4608360" cy="5919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40360" y="691920"/>
            <a:ext cx="304488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«Ни одна мать так не ухаживала за своим ребёнком, как ухажива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Герасим за своей питомицей ».</a:t>
            </a: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80360" cy="695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Екатерина\Pictures\pic532.jpg"/>
          <p:cNvPicPr/>
          <p:nvPr/>
        </p:nvPicPr>
        <p:blipFill>
          <a:blip r:embed="rId2"/>
          <a:stretch/>
        </p:blipFill>
        <p:spPr>
          <a:xfrm>
            <a:off x="1692360" y="404640"/>
            <a:ext cx="5832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:\Тургенев И.С\[LI5RK_18-01]_[IL_19]-k.jpg"/>
          <p:cNvPicPr/>
          <p:nvPr/>
        </p:nvPicPr>
        <p:blipFill>
          <a:blip r:embed="rId2"/>
          <a:stretch/>
        </p:blipFill>
        <p:spPr>
          <a:xfrm>
            <a:off x="900000" y="785880"/>
            <a:ext cx="727236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"/>
          <p:cNvPicPr/>
          <p:nvPr/>
        </p:nvPicPr>
        <p:blipFill>
          <a:blip r:embed="rId1"/>
          <a:stretch/>
        </p:blipFill>
        <p:spPr>
          <a:xfrm>
            <a:off x="3636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Предыстория Герас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7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История, случившаяся с  Герасимом, произошла на самом деле. Немой дворник Андрей служил у Варвары Петровны Лутовиновой, матери писателя. Это был «красавец с   русыми волосами и синими глазами, огромного роста и с такой же силой, он поднимал 10 пудов. Обиды, которые терпел Герасим от своей барыни, почти полностью повторяют обиды, нанесённые реальному дворнику Андрею. Андрей, в отличие от Герасима, служил барыне до конца жизни, был верен ей и после того, как погибла соб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0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ffcc"/>
                </a:solidFill>
                <a:uFillTx/>
                <a:latin typeface="Monotype Corsiva"/>
              </a:rPr>
              <a:t>Кто виноват в гибели Муму?</a:t>
            </a:r>
            <a:r>
              <a:rPr b="1" lang="en-US" sz="5400" spc="-1" strike="noStrike">
                <a:solidFill>
                  <a:srgbClr val="99ffcc"/>
                </a:solidFill>
                <a:latin typeface="Monotype Corsiva"/>
              </a:rPr>
              <a:t> </a:t>
            </a:r>
            <a:r>
              <a:rPr b="1" lang="en-US" sz="5400" spc="-1" strike="noStrike" u="sng">
                <a:solidFill>
                  <a:srgbClr val="99ffcc"/>
                </a:solidFill>
                <a:uFillTx/>
                <a:latin typeface="Monotype Corsiva"/>
              </a:rPr>
              <a:t>Докажи своё мн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90680" y="2470320"/>
            <a:ext cx="55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И.С. Турген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Бары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Герас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Степ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Monotype Corsiva"/>
              </a:rPr>
              <a:t>Крепостное пра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8607600" y="4267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10:49Z</dcterms:created>
  <dc:creator>XTreme</dc:creator>
  <dc:description/>
  <dc:language>en-US</dc:language>
  <cp:lastModifiedBy>Adel</cp:lastModifiedBy>
  <dcterms:modified xsi:type="dcterms:W3CDTF">2009-07-21T06:52:17Z</dcterms:modified>
  <cp:revision>15</cp:revision>
  <dc:subject/>
  <dc:title>Слайд 1</dc:title>
</cp:coreProperties>
</file>