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074-2322-471D-9B58-1676D6B2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855-F48C-4CF3-B956-AC7E073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28C-0301-4A91-AFC8-B5270C19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2A1-37D3-48F2-8783-1DE58DC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F69-97F6-477D-9486-C9BAB30C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594-DDB0-407E-8BDD-54F8817C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BCD-9C0F-4806-85BE-88EAEC4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3FC-2156-4849-8F04-FC53FE9B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93EA-80D6-4A67-B540-643B798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350-9189-4FB7-AC3E-4493A44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B74D-9C9D-4AB6-8E81-EC729D66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976-4BEE-46B9-8127-A0EEAF97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2CD2-A618-4484-ABBE-6D24A3D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272B-CFEA-438D-B7D3-8C94A34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407-BA86-4314-8525-7FC3C17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C88D-D12A-4AD3-BE4B-ECFDF6C8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A9D-96E7-4957-9E42-9A59B93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38DC-535B-483A-AF34-63AE987A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FE14-6BC2-4E51-B59A-EFE6652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5E9B-9749-4C14-94A8-E8B700E8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33DA-0BF7-450E-B08B-BC547C4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1F7F-6EC1-4048-95A3-15740E89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7B9-FE1E-4F74-B455-83FAAAC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CB0F-7361-4FB6-80A0-4735F77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E7E3-20B9-4BBC-9919-1E791D2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E56D-7CF9-46B8-9374-52F09C0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A8F9-3107-4C72-87AA-55086CB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523D-3FF8-4BBD-B6AE-CE378FF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901B-8F75-466A-8675-B0C2D046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7E25-63AA-435A-8EC8-C02164F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C6FD-6CC9-451C-B8E0-76FA10A4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1C2A-4680-4BFC-BDD4-8DC84F9C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16DC-81AF-4789-B9AC-8FECE420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BEB-FE91-4CD1-8B34-E4B5B24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E3C8-2EC4-480F-8A42-905A7DF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00F9-4207-40AE-A346-5ABB402F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6DFA-E55F-45B6-9D76-FA78C6FE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2E92-97D6-48D7-A8BD-AB9C2CA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65B7-84C7-4CB9-B613-40510E1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E088-CCEB-4993-A798-BFF0B75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DFA3-02F5-4DC5-94C7-71A21D66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300E-5631-4518-BC52-2B3D4FD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F6D9-BE85-4779-B35E-0322A363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3BE8-FEA1-4438-BE97-C09A0CF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18A-B63D-40E4-9D9F-8579F635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B601-1048-4174-AFA6-00C1D2E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6F6D-4D03-4595-86A0-2BFB8F2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698A-9BC8-446E-B7AF-2184400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ADAA-68D2-43F4-8465-A73A786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F877-A48F-4A52-9C76-2A9E0D0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2494-EBCB-403E-8E1C-160FBB2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5F6B-F9D6-4F9C-A13C-0128F0AA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CDB94-5AB2-45BC-B5FC-1702AC1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7D32-7DB9-461E-96AD-CB441E6E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566D-21AA-447A-8E2B-A1F01E78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FC0-28D0-41CA-AE00-22877535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BA6D-2090-493B-BE4F-BEA1FD4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F75-7E75-4AB8-A070-3057191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26C-E0F2-4DE2-9ADE-C4B0E60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8D9-2C01-4398-AEFE-77AEAE8D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CBAD-E9B2-49DF-A45E-5DCCE68370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B19-2801-476B-BD6F-6D94C185078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07E-E796-4E1D-A0E0-5B786C5B6E8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599-45C0-45F3-B953-6FA674D8365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A26-6BD6-43E9-9555-9626D8366E6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/>
          <p:cNvSpPr/>
          <p:nvPr/>
        </p:nvSpPr>
        <p:spPr>
          <a:xfrm>
            <a:off x="1785960" y="25002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Фирма:  «Пышка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1214280" y="5143680"/>
            <a:ext cx="754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ыполнили: Михневич Виталий Леонидович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ысоева Ксения Сергеев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Мазагаева Анжела Алидж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Фоменкова Ольга Андре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5"/>
          <p:cNvSpPr/>
          <p:nvPr/>
        </p:nvSpPr>
        <p:spPr>
          <a:xfrm>
            <a:off x="789840" y="5286240"/>
            <a:ext cx="68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3eade"/>
                </a:solidFill>
                <a:latin typeface="Verdana"/>
              </a:rPr>
              <a:t>У нас дешевле ворованного!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4"/>
          <p:cNvSpPr/>
          <p:nvPr/>
        </p:nvSpPr>
        <p:spPr>
          <a:xfrm>
            <a:off x="266040" y="0"/>
            <a:ext cx="34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3eade"/>
                </a:solidFill>
                <a:latin typeface="Verdana"/>
              </a:rPr>
              <a:t>…</a:t>
            </a:r>
            <a:r>
              <a:rPr b="1" i="1" lang="en-US" sz="2800" spc="-1" strike="noStrike">
                <a:solidFill>
                  <a:srgbClr val="f3eade"/>
                </a:solidFill>
                <a:latin typeface="Verdana"/>
              </a:rPr>
              <a:t>Хотя не всегда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4"/>
          <p:cNvSpPr/>
          <p:nvPr/>
        </p:nvSpPr>
        <p:spPr>
          <a:xfrm>
            <a:off x="142920" y="14292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Наш Хлеб самый вкусный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7"/>
          <p:cNvSpPr/>
          <p:nvPr/>
        </p:nvSpPr>
        <p:spPr>
          <a:xfrm>
            <a:off x="430560" y="42876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Verdana"/>
              </a:rPr>
              <a:t>ДажЫ варабьи от него не дохнутт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4"/>
          <p:cNvSpPr/>
          <p:nvPr/>
        </p:nvSpPr>
        <p:spPr>
          <a:xfrm>
            <a:off x="697320" y="35712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 крокодиллы не мерещуЦЦо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770760" y="285840"/>
            <a:ext cx="68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Потому что он самый БЕЗОПАСНЫ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978440" y="639612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Но СветиЦцо в Тямно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370800" y="14292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роизвод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4"/>
          <p:cNvSpPr/>
          <p:nvPr/>
        </p:nvSpPr>
        <p:spPr>
          <a:xfrm>
            <a:off x="483840" y="14292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Если б не нежные рук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3522960" y="6072120"/>
            <a:ext cx="51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люснутого мужЫчка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И прекрасные булки*(..ммм…) Юльинь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204840" y="6519960"/>
            <a:ext cx="44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*Не то о чем вы подумали! Это про ХЛЕБ!!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4"/>
          <p:cNvSpPr/>
          <p:nvPr/>
        </p:nvSpPr>
        <p:spPr>
          <a:xfrm>
            <a:off x="1447560" y="21420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 нас бы не было ЭТОГОООО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верите? Спросите покупателей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0" y="214200"/>
            <a:ext cx="45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О «Пыш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цы-Основатели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5"/>
          <p:cNvSpPr/>
          <p:nvPr/>
        </p:nvSpPr>
        <p:spPr>
          <a:xfrm>
            <a:off x="133560" y="21420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ссортимент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4"/>
          <p:cNvSpPr/>
          <p:nvPr/>
        </p:nvSpPr>
        <p:spPr>
          <a:xfrm>
            <a:off x="84600" y="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Хлеб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>
            <a:off x="176760" y="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етический х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956160" y="5929200"/>
            <a:ext cx="63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линный Хлеб В Виде Пал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868680" y="592920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Хлеб Для Экстрималов – «Нежность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96160" y="6000840"/>
            <a:ext cx="51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Ыыыы…. Эта ТожЫ ХлЭппп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4"/>
          <p:cNvSpPr/>
          <p:nvPr/>
        </p:nvSpPr>
        <p:spPr>
          <a:xfrm>
            <a:off x="500400" y="142920"/>
            <a:ext cx="544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Рекламный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Отде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5:02:10Z</dcterms:created>
  <dc:creator>ученик</dc:creator>
  <dc:description/>
  <dc:language>en-US</dc:language>
  <cp:lastModifiedBy>User</cp:lastModifiedBy>
  <dcterms:modified xsi:type="dcterms:W3CDTF">2009-01-28T10:10:32Z</dcterms:modified>
  <cp:revision>18</cp:revision>
  <dc:subject/>
  <dc:title>Булка. Левая Булка.</dc:title>
</cp:coreProperties>
</file>