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CQGreet.wav" ContentType="audio/x-wav"/>
  <Override PartName="/ppt/media/Startup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903-85C0-405B-B5B4-C9A7FE15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889-3407-4CFA-928F-0D90CEA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4AA-673C-4820-8394-20BEE73A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311-200E-4764-868C-FEDEE3A0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FAD-E332-49E5-9A08-36ADB5B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E63-D244-4351-9E6B-8A89A93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02A-45BE-4B44-8DC5-3D9AF2D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865-2F80-493B-9F99-7D0B2D35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E7F-8221-41B8-BE90-5232B0E7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A59-3442-473D-909C-A3B1065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126-2364-4617-A53A-F546BD9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6FB-28FC-4618-8C45-402DBC2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230-054D-42C0-A965-C90FA6839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3.xml"/><Relationship Id="rId15" Type="http://schemas.openxmlformats.org/officeDocument/2006/relationships/slide" Target="slide24.xml"/><Relationship Id="rId16" Type="http://schemas.openxmlformats.org/officeDocument/2006/relationships/slide" Target="slide27.xml"/><Relationship Id="rId17" Type="http://schemas.openxmlformats.org/officeDocument/2006/relationships/slide" Target="slide27.xml"/><Relationship Id="rId18" Type="http://schemas.openxmlformats.org/officeDocument/2006/relationships/slide" Target="slide30.xml"/><Relationship Id="rId19" Type="http://schemas.openxmlformats.org/officeDocument/2006/relationships/slide" Target="slide30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6.xml"/><Relationship Id="rId23" Type="http://schemas.openxmlformats.org/officeDocument/2006/relationships/slide" Target="slide39.xml"/><Relationship Id="rId24" Type="http://schemas.openxmlformats.org/officeDocument/2006/relationships/slide" Target="slide39.xml"/><Relationship Id="rId25" Type="http://schemas.openxmlformats.org/officeDocument/2006/relationships/slide" Target="slide42.xml"/><Relationship Id="rId26" Type="http://schemas.openxmlformats.org/officeDocument/2006/relationships/slide" Target="slide45.xml"/><Relationship Id="rId27" Type="http://schemas.openxmlformats.org/officeDocument/2006/relationships/slide" Target="slide48.xml"/><Relationship Id="rId28" Type="http://schemas.openxmlformats.org/officeDocument/2006/relationships/slide" Target="slide51.xml"/><Relationship Id="rId29" Type="http://schemas.openxmlformats.org/officeDocument/2006/relationships/slide" Target="slide54.xml"/><Relationship Id="rId30" Type="http://schemas.openxmlformats.org/officeDocument/2006/relationships/slide" Target="slide57.xml"/><Relationship Id="rId31" Type="http://schemas.openxmlformats.org/officeDocument/2006/relationships/slide" Target="slide60.xml"/><Relationship Id="rId32" Type="http://schemas.openxmlformats.org/officeDocument/2006/relationships/slide" Target="slide63.xml"/><Relationship Id="rId33" Type="http://schemas.openxmlformats.org/officeDocument/2006/relationships/slide" Target="slide66.xml"/><Relationship Id="rId34" Type="http://schemas.openxmlformats.org/officeDocument/2006/relationships/slide" Target="slide66.xml"/><Relationship Id="rId35" Type="http://schemas.openxmlformats.org/officeDocument/2006/relationships/slide" Target="slide69.xml"/><Relationship Id="rId36" Type="http://schemas.openxmlformats.org/officeDocument/2006/relationships/slide" Target="slide69.xml"/><Relationship Id="rId37" Type="http://schemas.openxmlformats.org/officeDocument/2006/relationships/slide" Target="slide72.xml"/><Relationship Id="rId38" Type="http://schemas.openxmlformats.org/officeDocument/2006/relationships/slide" Target="slide72.xml"/><Relationship Id="rId39" Type="http://schemas.openxmlformats.org/officeDocument/2006/relationships/slide" Target="slide75.xml"/><Relationship Id="rId40" Type="http://schemas.openxmlformats.org/officeDocument/2006/relationships/slide" Target="slide75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ICQGreet.wav"/><Relationship Id="rId4" Type="http://schemas.openxmlformats.org/officeDocument/2006/relationships/audio" Target="../media/Startup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ICQGreet.wav"/><Relationship Id="rId2" Type="http://schemas.openxmlformats.org/officeDocument/2006/relationships/audio" Target="../media/Startup.wav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0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Что? Где? Когд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0620"/>
          <p:cNvPicPr/>
          <p:nvPr/>
        </p:nvPicPr>
        <p:blipFill>
          <a:blip r:embed="rId1"/>
          <a:stretch/>
        </p:blipFill>
        <p:spPr>
          <a:xfrm>
            <a:off x="611280" y="4005360"/>
            <a:ext cx="222228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24000" y="620640"/>
            <a:ext cx="8404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средневековых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ловоломках-хронограммах это слово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означалось числом 40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сейчас это названи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ространённой компьютерной программы. Какой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110" name="Line 12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1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9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6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Microsoft Excel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о "excel" звучит так же, как XL – 40 в римской систе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24000" y="932040"/>
            <a:ext cx="8404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делие весит 89,4 г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разите в уме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тонн веси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ллион таких изделий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128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6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9,4 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24000" y="1101600"/>
            <a:ext cx="8404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граней имее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подточенный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естигранный карандаш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146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6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85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5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6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324000" y="763560"/>
            <a:ext cx="84042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1996 году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урнал «Компьютерра» писал, что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«известны случаи опрыскивания дискет бактерицидными аэрозолями»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чего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164" name="Line 12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21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6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15640" y="825480"/>
            <a:ext cx="1079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>
            <a:hlinkClick r:id="rId2" action="ppaction://hlinksldjump"/>
          </p:cNvPr>
          <p:cNvSpPr/>
          <p:nvPr/>
        </p:nvSpPr>
        <p:spPr>
          <a:xfrm>
            <a:off x="2556000" y="825480"/>
            <a:ext cx="107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0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>
            <a:hlinkClick r:id="rId4" action="ppaction://hlinksldjump"/>
          </p:cNvPr>
          <p:cNvSpPr/>
          <p:nvPr/>
        </p:nvSpPr>
        <p:spPr>
          <a:xfrm>
            <a:off x="3924360" y="825480"/>
            <a:ext cx="107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5" action="ppaction://hlinksldjump"/>
              </a:rPr>
              <a:t>03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>
            <a:hlinkClick r:id="rId6" action="ppaction://hlinksldjump"/>
          </p:cNvPr>
          <p:cNvSpPr/>
          <p:nvPr/>
        </p:nvSpPr>
        <p:spPr>
          <a:xfrm>
            <a:off x="5437080" y="82548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7" action="ppaction://hlinksldjump"/>
              </a:rPr>
              <a:t>0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>
            <a:hlinkClick r:id="rId8" action="ppaction://hlinksldjump"/>
          </p:cNvPr>
          <p:cNvSpPr/>
          <p:nvPr/>
        </p:nvSpPr>
        <p:spPr>
          <a:xfrm>
            <a:off x="6877080" y="83664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9" action="ppaction://hlinksldjump"/>
              </a:rPr>
              <a:t>05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>
            <a:hlinkClick r:id="rId10" action="ppaction://hlinksldjump"/>
          </p:cNvPr>
          <p:cNvSpPr/>
          <p:nvPr/>
        </p:nvSpPr>
        <p:spPr>
          <a:xfrm>
            <a:off x="1116000" y="190512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11" action="ppaction://hlinksldjump"/>
              </a:rPr>
              <a:t>0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>
            <a:hlinkClick r:id="rId12" action="ppaction://hlinksldjump"/>
          </p:cNvPr>
          <p:cNvSpPr/>
          <p:nvPr/>
        </p:nvSpPr>
        <p:spPr>
          <a:xfrm>
            <a:off x="2484360" y="190512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13" action="ppaction://hlinksldjump"/>
              </a:rPr>
              <a:t>07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>
            <a:hlinkClick r:id="rId14" action="ppaction://hlinksldjump"/>
          </p:cNvPr>
          <p:cNvSpPr/>
          <p:nvPr/>
        </p:nvSpPr>
        <p:spPr>
          <a:xfrm>
            <a:off x="3995640" y="190512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15" action="ppaction://hlinksldjump"/>
              </a:rPr>
              <a:t>08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>
            <a:hlinkClick r:id="rId16" action="ppaction://hlinksldjump"/>
          </p:cNvPr>
          <p:cNvSpPr/>
          <p:nvPr/>
        </p:nvSpPr>
        <p:spPr>
          <a:xfrm>
            <a:off x="5435640" y="190512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17" action="ppaction://hlinksldjump"/>
              </a:rPr>
              <a:t>0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>
            <a:hlinkClick r:id="rId18" action="ppaction://hlinksldjump"/>
          </p:cNvPr>
          <p:cNvSpPr/>
          <p:nvPr/>
        </p:nvSpPr>
        <p:spPr>
          <a:xfrm>
            <a:off x="6877080" y="190512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19" action="ppaction://hlinksldjump"/>
              </a:rPr>
              <a:t>1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>
            <a:hlinkClick r:id="rId20" action="ppaction://hlinksldjump"/>
          </p:cNvPr>
          <p:cNvSpPr/>
          <p:nvPr/>
        </p:nvSpPr>
        <p:spPr>
          <a:xfrm>
            <a:off x="1116000" y="298620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1" action="ppaction://hlinksldjump"/>
              </a:rPr>
              <a:t>1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556000" y="2986200"/>
            <a:ext cx="1079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2" action="ppaction://hlinksldjump"/>
              </a:rPr>
              <a:t>1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>
            <a:hlinkClick r:id="rId23" action="ppaction://hlinksldjump"/>
          </p:cNvPr>
          <p:cNvSpPr/>
          <p:nvPr/>
        </p:nvSpPr>
        <p:spPr>
          <a:xfrm>
            <a:off x="3997440" y="2986200"/>
            <a:ext cx="1079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4" action="ppaction://hlinksldjump"/>
              </a:rPr>
              <a:t>13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0"/>
          <p:cNvSpPr/>
          <p:nvPr/>
        </p:nvSpPr>
        <p:spPr>
          <a:xfrm>
            <a:off x="5437080" y="298620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5" action="ppaction://hlinksldjump"/>
              </a:rPr>
              <a:t>1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6877080" y="2986200"/>
            <a:ext cx="107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6" action="ppaction://hlinksldjump"/>
              </a:rPr>
              <a:t>15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2"/>
          <p:cNvSpPr/>
          <p:nvPr/>
        </p:nvSpPr>
        <p:spPr>
          <a:xfrm>
            <a:off x="1116000" y="406548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7" action="ppaction://hlinksldjump"/>
              </a:rPr>
              <a:t>1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2556000" y="4065480"/>
            <a:ext cx="107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8" action="ppaction://hlinksldjump"/>
              </a:rPr>
              <a:t>17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3995640" y="406548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29" action="ppaction://hlinksldjump"/>
              </a:rPr>
              <a:t>18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5435640" y="406548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0" action="ppaction://hlinksldjump"/>
              </a:rPr>
              <a:t>1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6877080" y="399420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1" action="ppaction://hlinksldjump"/>
              </a:rPr>
              <a:t>2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1116000" y="514656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2" action="ppaction://hlinksldjump"/>
              </a:rPr>
              <a:t>2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>
            <a:hlinkClick r:id="rId33" action="ppaction://hlinksldjump"/>
          </p:cNvPr>
          <p:cNvSpPr/>
          <p:nvPr/>
        </p:nvSpPr>
        <p:spPr>
          <a:xfrm>
            <a:off x="2556000" y="5146560"/>
            <a:ext cx="107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4" action="ppaction://hlinksldjump"/>
              </a:rPr>
              <a:t>2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0">
            <a:hlinkClick r:id="rId35" action="ppaction://hlinksldjump"/>
          </p:cNvPr>
          <p:cNvSpPr/>
          <p:nvPr/>
        </p:nvSpPr>
        <p:spPr>
          <a:xfrm>
            <a:off x="3995640" y="514656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6" action="ppaction://hlinksldjump"/>
              </a:rPr>
              <a:t>23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1">
            <a:hlinkClick r:id="rId37" action="ppaction://hlinksldjump"/>
          </p:cNvPr>
          <p:cNvSpPr/>
          <p:nvPr/>
        </p:nvSpPr>
        <p:spPr>
          <a:xfrm>
            <a:off x="5437080" y="515628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38" action="ppaction://hlinksldjump"/>
              </a:rPr>
              <a:t>2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2">
            <a:hlinkClick r:id="rId39" action="ppaction://hlinksldjump"/>
          </p:cNvPr>
          <p:cNvSpPr/>
          <p:nvPr/>
        </p:nvSpPr>
        <p:spPr>
          <a:xfrm>
            <a:off x="6877080" y="5156280"/>
            <a:ext cx="107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hlinkClick r:id="rId40" action="ppaction://hlinksldjump"/>
              </a:rPr>
              <a:t>25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защиты от вирус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24000" y="549360"/>
            <a:ext cx="8404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 Москвы в Санкт-Петербург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езд шёл со скоростью 50 км/ч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из Санкт-Петербурга в Москву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 скоростью 60 км/ч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ой поезд будет дальше от Москвы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момент встречи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182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60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 одинаковом расстоя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5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8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22200" y="549360"/>
            <a:ext cx="8497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 латинского слова "курере" – "бежать" произошли два термина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ин из которых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ет отношение к полиграфии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другой – к компьютерам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200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урсив и курс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9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24000" y="765000"/>
            <a:ext cx="84042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вар на 10 % вздорожал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том на 10% подешевел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гда цена его была ниже: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 вздорожания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ли после подешевления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218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9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60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е подешевл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95280" y="404640"/>
            <a:ext cx="84042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кий компьютер фирмы для страхования автомобилей выслал одному из своих клиентов счё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0 долларов 0 центов. Не получив, естественно, ответа, он пригрозил расторгнуть договор страхования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клиент спасся от этого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236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60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ал ему че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0 долларов 0 цент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395280" y="620640"/>
            <a:ext cx="840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асы с боем бьют 6 раз за 30 секунд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 сколько секунд они пробьют 12 раз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254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9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60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383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 55 секунд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0" y="115920"/>
            <a:ext cx="8748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ужик поймал золотую рыбку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 пообещала выполнить три его желания. Первым желанием мужик загадал, чтобы рыбка выполнила не три, а четыре его желания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Ну и глупец», – сказала рыбка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почему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272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60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417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е выполнения этого желания все равно их останется т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zelta_zivs"/>
          <p:cNvPicPr/>
          <p:nvPr/>
        </p:nvPicPr>
        <p:blipFill>
          <a:blip r:embed="rId2"/>
          <a:stretch/>
        </p:blipFill>
        <p:spPr>
          <a:xfrm>
            <a:off x="4932360" y="3573360"/>
            <a:ext cx="38098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2520" y="265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5"/>
          <p:cNvSpPr/>
          <p:nvPr/>
        </p:nvSpPr>
        <p:spPr>
          <a:xfrm>
            <a:off x="324000" y="333360"/>
            <a:ext cx="84042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и кибернетиков популярна история об устройстве, обеспечивающем надёжную работу автоматических линий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непредвиденных ситуациях. Оно потребляет примерно 600 ватт, весит около 70 кг и отлаживается примерно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 полгода. Что это за устройство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5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75" name="Line 27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8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38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1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6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8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50920" y="115920"/>
            <a:ext cx="85485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Германии действую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амые строгие правила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создателей компьютерных игр. Персонажи, которых по ходу игры убивают, должны иметь максимально отвратительный облик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что должно быть в компьютерных играх только зеленого цвета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291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20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60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76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6500"/>
                            </p:stCondLst>
                            <p:childTnLst>
                              <p:par>
                                <p:cTn id="451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в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250920" y="765000"/>
            <a:ext cx="8548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ченик должен был разделить число на 2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прибавить к нему 3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он умножил число на 2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от результата отнял 3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вет все равно оказался правильным. Какой ответ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309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19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60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485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200"/>
            </a:b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3800" y="26460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0" y="208080"/>
            <a:ext cx="914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вами две группы букв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атинского алфавита: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A, E, F, H, I, K, L, M, N, T, V, W, X, Y, Z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B, C, D, G, J, O, P, Q, R, S, U. 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какому принципу они сгруппированы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327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60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буквы состоя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только из прямых линий;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есть крив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6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0" y="522360"/>
            <a:ext cx="914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обретатель ЭТОГО, английский математик XVI века Роберт Рекорд, объяснял суть ЭТОГО так: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«никакие два объекта не могут быть более равными»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же изобрел Рекорд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345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60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553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2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 равенства 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ва параллельных отрезка равной дл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2484360" y="4292640"/>
            <a:ext cx="4248360" cy="0"/>
          </a:xfrm>
          <a:prstGeom prst="line">
            <a:avLst/>
          </a:prstGeom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2484360" y="5300640"/>
            <a:ext cx="4248360" cy="0"/>
          </a:xfrm>
          <a:prstGeom prst="line">
            <a:avLst/>
          </a:prstGeom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3800" y="26524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250920" y="115920"/>
            <a:ext cx="8548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ин американец создал для компьютера специальную программу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ажимается несколько клавиш одновременно, компьютер блокирует работающую в данный момент программу и угрожающе шипит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чего нужна эта программа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365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60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587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защиты от кош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8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250920" y="404640"/>
            <a:ext cx="8548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мастерской отремонтировано 40 машин - автомобилей и мотоциклов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 колёс выпущено было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 ремонта  ровно 100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было в ремонте автомобилей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сколько мотоциклов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383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42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60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73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3000"/>
                            </p:stCondLst>
                            <p:childTnLst>
                              <p:par>
                                <p:cTn id="621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втомобиле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тоцик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19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324000" y="44280"/>
            <a:ext cx="8548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е подошли к реке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У пустынного берега стояла лодка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которой мог поместиться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лько один челове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 оба они переправились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это им удалось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401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60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655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и находилис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разных берег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324000" y="260280"/>
            <a:ext cx="8548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вая книга по математике, опубликованная в России в 1682 году, носила название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"Считание удобное, которым всякий человек, купующий или продающий, зело удобно изыскати может число всякие вещи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как мы ее назвали бы сейчас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419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1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60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аблица умнож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24000" y="260280"/>
            <a:ext cx="854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исты ФБР предприняли попытку взлом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мощью хакерских мето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системы Пентаг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ли удивлены беспечностью генералов. Заглянуть в их файлы не составлял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го труда потому, что они не мудрствова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изобретении паролей доступ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пароль использовало большинство подразделений Пентагон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437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42">
                                  <p:stCondLst>
                                    <p:cond delay="1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60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723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password copy"/>
          <p:cNvPicPr/>
          <p:nvPr/>
        </p:nvPicPr>
        <p:blipFill>
          <a:blip r:embed="rId1"/>
          <a:stretch/>
        </p:blipFill>
        <p:spPr>
          <a:xfrm>
            <a:off x="1476360" y="1413000"/>
            <a:ext cx="6408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24000" y="115920"/>
            <a:ext cx="8548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ликий Акбар провел на песке линию и задал своему советнику Бирбалу задачу: укоротить эту линию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прикасаясь к ней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ите действия Бирбала –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вы тоже обретете право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читаться мудрецами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456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60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757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ирбал провел рядом значительно боле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инную линию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линия Акбар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ла казаться корот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24000" y="333360"/>
            <a:ext cx="8404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этих небольших записях можно встретить все четыре действия арифметики. Но знак деления встречается в каждой записи не более 30 раз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знак умножения – только единожды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это за записи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92" name="Line 12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21">
            <a:hlinkClick r:id="rId1" action="ppaction://hlinksldjump"/>
          </p:cNvPr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6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5"/>
          <p:cNvSpPr/>
          <p:nvPr/>
        </p:nvSpPr>
        <p:spPr>
          <a:xfrm>
            <a:off x="324000" y="333360"/>
            <a:ext cx="8548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а в России побывал итальянский певец Балатри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н записал некоторые русские народные песни, несмотря на незнание русского языка. Что придумал Балатри, если это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 сих пор широко используется, например, в Интернете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474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42">
                                  <p:stCondLst>
                                    <p:cond delay="1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60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791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9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42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apisanie russkih slov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atinskimi bukvam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252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5"/>
          <p:cNvSpPr/>
          <p:nvPr/>
        </p:nvSpPr>
        <p:spPr>
          <a:xfrm>
            <a:off x="179280" y="260280"/>
            <a:ext cx="8693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Словаре Николая Курганова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водилось немало придуманных слов, призванных заменить слова иностранные: жесты – на телокривия, браслет – на зарукавье, микроскоп – на мелкозор. А какое слово предлагалось заменить на прямостой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492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60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74500"/>
                            </p:stCondLst>
                            <p:childTnLst>
                              <p:par>
                                <p:cTn id="825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9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ерпендикуля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2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179280" y="260280"/>
            <a:ext cx="869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, проведенные в лондонских офисах, показали, что в среднем из находящихся внутри этих предмет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% приходится на кукурузные хлопья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% - на сладости, 7% - на макарон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1% - карандашная стружка, ногти, насекомые, волос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же это всё находится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148360" y="3716280"/>
            <a:ext cx="35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9900"/>
                </a:solidFill>
                <a:latin typeface="Arial"/>
              </a:rPr>
              <a:t>Время пошл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539640" y="4581360"/>
            <a:ext cx="799308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0"/>
          <p:cNvGrpSpPr/>
          <p:nvPr/>
        </p:nvGrpSpPr>
        <p:grpSpPr>
          <a:xfrm>
            <a:off x="539640" y="5373720"/>
            <a:ext cx="7993080" cy="146160"/>
            <a:chOff x="539640" y="5373720"/>
            <a:chExt cx="7993080" cy="146160"/>
          </a:xfrm>
        </p:grpSpPr>
        <p:sp>
          <p:nvSpPr>
            <p:cNvPr id="510" name="Line 11"/>
            <p:cNvSpPr/>
            <p:nvPr/>
          </p:nvSpPr>
          <p:spPr>
            <a:xfrm>
              <a:off x="539640" y="5518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2"/>
            <p:cNvSpPr/>
            <p:nvPr/>
          </p:nvSpPr>
          <p:spPr>
            <a:xfrm>
              <a:off x="53964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3"/>
            <p:cNvSpPr/>
            <p:nvPr/>
          </p:nvSpPr>
          <p:spPr>
            <a:xfrm>
              <a:off x="8532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4"/>
            <p:cNvSpPr/>
            <p:nvPr/>
          </p:nvSpPr>
          <p:spPr>
            <a:xfrm>
              <a:off x="1835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5"/>
            <p:cNvSpPr/>
            <p:nvPr/>
          </p:nvSpPr>
          <p:spPr>
            <a:xfrm>
              <a:off x="3132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6"/>
            <p:cNvSpPr/>
            <p:nvPr/>
          </p:nvSpPr>
          <p:spPr>
            <a:xfrm>
              <a:off x="450072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7"/>
            <p:cNvSpPr/>
            <p:nvPr/>
          </p:nvSpPr>
          <p:spPr>
            <a:xfrm>
              <a:off x="586728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8"/>
            <p:cNvSpPr/>
            <p:nvPr/>
          </p:nvSpPr>
          <p:spPr>
            <a:xfrm>
              <a:off x="7236000" y="53737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20"/>
          <p:cNvSpPr/>
          <p:nvPr/>
        </p:nvSpPr>
        <p:spPr>
          <a:xfrm>
            <a:off x="684360" y="580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1"/>
          <p:cNvSpPr/>
          <p:nvPr/>
        </p:nvSpPr>
        <p:spPr>
          <a:xfrm>
            <a:off x="5148360" y="5734080"/>
            <a:ext cx="352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Время истекло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0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42">
                                  <p:stCondLst>
                                    <p:cond delay="1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CQGre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60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859" nodeType="afterEffect" fill="hold" presetClass="entr" presetID="37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лавиатуре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Ответ:</a:t>
            </a:r>
            <a:br>
              <a:rPr sz="5000"/>
            </a:br>
            <a:r>
              <a:rPr b="1" lang="ru-RU" sz="5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си шахматной парт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>
            <a:hlinkClick r:id="rId1" action="ppaction://hlinksldjump"/>
          </p:cNvPr>
          <p:cNvSpPr/>
          <p:nvPr/>
        </p:nvSpPr>
        <p:spPr>
          <a:xfrm>
            <a:off x="684360" y="580536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в начал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Verdana"/>
              </a:rPr>
              <a:t>Вопрос 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8:12:20Z</dcterms:created>
  <dc:creator>admin</dc:creator>
  <dc:description/>
  <dc:language>en-US</dc:language>
  <cp:lastModifiedBy>Учетная запись Майкрософт</cp:lastModifiedBy>
  <dcterms:modified xsi:type="dcterms:W3CDTF">2024-12-24T19:19:49Z</dcterms:modified>
  <cp:revision>106</cp:revision>
  <dc:subject/>
  <dc:title>Слайд 1</dc:title>
</cp:coreProperties>
</file>