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F7F-B637-45E3-9248-9C6551EC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083-A680-41A7-BBB7-651754A6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E5E-307C-4DCE-AB28-5F9444EA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588-50B9-41C6-945E-ACA2C98E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396F-F297-436A-9F27-378F0D35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8D77-872E-48D2-AB0E-B819B64A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B26E-AD0D-463F-8F75-67B2BD9C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8CCF-1089-48EB-B7B8-E4DC9824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DC44-DB36-4A53-962D-58564F7F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FBFE-E38E-43EB-911F-9E7C7300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037C-BFFB-488C-8C44-2D391BB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FB2-2887-43DB-AC86-BFF5D5A7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7C89-E4A4-44D0-9EA5-083949D9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8E7E-CC71-4457-8A8A-54415E7B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89A4-9011-42F2-8E3D-8540A180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8B58-975A-4D2D-85F7-877AA62F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BC77-6EEE-4FF2-80D8-905B7D2B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C707-C679-45FD-A5DA-0055BBCA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188EA-0292-4112-87E6-2AC33E8B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48622-3D6B-4C74-A293-24A99A3F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CC20-0186-4377-AD65-EBC37A36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45072-3948-45A7-AF0B-7CED60A2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C1C-8660-4189-8E05-C2D787E7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CFA4-8EE6-4E25-A968-811E4F06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DEBD-FE22-4DE5-9C6E-02BE4E46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2675-0C4D-43E4-A528-2F09A250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39E25-E702-4803-987F-31C8571C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3882-AC44-4E7D-921E-29999489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A4B5-CD1F-4448-B299-92DF3F7A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A4BE2-45DF-4D56-A163-177EE9B7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EB8-B13C-4ADC-8736-68CB7813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5BE-0132-43C2-88BE-85EA2610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6EC-A568-4D4D-8BAD-7279B114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153-307A-4615-9D64-EF964F86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D7E-C3B0-483B-AAAB-58B51279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91B-CB30-416E-B88A-145C3943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62B3-F379-4E4A-9EC9-D01536E068F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2B1B-ACD8-4054-9B6D-20435046B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8AC9-B7E3-430B-B671-21C8A4F44A5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Биография Э.Х.Ленца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9680" y="571320"/>
            <a:ext cx="542916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845-м Ленц вошел в Совет вновь созданного Русского географического общества, вместе с ним работали такие замечательные русские адмиралы и географы, как И.Ф. Крузенштерн, Ф.П. Врангель, К.М. Бэр. В этой организации Ленц проработал до конца жиз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2" descr="http://proton.ucting.udg.mx/materias/imagenes/cientificos/joule.jpg"/>
          <p:cNvPicPr/>
          <p:nvPr/>
        </p:nvPicPr>
        <p:blipFill>
          <a:blip r:embed="rId1"/>
          <a:stretch/>
        </p:blipFill>
        <p:spPr>
          <a:xfrm>
            <a:off x="5962680" y="1357200"/>
            <a:ext cx="3181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428616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января 1865 года Эмилий Христианович Ленц скоропостижно скончался от инсульта, находясь в Риме. Его похоронили на одном из римских кладби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786280" y="0"/>
            <a:ext cx="3027600" cy="3427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Отражение геолого-минералогической тематики в открытках. Ученые, писатели,путешественники"/>
          <p:cNvPicPr/>
          <p:nvPr/>
        </p:nvPicPr>
        <p:blipFill>
          <a:blip r:embed="rId2"/>
          <a:stretch/>
        </p:blipFill>
        <p:spPr>
          <a:xfrm>
            <a:off x="182520" y="-4395960"/>
            <a:ext cx="2603520" cy="3578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Отражение геолого-минералогической тематики в открытках. Ученые, писатели,путешественники"/>
          <p:cNvPicPr/>
          <p:nvPr/>
        </p:nvPicPr>
        <p:blipFill>
          <a:blip r:embed="rId3"/>
          <a:stretch/>
        </p:blipFill>
        <p:spPr>
          <a:xfrm>
            <a:off x="4714920" y="3214800"/>
            <a:ext cx="25318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826160" cy="5300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илей Христианович Лен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428760" y="75600"/>
            <a:ext cx="4929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1823 - 1826 гг. принял участие в качестве физика в кругосветной экспедиции, которая состоялась под командованием капитана Коцюбу В плавании Ленц показал себя как выдающийся физик-экспериментатор. Он сконструировал несколько оригинальных приборов, 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зультаты наблюдений обработал методом наименьших квадра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5" descr="барк Крузенштерн Записи в рубрике барк Крузенштерн Divish Journal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357120" y="3357720"/>
            <a:ext cx="3071880" cy="3098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30 июля 1815 года началась экспедиция Отто Коцебу 30 июля Этот день в истории Летопись. Связь времен"/>
          <p:cNvPicPr/>
          <p:nvPr/>
        </p:nvPicPr>
        <p:blipFill>
          <a:blip r:embed="rId2"/>
          <a:stretch/>
        </p:blipFill>
        <p:spPr>
          <a:xfrm>
            <a:off x="6072120" y="0"/>
            <a:ext cx="2857680" cy="42292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5"/>
          <p:cNvSpPr/>
          <p:nvPr/>
        </p:nvSpPr>
        <p:spPr>
          <a:xfrm>
            <a:off x="6143760" y="43578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то Коцеб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1285920" y="6519960"/>
            <a:ext cx="36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Шлюпка «Предприятие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ГР-18 - Батометр Молчанова, цена, описание, продажа, фото - ЗАО Промприбор (батометры Молчанова, ГР18, ГР 18, гр-18, гр18, гр 18"/>
          <p:cNvPicPr/>
          <p:nvPr/>
        </p:nvPicPr>
        <p:blipFill>
          <a:blip r:embed="rId3"/>
          <a:stretch/>
        </p:blipFill>
        <p:spPr>
          <a:xfrm>
            <a:off x="4000680" y="3786120"/>
            <a:ext cx="1807920" cy="271476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9"/>
          <p:cNvSpPr/>
          <p:nvPr/>
        </p:nvSpPr>
        <p:spPr>
          <a:xfrm>
            <a:off x="5500800" y="528624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атоме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9720" y="6215040"/>
            <a:ext cx="307188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оргий Эммануэ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71360" y="500040"/>
            <a:ext cx="70246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1829-м Ленц снова стал участником интереснейшей экспедиции - первом восхождении на Эльбрус, которой руководил генерал Георгий Арсеньевич Эммануэль. Во время путешествия Ленц пришел к весьма важным выводам, определив высоту горы барометрическим способом, а также он смог доказать, что Черное море выше по уровню, нежели Каспийско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2" descr="Эльбрус авиа билеты - Лучшие перелеты в мире"/>
          <p:cNvPicPr/>
          <p:nvPr/>
        </p:nvPicPr>
        <p:blipFill>
          <a:blip r:embed="rId1"/>
          <a:stretch/>
        </p:blipFill>
        <p:spPr>
          <a:xfrm>
            <a:off x="4357800" y="2928960"/>
            <a:ext cx="3857400" cy="3639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Дневник Кириченко_Юрий :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1071720" y="3071880"/>
            <a:ext cx="2786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mic Sans MS"/>
              </a:rPr>
              <a:t>Правило Ленца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828800"/>
            <a:ext cx="574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ндукционный ток всегда имеет такое направление, что он ослабляет действие причины, возбуждающей этот ток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7" descr="Культура XIX века: Русская наука первой половины XIX века"/>
          <p:cNvPicPr/>
          <p:nvPr/>
        </p:nvPicPr>
        <p:blipFill>
          <a:blip r:embed="rId1"/>
          <a:stretch/>
        </p:blipFill>
        <p:spPr>
          <a:xfrm>
            <a:off x="6429240" y="2071800"/>
            <a:ext cx="24717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357120"/>
            <a:ext cx="4071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конце осени 1833 года Ленц снова делал доклад в Академии наук, в 1834 году его открытия хватило на избрание академиком по физи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рез пару лет, в 1836-м Ленц возглавил кафедру физики и физической географии в Университете Петербурга, а в 1840-м стал деканом физико-математического факультета. В 1863-м Эмилий Христианович Ленц стал ректором университе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4786200" y="928800"/>
            <a:ext cx="39164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85880" y="499680"/>
            <a:ext cx="510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нц был автором множества учебных программ и пособий, среди которых было и 'Руководство к физике' для гимназий, которое переиздавалось более десяти раз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6" descr="1000 вопросов и ответов"/>
          <p:cNvPicPr/>
          <p:nvPr/>
        </p:nvPicPr>
        <p:blipFill>
          <a:blip r:embed="rId1"/>
          <a:stretch/>
        </p:blipFill>
        <p:spPr>
          <a:xfrm>
            <a:off x="5715000" y="1000080"/>
            <a:ext cx="33940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404640"/>
            <a:ext cx="445788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Ленц весьма серьезно улучшил преподавание физики в университете, а его знаменитыми учениками были Д.И. Менделеев, К.А. Тимирязев, Шведов, Н.П. Слугинов и много других замечательных русских ученых. Его фундаментальный труд 'Физическая география' вышел в 1851 году и впоследствии неоднократно переиздавался по всему миру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4" descr="Учебники по Географии &quot; Reshebniki.ORG.UA - Решебник Чертова, Савельева,Волькенштейна,Яблонский,Рябушка,Кузнецов и много другое."/>
          <p:cNvPicPr/>
          <p:nvPr/>
        </p:nvPicPr>
        <p:blipFill>
          <a:blip r:embed="rId1"/>
          <a:stretch/>
        </p:blipFill>
        <p:spPr>
          <a:xfrm>
            <a:off x="6858000" y="285840"/>
            <a:ext cx="1643040" cy="2322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С. Ленц. &quot;Забастовка&quot;. 1910. Национальный музей. Варшава. Ленц Станислав. Статьи для написания рефератов, курсовых работ, научны"/>
          <p:cNvPicPr/>
          <p:nvPr/>
        </p:nvPicPr>
        <p:blipFill>
          <a:blip r:embed="rId2"/>
          <a:stretch/>
        </p:blipFill>
        <p:spPr>
          <a:xfrm>
            <a:off x="5143680" y="278604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Смотрим онлайн Tutorial fr AION - Bien dbuter - Статусы, кар…"/>
          <p:cNvPicPr/>
          <p:nvPr/>
        </p:nvPicPr>
        <p:blipFill>
          <a:blip r:embed="rId2"/>
          <a:stretch/>
        </p:blipFill>
        <p:spPr>
          <a:xfrm>
            <a:off x="0" y="0"/>
            <a:ext cx="4714920" cy="2678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окна Записи с меткой окна Дневник oknamaster :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2579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Потому.ру - Почему вода испаряется?"/>
          <p:cNvPicPr/>
          <p:nvPr/>
        </p:nvPicPr>
        <p:blipFill>
          <a:blip r:embed="rId4"/>
          <a:stretch/>
        </p:blipFill>
        <p:spPr>
          <a:xfrm>
            <a:off x="0" y="4591080"/>
            <a:ext cx="4714920" cy="2266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эзотерика Записи с меткой эзотерика Мой СИЯЮЩИЙ Дневник_ДОБРО ПОЖАЛОВАТЬ! : LiveInternet - Российский Сервис Онлайн-Дневников"/>
          <p:cNvPicPr/>
          <p:nvPr/>
        </p:nvPicPr>
        <p:blipFill>
          <a:blip r:embed="rId5"/>
          <a:stretch/>
        </p:blipFill>
        <p:spPr>
          <a:xfrm>
            <a:off x="0" y="2643120"/>
            <a:ext cx="4643280" cy="2355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Почему радуга всегда имеет форму дуги. - Мир красок - Мир цвета - Каталог статей - Cайт учителя биологии и географии"/>
          <p:cNvPicPr/>
          <p:nvPr/>
        </p:nvPicPr>
        <p:blipFill>
          <a:blip r:embed="rId6"/>
          <a:stretch/>
        </p:blipFill>
        <p:spPr>
          <a:xfrm>
            <a:off x="4572000" y="211932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Лунная радуга. - Большой Воронежский Форум"/>
          <p:cNvPicPr/>
          <p:nvPr/>
        </p:nvPicPr>
        <p:blipFill>
          <a:blip r:embed="rId7"/>
          <a:stretch/>
        </p:blipFill>
        <p:spPr>
          <a:xfrm>
            <a:off x="4643280" y="4357800"/>
            <a:ext cx="45007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5:48:04Z</dcterms:created>
  <dc:creator>W</dc:creator>
  <dc:description/>
  <dc:language>en-US</dc:language>
  <cp:lastModifiedBy>Шумаковы</cp:lastModifiedBy>
  <dcterms:modified xsi:type="dcterms:W3CDTF">2015-02-09T18:01:12Z</dcterms:modified>
  <cp:revision>11</cp:revision>
  <dc:subject/>
  <dc:title>Биография Э.Х.Ленца.</dc:title>
</cp:coreProperties>
</file>