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AEF8-9945-4910-9435-9208845018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1D62-0891-4A3F-99DF-45E66AC38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6BEA-0501-4179-87FA-C2B5A146A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DBF6-78AE-42E0-B222-FF7C5FF84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D927-E839-4CF1-A6A4-971C046B61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C1E5-F97D-422E-AAAB-8064F12397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B48D-0531-4E3F-BAE5-936CECB50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1244-D957-499F-9FEF-998BE00FD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E796-AB86-4A5F-AEB9-C23B9FEBE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CF4B-4777-4831-BF80-15F21C629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D9AE-AB61-4306-A8F7-BF3C202B5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2726-06BD-407C-A0DA-66CB9405F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C003-22FC-43D2-A5FA-E8AE4E8AA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46ED0C-75C6-417A-A1F1-6E1F080009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33 из 1664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Найди правильное опред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763640" y="1773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-это общая часть все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84360" y="3500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-это главная часть пред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673360" y="499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79640" y="5445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-это главная часть родственны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39536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151272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4"/>
          <a:stretch/>
        </p:blipFill>
        <p:spPr>
          <a:xfrm>
            <a:off x="7093080" y="2714760"/>
            <a:ext cx="16128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174240"/>
            <a:ext cx="8508960" cy="9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32505"/>
                </a:solidFill>
                <a:latin typeface="Arial"/>
              </a:rPr>
              <a:t>Раздели на групп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1966680" cy="672840"/>
          </a:xfrm>
          <a:prstGeom prst="rect">
            <a:avLst/>
          </a:prstGeom>
          <a:noFill/>
          <a:ln w="38160">
            <a:solidFill>
              <a:srgbClr val="00cc99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ед(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797360"/>
            <a:ext cx="2160360" cy="5814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ряд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5734080"/>
            <a:ext cx="3168720" cy="5814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елес(?)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5157720"/>
            <a:ext cx="205092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н * ги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781360"/>
            <a:ext cx="23050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ез(с)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573360"/>
            <a:ext cx="223200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ороз(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700280"/>
            <a:ext cx="33112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аз(?)ни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2852640"/>
            <a:ext cx="2881080" cy="5814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удес(?)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4076640"/>
            <a:ext cx="3024360" cy="5814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дра(?)ству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1844640"/>
            <a:ext cx="2195640" cy="5814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*ре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141720"/>
            <a:ext cx="2087280" cy="5814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*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4292640"/>
            <a:ext cx="2016000" cy="5814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*жё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a4"/>
                </a:solidFill>
                <a:latin typeface="Arial"/>
              </a:rPr>
              <a:t>Продолжите предложе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ерь я умею определять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ло трудн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ло интересн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2560" y="2133720"/>
            <a:ext cx="74293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1:22:12Z</dcterms:created>
  <dc:creator>Admin</dc:creator>
  <dc:description/>
  <dc:language>en-US</dc:language>
  <cp:lastModifiedBy>Adel</cp:lastModifiedBy>
  <dcterms:modified xsi:type="dcterms:W3CDTF">2014-07-04T19:33:39Z</dcterms:modified>
  <cp:revision>32</cp:revision>
  <dc:subject/>
  <dc:title>Урок русского языка  во 2 б классе</dc:title>
</cp:coreProperties>
</file>