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54.png" ContentType="image/png"/>
  <Override PartName="/ppt/media/image14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31.png" ContentType="image/png"/>
  <Override PartName="/ppt/media/image29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64.jpeg" ContentType="image/jpeg"/>
  <Override PartName="/ppt/media/image39.png" ContentType="image/png"/>
  <Override PartName="/ppt/media/image11.png" ContentType="image/png"/>
  <Override PartName="/ppt/media/image48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6.png" ContentType="image/png"/>
  <Override PartName="/ppt/media/image38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5D1-27A4-421F-90BB-F3ECDADD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77A-2D58-4865-A05E-8C60894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C17CB-3B5A-41FE-9597-751EB19B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742F1-7D2A-423C-BCE5-D3EECF0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B1056-C484-463A-8DA3-6D6FFE3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D909B-3286-4A7C-B5C5-71A3491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69EEB-CD28-4490-9F07-1A6C1B0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565F8-CD09-4D9E-B1CD-873CDA3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CA8ED-686A-4A8D-8A7F-249D067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47F6D-EE7A-4DDB-8D0E-2DF92194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5CBB4-EFC3-49BF-8F82-5FD15819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5C00-41D7-496B-9E48-4C498541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11-C819-4B28-8083-2E1BC5E0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0AB78-6C0D-4D96-84BC-16D6BAB8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716D1-3D68-4CA2-91A6-3C3AD89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1D7CC-5384-4D09-8821-CBF1BD9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A4DC0-1DFC-4D84-B01E-061FDDC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07B4D-102D-4E94-B03E-E8DF593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B0EC5-FD21-4596-A824-34AFE3B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16B6-A4B4-48BC-8408-5E7EEC6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FE6EC-C387-475F-8B54-660D080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3C5F3-1610-4CED-8A74-A97C9C4B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C866C-32FA-4B45-B5B7-011DA70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523-4028-4D4E-B5E2-96C30502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D7D36-0ABD-4CF1-B0E9-04620585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E6188-18C9-4F32-B702-9DC1CD32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C9514-D8F5-4C9A-9362-BCB5666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1C035-2A39-4D09-9F59-EC2C8AD4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A2E23-D7CD-4716-A95F-EF73C32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ADF42-7A3E-4D3D-922D-7002832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3F9B-C685-4789-BE46-BE67A07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E548-1280-4638-B331-90AD1E5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16B20-2CC7-4217-8CC2-EFC4F14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5E9D5-ACAC-4AC6-B34B-407FC47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79B-3785-4E3E-B6B1-72E71CA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CFCB3-68E9-45BA-80A3-CCF1E1E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B36F3-BB43-4DC3-8473-AA2A901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6540-5C88-4FE2-A193-C3EE09B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06238-5DEF-4297-A950-5E1C9A07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53DF3-CA5A-419C-8C69-E1257D5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357E5-2BC4-4550-9CF8-39CA7D63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D98A4-B9C4-4317-9B16-F22DE8C6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11112-B8D3-46A9-AFEF-1657F6F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E0834-A14D-45C1-8006-1EAAACB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943F9-A370-4BF4-B285-FDB32C1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4C02-2E2B-4BC6-9C14-33F926A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C3C9C-221F-4779-B36D-C25D470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86E91-9E21-4030-9CD5-74DAACD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4AC44-E48F-4CDA-AAE1-78AE08E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3D292-6842-4829-8A79-AB537C55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B6808-82D6-4372-8414-CE50887F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0B05-5352-4CFB-AEB5-C87E988A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3693-B6D6-4C16-92F8-C39AD0C4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30CD-5D48-47B5-8BB4-56C5096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D8E-4264-4F83-BEBA-17D42FC3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BE39-F2A1-4253-9F41-1F85E3D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E86-8036-404A-93F5-DFD4BA8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CB79-DEF5-4254-8237-7A2E1CE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0FF-19A6-42E0-91E1-2FC92E1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2621-EED9-49F7-9A78-A74F724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1A8-CDCC-49B4-89C1-5D54A228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494-8B76-482D-B712-A6B90708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74E9-F648-4FA2-9215-A46D0685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A89D-84C8-4C9F-B9B4-1FB4587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BF9B-4CAC-4038-8D2D-B290E91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592D-6856-40CC-B9BE-709B064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5E6D-C952-4AA7-B9D7-D12D2EB8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174-18C7-4E54-B51E-937E842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81EC-61A6-4A7C-8CC6-F22A7C02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6DEF-5BDF-4CF3-BBA1-4BFFCEE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7434-AE0C-4592-B3D2-CB709EB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AFF2-61FF-40EE-9B27-C414B94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0FDA-068E-41D9-9489-573BD1BC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EADD-5E6D-4562-A204-11C09DF9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BFC6-BEF1-43D9-ABA6-A9BF5D9F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C8AB-AA76-42EE-BF95-5A7CDADE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2FA8-666E-40AA-8CDE-A23D8EE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A8EC-7171-4A3B-A450-8E0A9D1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9CC-109A-478B-8329-C0A1B31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D8F8-B2E6-4932-B855-54F987A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7B8D-7D37-40DB-86BE-738C3EBA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F067-FFAD-4DDE-B411-F136E89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3045-280E-4615-8FC7-6C24195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5EB9C-3CFF-467A-B32B-4B211CF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1FA3-262E-4067-8981-0438AD6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210F-C2EE-455D-B615-D9D43D1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9065-A79C-42C0-ACD1-52837E74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32F8-5225-4DE0-87C2-A624BF4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9C7A-CC9A-491B-B4D2-ADE51BB8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80E-A017-4296-9F4B-59C8EBD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B59C-AEA1-4F84-BA80-21A39123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86263-C6F6-49FE-BA1D-AC52BFEE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8FF7-C2DC-4347-970D-DDCABD0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2821-80AA-42B8-8F23-9784AE8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D422-667A-4583-942D-1CA7FB2C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1996-BFFF-4BD2-9053-69A2581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8E78-9A49-4F88-876B-338606B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C2E7-E920-4CF6-A6B9-110EF44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47CA-ADFA-44CA-AED3-E2C9FC57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BD64-D6D3-47EA-A7B0-1C66201C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ECE-EA5F-4327-9DF0-EEECA11B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63B3-D758-469A-BA9B-764F4BFC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E5E0-4D0C-435A-91B2-C7AE7734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CB25F-DBDB-440F-BE20-34FC956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0ADB-D1ED-4029-8683-C32B0D21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5CBD-DA28-448A-BE66-2B08B0F8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3A3C-EF77-43FA-997B-A62EA150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DF10-1D8D-4E06-A25A-4BE6DA2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672B-0C1A-43D4-90E3-885080E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6DEE-0B7F-4FEA-8352-79B4331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9B2B-8F9D-4D0B-BEF6-FE1AEA30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270-2635-47BC-8983-4851577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2917-88A6-4259-974C-A2FC2B9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09D5-4314-46E6-BEBE-692DB102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24FF6-DAE7-423E-B11B-06AEA5C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6559-532D-48BA-8B51-691D4AA5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C179-89B3-49FC-8C7C-BB8E3A8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50FE-154D-46A5-8066-301475E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0C20-B678-4086-BE5C-A5D050D5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D84D-8FCD-4DAE-860B-435B811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7D6B-CC64-496C-A4DC-E5ABE12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0DE2-DA2D-4040-BEA9-C3B7BE0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32-62D2-475D-8D1C-B7AC676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C67E0-C605-479C-A711-14DC096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2C0C-A5BA-4ADD-9138-BB31C7F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D343-847B-42E7-9FAD-4E291C3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2DE2-A9C7-4CF8-A792-677081CB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E76FA-B59E-48F0-BF0C-1CB0A0FC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285A-004A-4179-B2D8-90BBF239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9530-C3E0-493B-9DAA-2999A366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5CBC-3F3D-4364-9634-BE56EAB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10300-CDD0-4809-80B5-0BC1573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8510-7548-4831-9E43-33686D19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ABF-72C8-4BC6-B2B3-02B8B50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AEE0-E25F-4417-852D-54ED879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BB11-26DC-4C0F-9F41-12E6E63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CFD59-AA34-4E4C-A70A-73E7236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0F6E-B9C2-4999-A746-07788D9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2366-616E-4269-AA98-96034341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7630F-3184-4479-8AE2-33DE5B4A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C7CD6-1B05-43CD-BF82-9E06DDBE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CC26D-32AF-42A1-9989-5A6C383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10AB0-7561-4FC4-B83D-3290BCB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27A3A-F0B3-4A5B-A261-9B51D92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B6D-67B3-4846-93A6-7696C6D4B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23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8760-D893-406A-AE9E-500E233E5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8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69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96A-9B83-45EA-917C-36D52F0060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4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9C8F-3F6D-4FEE-A18D-91A0A1C4CD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CDAF-85CE-480C-A65E-E0000BC56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83C-2915-42A0-98EF-89A4E40C8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4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4A89-404C-4A0C-8EFF-0DE78C9846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83EB-5D24-4964-8278-DD07E32A3F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8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571-03AB-4B7A-AC47-48D49DF516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85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353-08A3-4086-9064-C85BC6B0A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3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E8D-2211-4EF2-AF0F-CEF57317C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6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83B-0AD6-4A63-B721-1666F9B0F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6.png"/><Relationship Id="rId3" Type="http://schemas.openxmlformats.org/officeDocument/2006/relationships/slide" Target="slide15.xml"/><Relationship Id="rId4" Type="http://schemas.openxmlformats.org/officeDocument/2006/relationships/image" Target="../media/image37.png"/><Relationship Id="rId5" Type="http://schemas.openxmlformats.org/officeDocument/2006/relationships/slide" Target="slide16.xml"/><Relationship Id="rId6" Type="http://schemas.openxmlformats.org/officeDocument/2006/relationships/image" Target="../media/image38.png"/><Relationship Id="rId7" Type="http://schemas.openxmlformats.org/officeDocument/2006/relationships/slide" Target="slide17.xml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6"/>
          <p:cNvSpPr/>
          <p:nvPr/>
        </p:nvSpPr>
        <p:spPr>
          <a:xfrm>
            <a:off x="574560" y="115920"/>
            <a:ext cx="856944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БЮДЖЕТНОЕ    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НЯЯ ОБЩЕОБРАЗОВАТЕЛЬНАЯ ШКОЛА  ГОРОДА МОСКВЫ №144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348000" y="1844640"/>
          <a:ext cx="5688000" cy="338472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338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езентация к открытому уро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теме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“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nvironmental problems”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7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TextBox 2"/>
          <p:cNvSpPr/>
          <p:nvPr/>
        </p:nvSpPr>
        <p:spPr>
          <a:xfrm>
            <a:off x="1476360" y="5661000"/>
            <a:ext cx="69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ченко Наталья Николаевна, 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6-050-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574560" y="2133720"/>
            <a:ext cx="309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Fill in the words fro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oxic  fumes ,  factory waste,  acid rain, natural habitats,  soil pollution, plant species, solar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196920" y="2492280"/>
            <a:ext cx="8947080" cy="4032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684360" y="2630520"/>
            <a:ext cx="1474560" cy="536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"/>
          <p:cNvPicPr/>
          <p:nvPr/>
        </p:nvPicPr>
        <p:blipFill>
          <a:blip r:embed="rId3"/>
          <a:stretch/>
        </p:blipFill>
        <p:spPr>
          <a:xfrm>
            <a:off x="1835280" y="3166920"/>
            <a:ext cx="1761840" cy="5367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"/>
          <p:cNvPicPr/>
          <p:nvPr/>
        </p:nvPicPr>
        <p:blipFill>
          <a:blip r:embed="rId4"/>
          <a:stretch/>
        </p:blipFill>
        <p:spPr>
          <a:xfrm>
            <a:off x="2716200" y="3780000"/>
            <a:ext cx="2127240" cy="536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"/>
          <p:cNvPicPr/>
          <p:nvPr/>
        </p:nvPicPr>
        <p:blipFill>
          <a:blip r:embed="rId5"/>
          <a:stretch/>
        </p:blipFill>
        <p:spPr>
          <a:xfrm>
            <a:off x="684360" y="4316400"/>
            <a:ext cx="1622160" cy="53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"/>
          <p:cNvPicPr/>
          <p:nvPr/>
        </p:nvPicPr>
        <p:blipFill>
          <a:blip r:embed="rId6"/>
          <a:stretch/>
        </p:blipFill>
        <p:spPr>
          <a:xfrm>
            <a:off x="1619280" y="4853160"/>
            <a:ext cx="1639800" cy="536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"/>
          <p:cNvPicPr/>
          <p:nvPr/>
        </p:nvPicPr>
        <p:blipFill>
          <a:blip r:embed="rId7"/>
          <a:stretch/>
        </p:blipFill>
        <p:spPr>
          <a:xfrm>
            <a:off x="5796000" y="5229360"/>
            <a:ext cx="2011320" cy="536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"/>
          <p:cNvPicPr/>
          <p:nvPr/>
        </p:nvPicPr>
        <p:blipFill>
          <a:blip r:embed="rId8"/>
          <a:stretch/>
        </p:blipFill>
        <p:spPr>
          <a:xfrm>
            <a:off x="3713040" y="5757840"/>
            <a:ext cx="1474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2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11" name="Овальная выноска 3"/>
          <p:cNvSpPr/>
          <p:nvPr/>
        </p:nvSpPr>
        <p:spPr>
          <a:xfrm>
            <a:off x="3419640" y="1197000"/>
            <a:ext cx="5329080" cy="3024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 to the tape and fill the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13-unit18 ex.11 p.80.mp3" descr=""/>
          <p:cNvPicPr/>
          <p:nvPr/>
        </p:nvPicPr>
        <p:blipFill>
          <a:blip r:embed="rId2"/>
          <a:stretch/>
        </p:blipFill>
        <p:spPr>
          <a:xfrm>
            <a:off x="971640" y="2819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40905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250920" y="115920"/>
          <a:ext cx="8642160" cy="6267240"/>
        </p:xfrm>
        <a:graphic>
          <a:graphicData uri="http://schemas.openxmlformats.org/drawingml/2006/table">
            <a:tbl>
              <a:tblPr/>
              <a:tblGrid>
                <a:gridCol w="2665440"/>
                <a:gridCol w="2519280"/>
                <a:gridCol w="3457440"/>
              </a:tblGrid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1. li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ets are </a:t>
                      </a:r>
                      <a:r>
                        <a:rPr b="1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___ 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 catch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2.air pol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es and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e the 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serious </a:t>
                      </a: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_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, trees and </a:t>
                      </a: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_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ama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3. water pol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es dump waste into_</a:t>
                      </a:r>
                      <a:r>
                        <a:rPr b="1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__________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a is polluted with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an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suffer from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, fish are killed, rivers are contamin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71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4. destruction of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cut down or _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 and plants lose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 may even become extinct, people have les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_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rea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2028960"/>
            <a:ext cx="2233440" cy="1506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2028960"/>
            <a:ext cx="2087640" cy="1536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03680" y="2089080"/>
            <a:ext cx="2160720" cy="15066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6840" y="2089080"/>
            <a:ext cx="23986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250920" y="1197000"/>
          <a:ext cx="8642160" cy="523728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457440"/>
              </a:tblGrid>
              <a:tr h="23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li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edu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9" name="Text Box 4"/>
          <p:cNvSpPr/>
          <p:nvPr/>
        </p:nvSpPr>
        <p:spPr>
          <a:xfrm>
            <a:off x="5373720" y="3500280"/>
            <a:ext cx="37796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s are ___ _ people catch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7524720" y="3357720"/>
            <a:ext cx="2103480" cy="858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915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101520" y="1639800"/>
          <a:ext cx="9217080" cy="5077080"/>
        </p:xfrm>
        <a:graphic>
          <a:graphicData uri="http://schemas.openxmlformats.org/drawingml/2006/table">
            <a:tbl>
              <a:tblPr/>
              <a:tblGrid>
                <a:gridCol w="1944720"/>
                <a:gridCol w="3586320"/>
                <a:gridCol w="368604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air pol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es and ___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e the 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serious _______problems, trees and _______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ama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1296720" cy="8589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5372280" y="3138480"/>
            <a:ext cx="1944360" cy="858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6948360" y="3567240"/>
            <a:ext cx="1944720" cy="8586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94292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31680" y="1700280"/>
          <a:ext cx="8783640" cy="5164200"/>
        </p:xfrm>
        <a:graphic>
          <a:graphicData uri="http://schemas.openxmlformats.org/drawingml/2006/table">
            <a:tbl>
              <a:tblPr/>
              <a:tblGrid>
                <a:gridCol w="2232000"/>
                <a:gridCol w="2808360"/>
                <a:gridCol w="3743280"/>
              </a:tblGrid>
              <a:tr h="165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water pol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es dump waste into_______ ,sea is polluted with _____ from tank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suffer from ________problems, fish are killed, rivers are contamin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957400" y="4287960"/>
            <a:ext cx="1944720" cy="85860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10"/>
          <p:cNvSpPr/>
          <p:nvPr/>
        </p:nvSpPr>
        <p:spPr>
          <a:xfrm>
            <a:off x="2268360" y="58104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2376360" cy="8586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"/>
          <p:cNvPicPr/>
          <p:nvPr/>
        </p:nvPicPr>
        <p:blipFill>
          <a:blip r:embed="rId3"/>
          <a:stretch/>
        </p:blipFill>
        <p:spPr>
          <a:xfrm>
            <a:off x="6804000" y="404640"/>
            <a:ext cx="1836720" cy="8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108000" y="1362240"/>
          <a:ext cx="8640720" cy="5317920"/>
        </p:xfrm>
        <a:graphic>
          <a:graphicData uri="http://schemas.openxmlformats.org/drawingml/2006/table">
            <a:tbl>
              <a:tblPr/>
              <a:tblGrid>
                <a:gridCol w="2663640"/>
                <a:gridCol w="2521080"/>
                <a:gridCol w="3456000"/>
              </a:tblGrid>
              <a:tr h="83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3cb1"/>
                          </a:solidFill>
                          <a:latin typeface="Arial"/>
                        </a:rPr>
                        <a:t>destruction of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cut down or _____ forest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 and plants lose_________,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 may even become extinct, people have less __________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reat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3294000" y="3905280"/>
            <a:ext cx="2517840" cy="858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5811840" y="3551400"/>
            <a:ext cx="3743280" cy="858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5580000" y="5445000"/>
            <a:ext cx="3743280" cy="8589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"/>
          <p:cNvPicPr/>
          <p:nvPr/>
        </p:nvPicPr>
        <p:blipFill>
          <a:blip r:embed="rId4"/>
          <a:stretch/>
        </p:blipFill>
        <p:spPr>
          <a:xfrm>
            <a:off x="6804000" y="189000"/>
            <a:ext cx="194472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Овальная выноска 4"/>
          <p:cNvSpPr/>
          <p:nvPr/>
        </p:nvSpPr>
        <p:spPr>
          <a:xfrm>
            <a:off x="3203640" y="1484280"/>
            <a:ext cx="4681440" cy="2089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roblems our planet is facing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700360" cy="18302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0" y="1946160"/>
            <a:ext cx="2700360" cy="2059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"/>
          <p:cNvPicPr/>
          <p:nvPr/>
        </p:nvPicPr>
        <p:blipFill>
          <a:blip r:embed="rId3"/>
          <a:stretch/>
        </p:blipFill>
        <p:spPr>
          <a:xfrm>
            <a:off x="55440" y="4227480"/>
            <a:ext cx="2644920" cy="22258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4"/>
          <a:stretch/>
        </p:blipFill>
        <p:spPr>
          <a:xfrm>
            <a:off x="3359160" y="3884760"/>
            <a:ext cx="30956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Блок-схема: альтернативный процесс 1"/>
          <p:cNvSpPr/>
          <p:nvPr/>
        </p:nvSpPr>
        <p:spPr>
          <a:xfrm>
            <a:off x="611280" y="1231920"/>
            <a:ext cx="7561080" cy="38894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1042920" y="1413000"/>
          <a:ext cx="7091280" cy="3384360"/>
        </p:xfrm>
        <a:graphic>
          <a:graphicData uri="http://schemas.openxmlformats.org/drawingml/2006/table">
            <a:tbl>
              <a:tblPr/>
              <a:tblGrid>
                <a:gridCol w="7091280"/>
              </a:tblGrid>
              <a:tr h="3384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 u="sng">
                          <a:solidFill>
                            <a:srgbClr val="960000"/>
                          </a:solidFill>
                          <a:uFillTx/>
                          <a:latin typeface="Arial"/>
                        </a:rPr>
                        <a:t>Giving opinion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believe/ think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 that.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my opinion/ view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seems to me that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ar as I 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ed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5796000" y="26128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"/>
          <p:cNvPicPr/>
          <p:nvPr/>
        </p:nvPicPr>
        <p:blipFill>
          <a:blip r:embed="rId2"/>
          <a:stretch/>
        </p:blipFill>
        <p:spPr>
          <a:xfrm>
            <a:off x="3321000" y="5300640"/>
            <a:ext cx="25369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539640" y="277920"/>
            <a:ext cx="835344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Блок-схема: альтернативный процесс 1"/>
          <p:cNvSpPr/>
          <p:nvPr/>
        </p:nvSpPr>
        <p:spPr>
          <a:xfrm>
            <a:off x="395280" y="1197000"/>
            <a:ext cx="7416720" cy="3960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55640" y="1197000"/>
          <a:ext cx="7240680" cy="3992400"/>
        </p:xfrm>
        <a:graphic>
          <a:graphicData uri="http://schemas.openxmlformats.org/drawingml/2006/table">
            <a:tbl>
              <a:tblPr/>
              <a:tblGrid>
                <a:gridCol w="7240680"/>
              </a:tblGrid>
              <a:tr h="3993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 u="sng">
                          <a:solidFill>
                            <a:srgbClr val="960000"/>
                          </a:solidFill>
                          <a:uFillTx/>
                          <a:latin typeface="Arial"/>
                        </a:rPr>
                        <a:t>Making Suggestion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ould be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idea if..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efu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be to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bl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be solve if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itu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be improved if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3132000" y="5173560"/>
            <a:ext cx="25369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Блок-схема: альтернативный процесс 1"/>
          <p:cNvSpPr/>
          <p:nvPr/>
        </p:nvSpPr>
        <p:spPr>
          <a:xfrm>
            <a:off x="250920" y="1268280"/>
            <a:ext cx="7634160" cy="41054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68360" y="1557360"/>
          <a:ext cx="6696000" cy="381636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816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 u="sng">
                          <a:solidFill>
                            <a:srgbClr val="960000"/>
                          </a:solidFill>
                          <a:uFillTx/>
                          <a:latin typeface="Arial"/>
                        </a:rPr>
                        <a:t>Asking for opinion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think/ belie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agre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's your opinion/ point of view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1" name="Picture 1" descr=""/>
          <p:cNvPicPr/>
          <p:nvPr/>
        </p:nvPicPr>
        <p:blipFill>
          <a:blip r:embed="rId1"/>
          <a:stretch/>
        </p:blipFill>
        <p:spPr>
          <a:xfrm>
            <a:off x="6012000" y="1528920"/>
            <a:ext cx="1514160" cy="1266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"/>
          <p:cNvPicPr/>
          <p:nvPr/>
        </p:nvPicPr>
        <p:blipFill>
          <a:blip r:embed="rId2"/>
          <a:stretch/>
        </p:blipFill>
        <p:spPr>
          <a:xfrm>
            <a:off x="2987640" y="5373720"/>
            <a:ext cx="253692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810400" cy="30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4" name=""/>
          <p:cNvGraphicFramePr/>
          <p:nvPr/>
        </p:nvGraphicFramePr>
        <p:xfrm>
          <a:off x="2195640" y="404640"/>
          <a:ext cx="5622840" cy="1511640"/>
        </p:xfrm>
        <a:graphic>
          <a:graphicData uri="http://schemas.openxmlformats.org/drawingml/2006/table">
            <a:tbl>
              <a:tblPr/>
              <a:tblGrid>
                <a:gridCol w="5622840"/>
              </a:tblGrid>
              <a:tr h="151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,serif"/>
                        </a:rPr>
                        <a:t>People in Great Britain try to help keep our planet green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143760" cy="4543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2681280" y="333360"/>
            <a:ext cx="3298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395280" y="115920"/>
          <a:ext cx="8497800" cy="6626160"/>
        </p:xfrm>
        <a:graphic>
          <a:graphicData uri="http://schemas.openxmlformats.org/drawingml/2006/table">
            <a:tbl>
              <a:tblPr/>
              <a:tblGrid>
                <a:gridCol w="7345440"/>
                <a:gridCol w="1152360"/>
              </a:tblGrid>
              <a:tr h="108576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People never forget to turn off lights, because                              electricity is expensiv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58c3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Nobody wears fur coats, because it is not col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032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People sort their rubbish, because they want  to help the environment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People use pooper scoopers and clean up after their dog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140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Nobody drops litte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Nobody goes camping, because it’s bad for the environmen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54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There are special factories which recycle materials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Стрелка вправо 1"/>
          <p:cNvSpPr/>
          <p:nvPr/>
        </p:nvSpPr>
        <p:spPr>
          <a:xfrm>
            <a:off x="4932360" y="476280"/>
            <a:ext cx="201600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cb1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трелка вправо 2"/>
          <p:cNvSpPr/>
          <p:nvPr/>
        </p:nvSpPr>
        <p:spPr>
          <a:xfrm>
            <a:off x="6588000" y="1197000"/>
            <a:ext cx="1729080" cy="69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cb1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4" descr=""/>
          <p:cNvPicPr/>
          <p:nvPr/>
        </p:nvPicPr>
        <p:blipFill>
          <a:blip r:embed="rId1"/>
          <a:stretch/>
        </p:blipFill>
        <p:spPr>
          <a:xfrm>
            <a:off x="2701800" y="2257560"/>
            <a:ext cx="1756080" cy="811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5" descr=""/>
          <p:cNvPicPr/>
          <p:nvPr/>
        </p:nvPicPr>
        <p:blipFill>
          <a:blip r:embed="rId2"/>
          <a:stretch/>
        </p:blipFill>
        <p:spPr>
          <a:xfrm>
            <a:off x="1692360" y="3267000"/>
            <a:ext cx="1755720" cy="811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6" descr=""/>
          <p:cNvPicPr/>
          <p:nvPr/>
        </p:nvPicPr>
        <p:blipFill>
          <a:blip r:embed="rId3"/>
          <a:stretch/>
        </p:blipFill>
        <p:spPr>
          <a:xfrm>
            <a:off x="3625920" y="3881520"/>
            <a:ext cx="1755720" cy="811080"/>
          </a:xfrm>
          <a:prstGeom prst="rect">
            <a:avLst/>
          </a:prstGeom>
          <a:ln w="0">
            <a:noFill/>
          </a:ln>
        </p:spPr>
      </p:pic>
      <p:sp>
        <p:nvSpPr>
          <p:cNvPr id="663" name="Стрелка вправо 6"/>
          <p:cNvSpPr/>
          <p:nvPr/>
        </p:nvSpPr>
        <p:spPr>
          <a:xfrm>
            <a:off x="2701800" y="4941720"/>
            <a:ext cx="2014560" cy="7192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cb1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8" descr=""/>
          <p:cNvPicPr/>
          <p:nvPr/>
        </p:nvPicPr>
        <p:blipFill>
          <a:blip r:embed="rId4"/>
          <a:stretch/>
        </p:blipFill>
        <p:spPr>
          <a:xfrm>
            <a:off x="7164360" y="5516640"/>
            <a:ext cx="1755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Прямоугольник 1" descr=""/>
          <p:cNvPicPr/>
          <p:nvPr/>
        </p:nvPicPr>
        <p:blipFill>
          <a:blip r:embed="rId1"/>
          <a:stretch/>
        </p:blipFill>
        <p:spPr>
          <a:xfrm>
            <a:off x="0" y="-968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66" name="Прямоугольник 3"/>
          <p:cNvSpPr/>
          <p:nvPr/>
        </p:nvSpPr>
        <p:spPr>
          <a:xfrm>
            <a:off x="0" y="1643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rite an email to Tom ab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can people do to prevent pollution using  the information of thi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7020000" y="204840"/>
            <a:ext cx="14382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rebuchet MS"/>
              </a:rPr>
              <a:t>Restore the plan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2"/>
          <p:cNvSpPr/>
          <p:nvPr/>
        </p:nvSpPr>
        <p:spPr>
          <a:xfrm>
            <a:off x="2003400" y="2421000"/>
            <a:ext cx="59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ve the EARTH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221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улина Ю.Е. , Дули Д., Подоляко О.Е. , Эванс  В. УМК «Английский в фокусе  7клас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. » // Просвещение,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улина Ю.Е. , Дули Д., Подоляко О.Е. , Эванс  В. УМК «Английский в фокусе  7класс. Рабочая тетрадь. » // Просвещение,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рнов Ю.А. . Английский язык. Сборник тем для подготовки к ГИА 5-9 классы /Просвещение 2012г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нс В. , Дули Д. УМК «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3 “ Coursebook, Class Audio Cds,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нс В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 Grammar book. Round –u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y Jervis. New Grammar time 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едова М.А.Английский язык 7 класс. Тематические тестовые задания для подготовки к ГИА: Академия развития 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sv.ru/umk/spot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abc-english-gramma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englishhous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english.languag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_защиты_от_экологической_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67A-500D-41F4-9D6D-5E9CD4D79CB8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221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xey J. ,Rinvolucri M. Get up and do it! Student’s  Book. London,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W.R. Language Teaching Games and Contests. Oxford University Press, 19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для през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доступные источники в сети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03B-2DDA-46A3-B182-9BEAE242E78E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3880" y="260280"/>
            <a:ext cx="609624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rebuchet MS"/>
              </a:rPr>
              <a:t>Today at our lesson we will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635040" y="2781360"/>
            <a:ext cx="7461360" cy="1295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the causes of pollutions  stud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module and ways of their redu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635040" y="5229360"/>
            <a:ext cx="7270560" cy="87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language skills i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67" name="Овальная выноска 1"/>
          <p:cNvSpPr/>
          <p:nvPr/>
        </p:nvSpPr>
        <p:spPr>
          <a:xfrm>
            <a:off x="3348000" y="260280"/>
            <a:ext cx="5111640" cy="2232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-situation on our planet 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1" descr=""/>
          <p:cNvPicPr/>
          <p:nvPr/>
        </p:nvPicPr>
        <p:blipFill>
          <a:blip r:embed="rId1"/>
          <a:srcRect l="0" t="0" r="58770" b="39084"/>
          <a:stretch/>
        </p:blipFill>
        <p:spPr>
          <a:xfrm>
            <a:off x="1476360" y="2081160"/>
            <a:ext cx="5759640" cy="4300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2908440" y="476280"/>
            <a:ext cx="3319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Вертикальный свиток 1"/>
          <p:cNvSpPr/>
          <p:nvPr/>
        </p:nvSpPr>
        <p:spPr>
          <a:xfrm>
            <a:off x="1042920" y="981000"/>
            <a:ext cx="7921800" cy="4896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ситуация на планете Земля очень неблагоприят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загрязнения воздуха, воды и почвы многие виды птиц и животных находятся в 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тные дожди отравляют воду и поч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 виды рыб, животных и растений погиб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олжны сделать все, что можем, чтобы уменьшить загрязнение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2627280" y="1159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or’s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rebuchet MS"/>
              </a:rPr>
              <a:t>Complete the spider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"/>
          <p:cNvSpPr/>
          <p:nvPr/>
        </p:nvSpPr>
        <p:spPr>
          <a:xfrm>
            <a:off x="2556000" y="2752560"/>
            <a:ext cx="3600360" cy="152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vironment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трелка вправо 3"/>
          <p:cNvSpPr/>
          <p:nvPr/>
        </p:nvSpPr>
        <p:spPr>
          <a:xfrm>
            <a:off x="6145200" y="3360600"/>
            <a:ext cx="1081080" cy="2527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 rot="19611000">
            <a:off x="4597560" y="2172960"/>
            <a:ext cx="1135080" cy="414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"/>
          <p:cNvPicPr/>
          <p:nvPr/>
        </p:nvPicPr>
        <p:blipFill>
          <a:blip r:embed="rId2"/>
          <a:stretch/>
        </p:blipFill>
        <p:spPr>
          <a:xfrm rot="3064200">
            <a:off x="5301720" y="4203720"/>
            <a:ext cx="1341720" cy="515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"/>
          <p:cNvPicPr/>
          <p:nvPr/>
        </p:nvPicPr>
        <p:blipFill>
          <a:blip r:embed="rId3"/>
          <a:stretch/>
        </p:blipFill>
        <p:spPr>
          <a:xfrm rot="12623400">
            <a:off x="2590560" y="2485440"/>
            <a:ext cx="973080" cy="493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4"/>
          <a:stretch/>
        </p:blipFill>
        <p:spPr>
          <a:xfrm rot="8879400">
            <a:off x="2435040" y="4330440"/>
            <a:ext cx="1085760" cy="493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5"/>
          <a:stretch/>
        </p:blipFill>
        <p:spPr>
          <a:xfrm>
            <a:off x="7023240" y="3192480"/>
            <a:ext cx="2095200" cy="1384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6"/>
          <a:stretch/>
        </p:blipFill>
        <p:spPr>
          <a:xfrm>
            <a:off x="5504040" y="4951440"/>
            <a:ext cx="2828880" cy="13842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"/>
          <p:cNvPicPr/>
          <p:nvPr/>
        </p:nvPicPr>
        <p:blipFill>
          <a:blip r:embed="rId7"/>
          <a:stretch/>
        </p:blipFill>
        <p:spPr>
          <a:xfrm>
            <a:off x="57240" y="4951440"/>
            <a:ext cx="4298760" cy="13842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"/>
          <p:cNvPicPr/>
          <p:nvPr/>
        </p:nvPicPr>
        <p:blipFill>
          <a:blip r:embed="rId8"/>
          <a:stretch/>
        </p:blipFill>
        <p:spPr>
          <a:xfrm>
            <a:off x="5608800" y="1368360"/>
            <a:ext cx="2828880" cy="1384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"/>
          <p:cNvPicPr/>
          <p:nvPr/>
        </p:nvPicPr>
        <p:blipFill>
          <a:blip r:embed="rId9"/>
          <a:stretch/>
        </p:blipFill>
        <p:spPr>
          <a:xfrm>
            <a:off x="0" y="1846440"/>
            <a:ext cx="2590920" cy="1384200"/>
          </a:xfrm>
          <a:prstGeom prst="rect">
            <a:avLst/>
          </a:prstGeom>
          <a:ln w="0">
            <a:noFill/>
          </a:ln>
        </p:spPr>
      </p:pic>
      <p:sp>
        <p:nvSpPr>
          <p:cNvPr id="584" name="TextBox 1"/>
          <p:cNvSpPr/>
          <p:nvPr/>
        </p:nvSpPr>
        <p:spPr>
          <a:xfrm>
            <a:off x="6156360" y="2060640"/>
            <a:ext cx="19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731412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5807880" y="564372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7"/>
          <p:cNvSpPr/>
          <p:nvPr/>
        </p:nvSpPr>
        <p:spPr>
          <a:xfrm>
            <a:off x="971640" y="564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79280" y="2060640"/>
            <a:ext cx="26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 of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38160" y="1692360"/>
            <a:ext cx="9132840" cy="490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0" name=""/>
          <p:cNvGraphicFramePr/>
          <p:nvPr/>
        </p:nvGraphicFramePr>
        <p:xfrm>
          <a:off x="2124000" y="0"/>
          <a:ext cx="6010200" cy="1557360"/>
        </p:xfrm>
        <a:graphic>
          <a:graphicData uri="http://schemas.openxmlformats.org/drawingml/2006/table">
            <a:tbl>
              <a:tblPr/>
              <a:tblGrid>
                <a:gridCol w="6010200"/>
              </a:tblGrid>
              <a:tr h="1557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acid rain? What causes i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effects does it have? What are governments doing? What can we do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rebuchet MS"/>
              </a:rPr>
              <a:t>Match the 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95280" y="1989000"/>
          <a:ext cx="8353440" cy="4357800"/>
        </p:xfrm>
        <a:graphic>
          <a:graphicData uri="http://schemas.openxmlformats.org/drawingml/2006/table">
            <a:tbl>
              <a:tblPr/>
              <a:tblGrid>
                <a:gridCol w="5299200"/>
                <a:gridCol w="3054240"/>
              </a:tblGrid>
              <a:tr h="622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xic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) spec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ctory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) Fum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id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) Poll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tu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) P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) Habita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lant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) Was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lar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) rai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2581200" y="1903320"/>
            <a:ext cx="1474920" cy="749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2581200" y="2630520"/>
            <a:ext cx="1689120" cy="646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"/>
          <p:cNvPicPr/>
          <p:nvPr/>
        </p:nvPicPr>
        <p:blipFill>
          <a:blip r:embed="rId3"/>
          <a:stretch/>
        </p:blipFill>
        <p:spPr>
          <a:xfrm>
            <a:off x="2664000" y="3143160"/>
            <a:ext cx="1328400" cy="858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2664000" y="3884760"/>
            <a:ext cx="1622160" cy="639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"/>
          <p:cNvPicPr/>
          <p:nvPr/>
        </p:nvPicPr>
        <p:blipFill>
          <a:blip r:embed="rId5"/>
          <a:stretch/>
        </p:blipFill>
        <p:spPr>
          <a:xfrm>
            <a:off x="2492280" y="4543560"/>
            <a:ext cx="1695600" cy="645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8" descr=""/>
          <p:cNvPicPr/>
          <p:nvPr/>
        </p:nvPicPr>
        <p:blipFill>
          <a:blip r:embed="rId6"/>
          <a:stretch/>
        </p:blipFill>
        <p:spPr>
          <a:xfrm>
            <a:off x="2639880" y="5189400"/>
            <a:ext cx="1548000" cy="646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"/>
          <p:cNvPicPr/>
          <p:nvPr/>
        </p:nvPicPr>
        <p:blipFill>
          <a:blip r:embed="rId7"/>
          <a:stretch/>
        </p:blipFill>
        <p:spPr>
          <a:xfrm>
            <a:off x="2735280" y="5611680"/>
            <a:ext cx="16272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computer</cp:lastModifiedBy>
  <dcterms:modified xsi:type="dcterms:W3CDTF">2014-01-04T17:21:56Z</dcterms:modified>
  <cp:revision>167</cp:revision>
  <dc:subject/>
  <dc:title>Hand Carrying Earth</dc:title>
</cp:coreProperties>
</file>