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C1D-064F-4E57-91BF-F04DEB54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2BE-05D8-4376-9EA4-8F03D7A9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DBE-264D-4A37-BF39-3E70C74B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27F-4BEC-4A38-877E-50459E1C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D36-2180-46D6-BD40-514CC975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A34-D4E1-4E51-A93A-CCE1A595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77A-5AF4-4963-9240-C0FD2257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EA5-4094-4D5C-B33F-39F25600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BE9-1CDF-4605-88A9-0C2EDB99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A516-2376-46F8-A48F-BC3B3A36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7A1-62F9-4EB9-B30F-559AC59D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7EBA-5152-44BB-A063-D745C6AF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6AA6-BC74-4C4F-844B-0EE14FA77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Arial"/>
              </a:rPr>
              <a:t>Стихи С.А.Есенина на уроке русского язы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b88eb6303b17"/>
          <p:cNvPicPr/>
          <p:nvPr/>
        </p:nvPicPr>
        <p:blipFill>
          <a:blip r:embed="rId2"/>
          <a:stretch/>
        </p:blipFill>
        <p:spPr>
          <a:xfrm>
            <a:off x="250920" y="20606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628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abic Typesetting"/>
              </a:rPr>
              <a:t>Константиново – </a:t>
            </a: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Arabic Typesetting"/>
              </a:rPr>
              <a:t>Родина Сергея Есен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пишем  и проанализируем стро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99640" y="1773000"/>
            <a:ext cx="741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Я снова здесь, в семье родн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Мой край, задумчивый и нежный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Кудрявый сумрак за го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Рукою машет белоснежн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Седины пасмурног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Плывут всклокоченные мим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И грусть вечерняя ме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Волнует непреодолимо.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авайте вспомним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50920" y="1125360"/>
            <a:ext cx="8642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Повествование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– текст, в котором повествуется (рассказывается) о чем-либо, излагается материал во временной последовательности ;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Для </a:t>
            </a: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описания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характерно большое количество прилагательных и причастий, т.к. описывается какой-либо предмет, явление, человек;</a:t>
            </a:r>
            <a:br>
              <a:rPr sz="2800"/>
            </a:b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Рассуждение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имеет определенную структур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тезис (утверждени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аргументы (доказательства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076640"/>
            <a:ext cx="88930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Олицетворение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- это наделение неодушевленных предметов разнообразными чувствами, мыслями, поступками, речью живых существ. При олицетворении описываемый предмет может внешне уподобляться человеку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0_69969_2122e8e9_L"/>
          <p:cNvPicPr/>
          <p:nvPr/>
        </p:nvPicPr>
        <p:blipFill>
          <a:blip r:embed="rId2"/>
          <a:stretch/>
        </p:blipFill>
        <p:spPr>
          <a:xfrm>
            <a:off x="324000" y="260280"/>
            <a:ext cx="511164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Ищем примеры в текст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32000" y="1052640"/>
            <a:ext cx="7488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адремали звезды золотые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адрожало зеркало затона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резжит свет на заводи речные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румянит сетку небоскл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лыбнулись сонные березки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стрепали шелковые косы.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Шелестят зеленые сережки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горят серебряные 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 плетня заросшая крапива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брядилась ярким перламутром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, качаясь, шепчет шаловливо: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«С добрым утром!»    /…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Зеленая прическа,</a:t>
            </a: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Девическая грудь,</a:t>
            </a: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О тонкая березка,</a:t>
            </a: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Что загляделась в пруд?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Что шепчет тебе ветер?</a:t>
            </a: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О чем звенит песок?</a:t>
            </a: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Иль хочешь в косы-ветви</a:t>
            </a: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Ты лунный гребешок?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Открой, открой мне тайну</a:t>
            </a: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Твоих древесных дум,</a:t>
            </a: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Я полюбил печальный</a:t>
            </a: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Твой предосенний шум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(…)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3096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Метафора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- перенос названия с одного предмета на другой на основании их сходства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(по цвету, форме, объему, назначению и т.д.)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68000" y="2420640"/>
            <a:ext cx="849636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00"/>
                </a:solidFill>
                <a:uFillTx/>
                <a:latin typeface="Arial"/>
              </a:rPr>
              <a:t>Эпитеты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это яркие, красочные определения, выраженные именам прилагательными. А кроме своей обычной функции – определять предмет, называть его типичные признаки – в художественной литературе прилагательные получают дополнительное значение: “озарять предметы”, по меткому выражению критика Ботк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- Как могут связываться предложения в текс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30110"/>
          <p:cNvPicPr/>
          <p:nvPr/>
        </p:nvPicPr>
        <p:blipFill>
          <a:blip r:embed="rId2"/>
          <a:stretch/>
        </p:blipFill>
        <p:spPr>
          <a:xfrm>
            <a:off x="5219640" y="2997360"/>
            <a:ext cx="3745080" cy="36478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6659640" y="3213000"/>
            <a:ext cx="22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24000" y="2492280"/>
            <a:ext cx="467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овторением одного и того же сл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заменой существительного местоимени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с помощью однокоренных сл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синонимами и антонимами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1636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Шаганэ ты моя, Шаганэ!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4716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ганэ ты моя, Шаганэ!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ому, что я с севера, что ли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готов рассказать тебе поле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 волнистую рожь при луне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ганэ ты моя, Шаганэ. 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ому, что я с севера, что ли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луна там огромней в сто раз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бы ни был красив Шираз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не лучше рязанских раздолий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ому, что я с севера, что ли. 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готов рассказать тебе поле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и волосы взял я у ржи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хочешь, на палец вяжи -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нисколько не чувствую боли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готов рассказать тебе поле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50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 волнистую рожь при луне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кудрям ты моим догадайся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рогая, шути, улыбайся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буди только память во мне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 волнистую рожь при луне. 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ганэ ты моя, Шаганэ!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, на севере, девушка тоже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тебя она страшно похожа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жет, думает обо мне..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ганэ ты моя, Шаганэ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- Как связаны в тексте предлож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640" y="1699920"/>
            <a:ext cx="7345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- повторить определение понятия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текст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и его особенности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- вспомнить основные сведения об изобразительных средствах языка на примере лирики С.Есени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- ввести учащихся в ясный и своеобразный мир поэзии Есени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- показать глубокое чувство родной природы и Родины в стихотворениях поэ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98824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Сестре Ш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49323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 запой мне ту песню, что прежде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певала нам старая мать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жалея о сгибшей надежде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 сумею тебе подпевать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 ведь знаю, и мне знакомо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тому и волнуй и тревожь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дто я из родимого дома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ышу в голосе нежную дрожь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 мне пой, ну а я с такою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т с такою же песней, как ты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шь немного глаза прикрою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жу вновь дорогие черты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 мне пой, ведь моя отрада —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вовек я любил не один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калитку осеннего сада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опавшие листья с рябин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196640"/>
            <a:ext cx="44956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 мне пой, ну а я припомню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не буду забывчиво хмур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 приятно и так легко мне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деть мать и тоскующих кур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 навек за туманы и росы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юбил у березки стан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ее золотистые косы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холщовый ее сарафан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тому так и сердцу не жестко—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не за песнею и за вином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казалась ты той березкой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стоит под родимым ок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820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- Подумайте, как Есенин достигает напевности своего стихотворения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e62c88ee23c39bffc39bead81e2237a8"/>
          <p:cNvPicPr/>
          <p:nvPr/>
        </p:nvPicPr>
        <p:blipFill>
          <a:blip r:embed="rId2"/>
          <a:stretch/>
        </p:blipFill>
        <p:spPr>
          <a:xfrm>
            <a:off x="395280" y="2060640"/>
            <a:ext cx="60958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704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Записываем в тетрад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360" y="981000"/>
            <a:ext cx="7991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Повтор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- повторение слов или словосочетаний, благодаря чему на них фиксируется внимание читателя, слушателя и тем самым усиливается их роль в тексте. Повтор придает тексту связность, подчеркивает важные мыс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Если повтор стоит в начале строки, то это называется  </a:t>
            </a: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анафорой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Написать сочинение-миниатюру на тему,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взятую из стихотворения С.А.Есенина: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"Мой край, задумчивый и нежный…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0_89284_567b93ae_XL"/>
          <p:cNvPicPr/>
          <p:nvPr/>
        </p:nvPicPr>
        <p:blipFill>
          <a:blip r:embed="rId2"/>
          <a:stretch/>
        </p:blipFill>
        <p:spPr>
          <a:xfrm>
            <a:off x="571680" y="431640"/>
            <a:ext cx="800100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0232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744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469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ишите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33"/>
                </a:solidFill>
                <a:latin typeface="Arial"/>
              </a:rPr>
              <a:t>Ноздреватый,, лизать, горбатый, подол, частоко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- Соответствуют ли данные слова представлению о красивом,  нежном   или  говорят о чем-то прозаическом и обыденн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3499920"/>
            <a:ext cx="748980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Снег, словно мед ноздреватый,                                                                                                            Лег под прямой частокол.                                                                                                                 Лижет теленок горбатый                                                                                                                                             Вечера красный подол.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                                              С.Есе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0_50073_8f53a565_XL"/>
          <p:cNvPicPr/>
          <p:nvPr/>
        </p:nvPicPr>
        <p:blipFill>
          <a:blip r:embed="rId2"/>
          <a:stretch/>
        </p:blipFill>
        <p:spPr>
          <a:xfrm>
            <a:off x="250920" y="189000"/>
            <a:ext cx="507996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пишите предложение для синтаксического разбора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828036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Arial"/>
              </a:rPr>
              <a:t>Я покинул родимый дом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800000"/>
                </a:solidFill>
                <a:latin typeface="Arial"/>
              </a:rPr>
              <a:t>Голубую оставил Русь</a:t>
            </a:r>
            <a:r>
              <a:rPr b="0" i="1" lang="en-US" sz="4000" spc="-1" strike="noStrike">
                <a:solidFill>
                  <a:srgbClr val="8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 Можно ли назвать это предложение текс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691920"/>
            <a:ext cx="8589960" cy="616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66"/>
                </a:solidFill>
                <a:uFillTx/>
                <a:latin typeface="Arial"/>
              </a:rPr>
              <a:t>Текст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- это два или более предложений, связанных по смыслу, а также с помощью языковых средств и расположенных в определенной последовательности. Текст может иметь заглав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4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539640" y="1557360"/>
            <a:ext cx="756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Я покинул родимый дом,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Голубую оставил Русь.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В три звезды березняк над прудом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Теплит матери старой грусть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Золотою лягушкой луна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Распласталась на тихой воде.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Словно яблонный цвет, седина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У отца пролилась в бо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20975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1:22:59Z</dcterms:created>
  <dc:creator>Светлана</dc:creator>
  <dc:description/>
  <dc:language>en-US</dc:language>
  <cp:lastModifiedBy>User</cp:lastModifiedBy>
  <dcterms:modified xsi:type="dcterms:W3CDTF">2013-11-22T18:05:44Z</dcterms:modified>
  <cp:revision>9</cp:revision>
  <dc:subject/>
  <dc:title>Слайд 1</dc:title>
</cp:coreProperties>
</file>