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57C2-1B69-4CF4-9744-26ABA2DC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DFB5-8ECA-42AA-B733-91F42629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1A61-11DE-40C7-91A2-1664830BB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AA9C-245B-47D0-B73D-FA1F90F93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6315-E0E2-4F61-B2D7-A3DA3728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80F3-6400-4B4B-85A1-09E31428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4BA8-A7E7-4816-91AF-C3421E31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A107-DBE7-427D-931F-A3873123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DEEA-960C-479A-BDC3-D7EB3158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2FBA-D504-46F1-803E-E51C27A4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BB57-B463-47D0-A966-74E5DBB1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BD94-08E8-4CF9-AD1F-D0BA0F26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7FE0-07B9-4B55-9932-9C457A6F6B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ма</a:t>
            </a: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de-DE" sz="4400" spc="-1" strike="noStrike" u="sng">
                <a:solidFill>
                  <a:srgbClr val="000000"/>
                </a:solidFill>
                <a:uFillTx/>
                <a:latin typeface="Calibri"/>
              </a:rPr>
              <a:t>Kleider machen Leut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898989"/>
                </a:solidFill>
                <a:latin typeface="Calibri"/>
              </a:rPr>
              <a:t>Разработка урока немецкого языка в 8 классе по теме «</a:t>
            </a:r>
            <a:r>
              <a:rPr b="1" lang="ru-RU" sz="1900" spc="-1" strike="noStrike">
                <a:solidFill>
                  <a:srgbClr val="898989"/>
                </a:solidFill>
                <a:latin typeface="Calibri"/>
              </a:rPr>
              <a:t>Мода и одежда</a:t>
            </a:r>
            <a:r>
              <a:rPr b="0" lang="ru-RU" sz="1900" spc="-1" strike="noStrike">
                <a:solidFill>
                  <a:srgbClr val="898989"/>
                </a:solidFill>
                <a:latin typeface="Calibri"/>
              </a:rPr>
              <a:t>»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898989"/>
                </a:solidFill>
                <a:latin typeface="Calibri"/>
              </a:rPr>
              <a:t>Учитель немецкого язык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898989"/>
                </a:solidFill>
                <a:latin typeface="Calibri"/>
              </a:rPr>
              <a:t>Баймухаметова Аманбике Смагуловн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898989"/>
                </a:solidFill>
                <a:latin typeface="Calibri"/>
              </a:rPr>
              <a:t>МБОУ «Красноярская СОШ» Кваркенского района Оренбургской област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5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1664640" y="2000160"/>
            <a:ext cx="6098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  «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ma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№ 2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ик немецкого языка для 8 класса общеобразовательных шко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utsch. Schritte 4”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Л.Б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ffffff"/>
                </a:solidFill>
                <a:uFillTx/>
                <a:latin typeface="Calibri"/>
              </a:rPr>
              <a:t>Erläuterung</a:t>
            </a:r>
            <a:r>
              <a:rPr b="0" lang="de-DE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de-DE" sz="3200" spc="-1" strike="noStrike" u="sng">
                <a:solidFill>
                  <a:srgbClr val="ffffff"/>
                </a:solidFill>
                <a:uFillTx/>
                <a:latin typeface="Calibri"/>
              </a:rPr>
              <a:t>des Stoffes . </a:t>
            </a: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–Wortschatzarbei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Was passt in der logischen Reihe nich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 Anzug, das Hemd, der Hut, die Bluse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die Hose, der Mantel, der Strumpf, das T-Shirt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der Rock, das Kleid, das Tuch, die Stiefe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die Schuhe,  die Sportschuhe, die Hausschuhe, die Handschuh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 der Gürtel, die Jacke, die Shorts, die Bermudas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cht die Wörter zu dem Bild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57120" y="1857240"/>
          <a:ext cx="8229600" cy="4499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ef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s Kl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u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usschu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 Anz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 H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rtschu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 Sch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e Bl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die Jac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Picture 20" descr="C:\Documents and Settings\учитель\Мои документы\Сумбаева Е.П\Англ1\a jacket.JPG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857680" y="1785960"/>
            <a:ext cx="695160" cy="676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C:\Documents and Settings\учитель\Мои документы\Сумбаева Е.П\Англ1\a shirt.JPG"/>
          <p:cNvPicPr/>
          <p:nvPr/>
        </p:nvPicPr>
        <p:blipFill>
          <a:blip r:embed="rId3"/>
          <a:stretch/>
        </p:blipFill>
        <p:spPr>
          <a:xfrm>
            <a:off x="2857680" y="2857680"/>
            <a:ext cx="657000" cy="618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C:\Documents and Settings\учитель\Мои документы\Сумбаева Е.П\Англ1\slippers.JPG"/>
          <p:cNvPicPr/>
          <p:nvPr/>
        </p:nvPicPr>
        <p:blipFill>
          <a:blip r:embed="rId4"/>
          <a:stretch/>
        </p:blipFill>
        <p:spPr>
          <a:xfrm>
            <a:off x="2786040" y="3786120"/>
            <a:ext cx="723960" cy="685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C:\Documents and Settings\учитель\Мои документы\Сумбаева Е.П\Англ1\a hat.JPG"/>
          <p:cNvPicPr/>
          <p:nvPr/>
        </p:nvPicPr>
        <p:blipFill>
          <a:blip r:embed="rId5"/>
          <a:stretch/>
        </p:blipFill>
        <p:spPr>
          <a:xfrm>
            <a:off x="2786040" y="4714920"/>
            <a:ext cx="695520" cy="638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3" descr="C:\Documents and Settings\учитель\Мои документы\Сумбаева Е.П\Англ1\a scarf.JPG"/>
          <p:cNvPicPr/>
          <p:nvPr/>
        </p:nvPicPr>
        <p:blipFill>
          <a:blip r:embed="rId6"/>
          <a:stretch/>
        </p:blipFill>
        <p:spPr>
          <a:xfrm>
            <a:off x="7072200" y="200016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Documents and Settings\учитель\Мои документы\Сумбаева Е.П\Англ1\a dinner-jacket.JPG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072200" y="2928960"/>
            <a:ext cx="65736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Documents and Settings\учитель\Мои документы\Сумбаева Е.П\Англ1\sneakers.JPG"/>
          <p:cNvPicPr/>
          <p:nvPr/>
        </p:nvPicPr>
        <p:blipFill>
          <a:blip r:embed="rId8"/>
          <a:stretch/>
        </p:blipFill>
        <p:spPr>
          <a:xfrm>
            <a:off x="7000920" y="3786120"/>
            <a:ext cx="657360" cy="657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C:\Documents and Settings\учитель\Мои документы\Сумбаева Е.П\Англ1\a sundress.JPG"/>
          <p:cNvPicPr/>
          <p:nvPr/>
        </p:nvPicPr>
        <p:blipFill>
          <a:blip r:embed="rId9">
            <a:lum contrast="30000"/>
          </a:blip>
          <a:stretch/>
        </p:blipFill>
        <p:spPr>
          <a:xfrm>
            <a:off x="7072200" y="4786200"/>
            <a:ext cx="695520" cy="733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C:\Documents and Settings\учитель\Мои документы\Сумбаева Е.П\Англ1\shoes.JPG"/>
          <p:cNvPicPr/>
          <p:nvPr/>
        </p:nvPicPr>
        <p:blipFill>
          <a:blip r:embed="rId10"/>
          <a:stretch/>
        </p:blipFill>
        <p:spPr>
          <a:xfrm>
            <a:off x="7072200" y="5572080"/>
            <a:ext cx="666720" cy="68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учитель\Мои документы\Сумбаева Е.П\Англ1\boots.JPG"/>
          <p:cNvPicPr/>
          <p:nvPr/>
        </p:nvPicPr>
        <p:blipFill>
          <a:blip r:embed="rId11"/>
          <a:stretch/>
        </p:blipFill>
        <p:spPr>
          <a:xfrm>
            <a:off x="2714760" y="5500800"/>
            <a:ext cx="666720" cy="695160"/>
          </a:xfrm>
          <a:prstGeom prst="rect">
            <a:avLst/>
          </a:prstGeom>
          <a:ln w="0">
            <a:noFill/>
          </a:ln>
        </p:spPr>
      </p:pic>
      <p:cxnSp>
        <p:nvCxnSpPr>
          <p:cNvPr id="57" name="Прямая со стрелкой 15"/>
          <p:cNvCxnSpPr/>
          <p:nvPr/>
        </p:nvCxnSpPr>
        <p:spPr>
          <a:xfrm>
            <a:off x="1143000" y="2071800"/>
            <a:ext cx="1572480" cy="3643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17"/>
          <p:cNvCxnSpPr/>
          <p:nvPr/>
        </p:nvCxnSpPr>
        <p:spPr>
          <a:xfrm>
            <a:off x="1213920" y="3071880"/>
            <a:ext cx="5715720" cy="9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21"/>
          <p:cNvCxnSpPr/>
          <p:nvPr/>
        </p:nvCxnSpPr>
        <p:spPr>
          <a:xfrm flipV="1">
            <a:off x="1500120" y="3357000"/>
            <a:ext cx="5501520" cy="929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26"/>
          <p:cNvCxnSpPr/>
          <p:nvPr/>
        </p:nvCxnSpPr>
        <p:spPr>
          <a:xfrm>
            <a:off x="1643040" y="5072040"/>
            <a:ext cx="528696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29"/>
          <p:cNvCxnSpPr/>
          <p:nvPr/>
        </p:nvCxnSpPr>
        <p:spPr>
          <a:xfrm flipV="1">
            <a:off x="1356120" y="2999520"/>
            <a:ext cx="1429560" cy="2786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31"/>
          <p:cNvCxnSpPr/>
          <p:nvPr/>
        </p:nvCxnSpPr>
        <p:spPr>
          <a:xfrm>
            <a:off x="5499720" y="2000160"/>
            <a:ext cx="1572120" cy="3153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34"/>
          <p:cNvCxnSpPr/>
          <p:nvPr/>
        </p:nvCxnSpPr>
        <p:spPr>
          <a:xfrm>
            <a:off x="5715000" y="3143160"/>
            <a:ext cx="1357920" cy="277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36"/>
          <p:cNvCxnSpPr/>
          <p:nvPr/>
        </p:nvCxnSpPr>
        <p:spPr>
          <a:xfrm flipH="1">
            <a:off x="3428280" y="4000680"/>
            <a:ext cx="1072440" cy="78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38"/>
          <p:cNvCxnSpPr/>
          <p:nvPr/>
        </p:nvCxnSpPr>
        <p:spPr>
          <a:xfrm flipV="1">
            <a:off x="5499720" y="2309400"/>
            <a:ext cx="1572120" cy="2620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40"/>
          <p:cNvCxnSpPr/>
          <p:nvPr/>
        </p:nvCxnSpPr>
        <p:spPr>
          <a:xfrm flipH="1" flipV="1">
            <a:off x="3357000" y="2356920"/>
            <a:ext cx="1143720" cy="3787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erung: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 hatte meine lange graue Freeman T-Porter an,  ein weißes T-Shirt und ein blаu-weiß gestreiftes Hem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s blaue Batikkleid ist mein Lieblings­kleid, weil es mich an den Urlaub erinne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 hatte eine normale Jeans an und dazu das enge, buntgestreifte T-Shi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h hatte Levis und Skater­schuhe an und eine Kette am Portemonna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 beige Hose, die beigen Schuhe und das grün karierte Hemd habe ich mir im Urlaub in den USA gekauf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71680" y="4714920"/>
          <a:ext cx="8143560" cy="1214280"/>
        </p:xfrm>
        <a:graphic>
          <a:graphicData uri="http://schemas.openxmlformats.org/drawingml/2006/table">
            <a:tbl>
              <a:tblPr/>
              <a:tblGrid>
                <a:gridCol w="1628640"/>
                <a:gridCol w="1628640"/>
                <a:gridCol w="1629000"/>
                <a:gridCol w="1628640"/>
                <a:gridCol w="1628640"/>
              </a:tblGrid>
              <a:tr h="608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Daniel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Fab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Sara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Benjami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He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1857600" cy="3533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2143080" y="1928880"/>
            <a:ext cx="1787400" cy="4429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4"/>
          <a:stretch/>
        </p:blipFill>
        <p:spPr>
          <a:xfrm>
            <a:off x="4000680" y="571680"/>
            <a:ext cx="1857240" cy="5651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5"/>
          <a:stretch/>
        </p:blipFill>
        <p:spPr>
          <a:xfrm>
            <a:off x="6000840" y="1643040"/>
            <a:ext cx="1643040" cy="4994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6"/>
          <a:stretch/>
        </p:blipFill>
        <p:spPr>
          <a:xfrm>
            <a:off x="7715160" y="1000080"/>
            <a:ext cx="142884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2502000" y="428760"/>
            <a:ext cx="36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rbeit an den Texten</a:t>
            </a:r>
            <a:r>
              <a:rPr b="1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"/>
          <p:cNvSpPr/>
          <p:nvPr/>
        </p:nvSpPr>
        <p:spPr>
          <a:xfrm>
            <a:off x="571680" y="2143080"/>
            <a:ext cx="3429000" cy="242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Times New Roman"/>
              </a:rPr>
              <a:t>Die Kleidung der Jugendli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"/>
          <p:cNvSpPr/>
          <p:nvPr/>
        </p:nvSpPr>
        <p:spPr>
          <a:xfrm>
            <a:off x="4786200" y="3071880"/>
            <a:ext cx="3159360" cy="2643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Times New Roman"/>
              </a:rPr>
              <a:t>Die Frisur der Jugendli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2508840" y="500040"/>
            <a:ext cx="283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 an der Gramma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2214720" y="1428840"/>
            <a:ext cx="20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üllt die Tabel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14200" y="2143080"/>
          <a:ext cx="8429760" cy="371520"/>
        </p:xfrm>
        <a:graphic>
          <a:graphicData uri="http://schemas.openxmlformats.org/drawingml/2006/table">
            <a:tbl>
              <a:tblPr/>
              <a:tblGrid>
                <a:gridCol w="1405080"/>
                <a:gridCol w="1405080"/>
                <a:gridCol w="1404720"/>
                <a:gridCol w="1405080"/>
                <a:gridCol w="1404720"/>
                <a:gridCol w="14050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f69240"/>
                      </a:solidFill>
                    </a:lnL>
                    <a:lnR>
                      <a:noFill/>
                    </a:lnR>
                    <a:lnT w="4320">
                      <a:solidFill>
                        <a:srgbClr val="f69240"/>
                      </a:solidFill>
                    </a:lnT>
                    <a:lnB w="4320">
                      <a:solidFill>
                        <a:srgbClr val="f6924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Al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69240"/>
                      </a:solidFill>
                    </a:lnT>
                    <a:lnB w="4320">
                      <a:solidFill>
                        <a:srgbClr val="f6924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Kleidu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69240"/>
                      </a:solidFill>
                    </a:lnT>
                    <a:lnB w="4320">
                      <a:solidFill>
                        <a:srgbClr val="f6924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Schu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69240"/>
                      </a:solidFill>
                    </a:lnT>
                    <a:lnB w="4320">
                      <a:solidFill>
                        <a:srgbClr val="f6924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Fris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69240"/>
                      </a:solidFill>
                    </a:lnT>
                    <a:lnB w="4320">
                      <a:solidFill>
                        <a:srgbClr val="f6924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Hän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f69240"/>
                      </a:solidFill>
                    </a:lnR>
                    <a:lnT w="4320">
                      <a:solidFill>
                        <a:srgbClr val="f69240"/>
                      </a:solidFill>
                    </a:lnT>
                    <a:lnB w="4320">
                      <a:solidFill>
                        <a:srgbClr val="f69240"/>
                      </a:solidFill>
                    </a:lnB>
                    <a:solidFill>
                      <a:srgbClr val="f79646"/>
                    </a:solidFill>
                  </a:tcPr>
                </a:tc>
              </a:tr>
            </a:tbl>
          </a:graphicData>
        </a:graphic>
      </p:graphicFrame>
      <p:sp>
        <p:nvSpPr>
          <p:cNvPr id="81" name="Rectangle 1"/>
          <p:cNvSpPr/>
          <p:nvPr/>
        </p:nvSpPr>
        <p:spPr>
          <a:xfrm>
            <a:off x="785880" y="3226680"/>
            <a:ext cx="600084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Die blonde Haar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B. Ich kleide wie meine Mutt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C. Das beige T-Shirt und eine Jeans.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D. Das blaue Top.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E. Meine schwarze Sach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1563120" y="278604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lcher Titel passt zu welchem Tex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214280" y="5429160"/>
          <a:ext cx="6096240" cy="74160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6280"/>
                <a:gridCol w="1015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4" name="Прямоугольник 7"/>
          <p:cNvSpPr/>
          <p:nvPr/>
        </p:nvSpPr>
        <p:spPr>
          <a:xfrm>
            <a:off x="2788560" y="492912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u welchem Bild passt jeder Tex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214200" y="1928880"/>
            <a:ext cx="1428840" cy="3225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1785960" y="0"/>
            <a:ext cx="1428840" cy="3284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4"/>
          <a:stretch/>
        </p:blipFill>
        <p:spPr>
          <a:xfrm>
            <a:off x="7715160" y="3228840"/>
            <a:ext cx="1254240" cy="3387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5"/>
          <a:stretch/>
        </p:blipFill>
        <p:spPr>
          <a:xfrm>
            <a:off x="6143760" y="1714680"/>
            <a:ext cx="153324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6"/>
          <a:stretch/>
        </p:blipFill>
        <p:spPr>
          <a:xfrm>
            <a:off x="4425840" y="642960"/>
            <a:ext cx="1646280" cy="3071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7"/>
          <a:stretch/>
        </p:blipFill>
        <p:spPr>
          <a:xfrm>
            <a:off x="3214800" y="2857680"/>
            <a:ext cx="121428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2"/>
          <p:cNvSpPr/>
          <p:nvPr/>
        </p:nvSpPr>
        <p:spPr>
          <a:xfrm>
            <a:off x="3512520" y="64296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квейн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642960" y="1677240"/>
            <a:ext cx="757224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строка —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синквей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ключает в себе одно слово, которое обозначает объект или предмет, о котором пойдет реч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строка — два слова, они дают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признаков и свойст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бранного в синквейне предмета или объ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ья строка — образована тремя, описывающими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ые действ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тая строка — фраза из четырёх слов, выражающая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е отношени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втора синквейна к описываемому предмету или объек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ая строка — одно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-резюме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ющее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мета или объ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06:18:05Z</dcterms:created>
  <dc:creator>немецкий</dc:creator>
  <dc:description/>
  <dc:language>en-US</dc:language>
  <cp:lastModifiedBy>Adel</cp:lastModifiedBy>
  <dcterms:modified xsi:type="dcterms:W3CDTF">2013-06-22T15:52:09Z</dcterms:modified>
  <cp:revision>12</cp:revision>
  <dc:subject/>
  <dc:title>Тема: Kleider machen Leute.</dc:title>
</cp:coreProperties>
</file>