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2.gif" ContentType="image/gif"/>
  <Override PartName="/ppt/media/image15.jpeg" ContentType="image/jpeg"/>
  <Override PartName="/ppt/media/image10.jpeg" ContentType="image/jpeg"/>
  <Override PartName="/ppt/media/image28.png" ContentType="image/png"/>
  <Override PartName="/ppt/media/image11.gif" ContentType="image/gif"/>
  <Override PartName="/ppt/media/image30.png" ContentType="image/png"/>
  <Override PartName="/ppt/media/image3.jpeg" ContentType="image/jpeg"/>
  <Override PartName="/ppt/media/image37.jpeg" ContentType="image/jpeg"/>
  <Override PartName="/ppt/media/image13.png" ContentType="image/png"/>
  <Override PartName="/ppt/media/image31.png" ContentType="image/png"/>
  <Override PartName="/ppt/media/image40.gif" ContentType="image/gif"/>
  <Override PartName="/ppt/media/image33.png" ContentType="image/png"/>
  <Override PartName="/ppt/media/image14.jpeg" ContentType="image/jpeg"/>
  <Override PartName="/ppt/media/image35.png" ContentType="image/png"/>
  <Override PartName="/ppt/media/image36.png" ContentType="image/png"/>
  <Override PartName="/ppt/media/image38.gif" ContentType="image/gif"/>
  <Override PartName="/ppt/media/image8.gif" ContentType="image/gif"/>
  <Override PartName="/ppt/media/image18.jpeg" ContentType="image/jpeg"/>
  <Override PartName="/ppt/media/image39.wmf" ContentType="image/x-wmf"/>
  <Override PartName="/ppt/media/image7.png" ContentType="image/png"/>
  <Override PartName="/ppt/media/image1.jpeg" ContentType="image/jpe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5.wmf" ContentType="image/x-wmf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E46-14CC-4C93-AE0A-A344F14B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9A0-B8CF-4655-853D-4DA50F5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B39-6F0E-46E7-A7C8-02BEE799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8D1-2B90-4DCE-B4CF-8AEDB99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CAA-CB0A-4F7C-9F70-4020CB9B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381-1757-4182-9CD4-E0CB0CA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823-FACD-4BD2-B08F-B33A656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3F3-4130-43D6-AF3F-AD0B678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A5-C87D-477F-B69E-7CD97AB7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511-EA8D-421A-B275-A8469A2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3DE-299F-4CD6-A51D-50E874B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3F6-F935-4246-909E-89A5DE3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203-BBBB-4BAE-8332-DEBE899D1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82;&#1072;&#1088;&#1090;&#1080;&#1085;&#1082;&#1072;%20&#1074;&#1086;&#1083;&#1096;&#1077;&#1073;&#1085;&#1080;&#1082;&#1072;&amp;noreask=1&amp;img_url=http%3A%2F%2Fcs10243.userapi.com%2Fu100172417%2Fe_68d0d3b0.jpg&amp;pos=10&amp;rpt=simage&amp;lr=194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jpe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www.photoshoper2.ucoz.ru/_ph/19/1/635046866.jpg" TargetMode="External"/><Relationship Id="rId3" Type="http://schemas.openxmlformats.org/officeDocument/2006/relationships/image" Target="../media/image12.gif"/><Relationship Id="rId4" Type="http://schemas.openxmlformats.org/officeDocument/2006/relationships/hyperlink" Target="http://www.photoshoper2.ucoz.ru/_ph/19/1/635046866.jpg" TargetMode="External"/><Relationship Id="rId5" Type="http://schemas.openxmlformats.org/officeDocument/2006/relationships/image" Target="../media/image12.gif"/><Relationship Id="rId6" Type="http://schemas.openxmlformats.org/officeDocument/2006/relationships/hyperlink" Target="http://www.photoshoper2.ucoz.ru/_ph/19/1/635046866.jpg" TargetMode="External"/><Relationship Id="rId7" Type="http://schemas.openxmlformats.org/officeDocument/2006/relationships/image" Target="../media/image12.gif"/><Relationship Id="rId8" Type="http://schemas.openxmlformats.org/officeDocument/2006/relationships/hyperlink" Target="http://www.photoshoper2.ucoz.ru/_ph/19/1/635046866.jpg" TargetMode="External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443480" y="-6480"/>
            <a:ext cx="4078080" cy="5511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286000" y="24289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"/>
          <p:cNvPicPr/>
          <p:nvPr/>
        </p:nvPicPr>
        <p:blipFill>
          <a:blip r:embed="rId2"/>
          <a:stretch/>
        </p:blipFill>
        <p:spPr>
          <a:xfrm rot="4372200">
            <a:off x="342000" y="180900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962520" y="5486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Маркс Саратов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чева В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m0-tub-ru.yandex.net/i?id=174626978-35-72&amp;n=17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moygorod-online.ru/netcat_files/153/163/46acb2894e7e6.JPG"/>
          <p:cNvPicPr/>
          <p:nvPr/>
        </p:nvPicPr>
        <p:blipFill>
          <a:blip r:embed="rId2"/>
          <a:stretch/>
        </p:blipFill>
        <p:spPr>
          <a:xfrm>
            <a:off x="0" y="160020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0-tub-ru.yandex.net/i?id=488682061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cs1075.vkontakte.ru/u753120/7981681/x_1d846695.jpg"/>
          <p:cNvPicPr/>
          <p:nvPr/>
        </p:nvPicPr>
        <p:blipFill>
          <a:blip r:embed="rId5"/>
          <a:stretch/>
        </p:blipFill>
        <p:spPr>
          <a:xfrm>
            <a:off x="4495680" y="21337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statica2.detstvo.ru/foto/original/2009/11/26/590e09a82dedf7fdfa19310778acd9fc.jpg"/>
          <p:cNvPicPr/>
          <p:nvPr/>
        </p:nvPicPr>
        <p:blipFill>
          <a:blip r:embed="rId6"/>
          <a:stretch/>
        </p:blipFill>
        <p:spPr>
          <a:xfrm>
            <a:off x="4724280" y="4343400"/>
            <a:ext cx="152424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im0-tub-ru.yandex.net/i?id=635367141-45-72&amp;n=21"/>
          <p:cNvPicPr/>
          <p:nvPr/>
        </p:nvPicPr>
        <p:blipFill>
          <a:blip r:embed="rId7"/>
          <a:stretch/>
        </p:blipFill>
        <p:spPr>
          <a:xfrm>
            <a:off x="0" y="342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://im0-tub-ru.yandex.net/i?id=310810665-53-72&amp;n=21"/>
          <p:cNvPicPr/>
          <p:nvPr/>
        </p:nvPicPr>
        <p:blipFill>
          <a:blip r:embed="rId8"/>
          <a:stretch/>
        </p:blipFill>
        <p:spPr>
          <a:xfrm>
            <a:off x="304920" y="5257800"/>
            <a:ext cx="184788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2056680" y="76212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824840" y="23623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994040" y="4267080"/>
            <a:ext cx="26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369520" y="6172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п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326640" y="838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ш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6482520" y="28954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6485400" y="5181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1"/>
          <a:stretch/>
        </p:blipFill>
        <p:spPr>
          <a:xfrm>
            <a:off x="-249120" y="-182520"/>
            <a:ext cx="4576680" cy="110952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0" y="506520"/>
            <a:ext cx="2505240" cy="11332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" descr=""/>
          <p:cNvPicPr/>
          <p:nvPr/>
        </p:nvPicPr>
        <p:blipFill>
          <a:blip r:embed="rId3"/>
          <a:stretch/>
        </p:blipFill>
        <p:spPr>
          <a:xfrm>
            <a:off x="55440" y="1189080"/>
            <a:ext cx="368136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4" descr=""/>
          <p:cNvPicPr/>
          <p:nvPr/>
        </p:nvPicPr>
        <p:blipFill>
          <a:blip r:embed="rId4"/>
          <a:stretch/>
        </p:blipFill>
        <p:spPr>
          <a:xfrm>
            <a:off x="79200" y="1878120"/>
            <a:ext cx="251172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5"/>
          <a:stretch/>
        </p:blipFill>
        <p:spPr>
          <a:xfrm>
            <a:off x="-122400" y="2571840"/>
            <a:ext cx="5248440" cy="18176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6" descr=""/>
          <p:cNvPicPr/>
          <p:nvPr/>
        </p:nvPicPr>
        <p:blipFill>
          <a:blip r:embed="rId6"/>
          <a:stretch/>
        </p:blipFill>
        <p:spPr>
          <a:xfrm>
            <a:off x="-92160" y="3670200"/>
            <a:ext cx="512136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7" descr=""/>
          <p:cNvPicPr/>
          <p:nvPr/>
        </p:nvPicPr>
        <p:blipFill>
          <a:blip r:embed="rId7"/>
          <a:stretch/>
        </p:blipFill>
        <p:spPr>
          <a:xfrm>
            <a:off x="5400720" y="-225360"/>
            <a:ext cx="329868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" descr=""/>
          <p:cNvPicPr/>
          <p:nvPr/>
        </p:nvPicPr>
        <p:blipFill>
          <a:blip r:embed="rId8"/>
          <a:stretch/>
        </p:blipFill>
        <p:spPr>
          <a:xfrm>
            <a:off x="5419800" y="542880"/>
            <a:ext cx="340668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9" descr=""/>
          <p:cNvPicPr/>
          <p:nvPr/>
        </p:nvPicPr>
        <p:blipFill>
          <a:blip r:embed="rId9"/>
          <a:stretch/>
        </p:blipFill>
        <p:spPr>
          <a:xfrm>
            <a:off x="5407200" y="1305000"/>
            <a:ext cx="248760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10" descr=""/>
          <p:cNvPicPr/>
          <p:nvPr/>
        </p:nvPicPr>
        <p:blipFill>
          <a:blip r:embed="rId10"/>
          <a:stretch/>
        </p:blipFill>
        <p:spPr>
          <a:xfrm>
            <a:off x="5327640" y="2066760"/>
            <a:ext cx="4017960" cy="1200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1" descr=""/>
          <p:cNvPicPr/>
          <p:nvPr/>
        </p:nvPicPr>
        <p:blipFill>
          <a:blip r:embed="rId11"/>
          <a:stretch/>
        </p:blipFill>
        <p:spPr>
          <a:xfrm>
            <a:off x="5383080" y="2828880"/>
            <a:ext cx="3932280" cy="12002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2" descr=""/>
          <p:cNvPicPr/>
          <p:nvPr/>
        </p:nvPicPr>
        <p:blipFill>
          <a:blip r:embed="rId12"/>
          <a:stretch/>
        </p:blipFill>
        <p:spPr>
          <a:xfrm>
            <a:off x="5376960" y="367020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3" descr=""/>
          <p:cNvPicPr/>
          <p:nvPr/>
        </p:nvPicPr>
        <p:blipFill>
          <a:blip r:embed="rId13"/>
          <a:stretch/>
        </p:blipFill>
        <p:spPr>
          <a:xfrm>
            <a:off x="-30240" y="4432320"/>
            <a:ext cx="40356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5" descr=""/>
          <p:cNvPicPr/>
          <p:nvPr/>
        </p:nvPicPr>
        <p:blipFill>
          <a:blip r:embed="rId14"/>
          <a:stretch/>
        </p:blipFill>
        <p:spPr>
          <a:xfrm>
            <a:off x="60480" y="5346720"/>
            <a:ext cx="5151240" cy="1200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6" descr=""/>
          <p:cNvPicPr/>
          <p:nvPr/>
        </p:nvPicPr>
        <p:blipFill>
          <a:blip r:embed="rId15"/>
          <a:stretch/>
        </p:blipFill>
        <p:spPr>
          <a:xfrm>
            <a:off x="5462640" y="4432320"/>
            <a:ext cx="3316320" cy="120024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16"/>
          <a:stretch/>
        </p:blipFill>
        <p:spPr>
          <a:xfrm>
            <a:off x="5608800" y="5194440"/>
            <a:ext cx="3065400" cy="1199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0"/>
          <p:cNvSpPr/>
          <p:nvPr/>
        </p:nvSpPr>
        <p:spPr>
          <a:xfrm>
            <a:off x="-757800" y="16765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-91044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-567720" y="13716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-565920" y="2743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-1062720" y="32004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-565920" y="3886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-607320" y="47242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-758160" y="5562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9986040" y="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0"/>
          <p:cNvSpPr/>
          <p:nvPr/>
        </p:nvSpPr>
        <p:spPr>
          <a:xfrm>
            <a:off x="945288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1"/>
          <p:cNvSpPr/>
          <p:nvPr/>
        </p:nvSpPr>
        <p:spPr>
          <a:xfrm>
            <a:off x="10367280" y="1447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9681480" y="22096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10519560" y="28195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9376560" y="38098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10519560" y="464832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6"/>
          <p:cNvSpPr/>
          <p:nvPr/>
        </p:nvSpPr>
        <p:spPr>
          <a:xfrm>
            <a:off x="9452880" y="52578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4.97687E-006 L 0.4 -0.25531 E">
                                      <p:cBhvr>
                                        <p:cTn id="10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7 L 0.24375 -0.0007 E">
                                      <p:cBhvr>
                                        <p:cTn id="10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59 1.85014E-008 L 0.33559 1.85014E-008 E">
                                      <p:cBhvr>
                                        <p:cTn id="10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9981E-006 L 0.21667 -0.09991 E">
                                      <p:cBhvr>
                                        <p:cTn id="11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32 3.70028E-008 L 0.45035 -0.06661 E">
                                      <p:cBhvr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08 0.01041 L 0.40608 0.01041 E">
                                      <p:cBhvr>
                                        <p:cTn id="12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3.38575E-006 L 0.33993 3.38575E-006 E">
                                      <p:cBhvr>
                                        <p:cTn id="12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34 0.0111 L 0.45034 0.0111 E">
                                      <p:cBhvr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-0.0007 L -0.29774 -0.0007 E">
                                      <p:cBhvr>
                                        <p:cTn id="13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-0.21441 0.00971 E">
                                      <p:cBhvr>
                                        <p:cTn id="13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41 0.02151 L -0.41441 0.02151 E">
                                      <p:cBhvr>
                                        <p:cTn id="14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41 L -0.25 0.01041 E">
                                      <p:cBhvr>
                                        <p:cTn id="14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0.04371 L -0.26441 0.04371 E">
                                      <p:cBhvr>
                                        <p:cTn id="14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5532E-007 L -0.23333 0.01041 E">
                                      <p:cBhvr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0.01041 L -0.33333 0.01041 E">
                                      <p:cBhvr>
                                        <p:cTn id="15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15 L -0.25 0.0215 E">
                                      <p:cBhvr>
                                        <p:cTn id="16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tutsy.ucoz.ru/_ph/5/316231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495680" y="304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57200" y="44290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… шь, путешеств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уш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 , движ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ход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 принос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ыш…шь, открыва…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хища…шься, чувству…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стреча…шь, слыш…шь,  наблюда…шь,  любу…шься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замеча…шь, наход…шь, держ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SKAZOChNAYa-ZРMNYaYa-MELODРYa-(muzofon.com).mp3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9597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&amp;Icy;&amp;ncy;&amp;tcy;&amp;iecy;&amp;rcy;&amp;iecy;&amp;scy;&amp;ncy;&amp;ocy;! - &amp;YUcy;&amp;lcy;&amp;icy;&amp;yacy; &amp;Gcy;&amp;iecy;&amp;ncy;&amp;ncy;&amp;acy;&amp;dcy;&amp;softcy;&amp;iecy;&amp;vcy;&amp;ncy;&amp;acy; &amp;Lcy;&amp;acy;&amp;pcy;&amp;acy;&amp;iecy;&amp;vcy;&amp;acy;"/>
          <p:cNvPicPr/>
          <p:nvPr/>
        </p:nvPicPr>
        <p:blipFill>
          <a:blip r:embed="rId1"/>
          <a:stretch/>
        </p:blipFill>
        <p:spPr>
          <a:xfrm>
            <a:off x="0" y="304920"/>
            <a:ext cx="4800600" cy="6019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4876920" y="380880"/>
            <a:ext cx="4267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1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яз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. Стр. 124,у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рениро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т. Урок 56, упр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ворческая рабо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ть письмо деду Моро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воего имени, но пись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 быть интересным, чтобы оно могло понравиться деду Мор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2286000" y="1553040"/>
            <a:ext cx="4419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Arial"/>
                <a:ea typeface="Times New Roman"/>
              </a:rPr>
              <a:t>"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Благодарю…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e1076c30d2a9"/>
          <p:cNvPicPr/>
          <p:nvPr/>
        </p:nvPicPr>
        <p:blipFill>
          <a:blip r:embed="rId1"/>
          <a:stretch/>
        </p:blipFill>
        <p:spPr>
          <a:xfrm>
            <a:off x="762120" y="457200"/>
            <a:ext cx="5715000" cy="412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066320" y="609120"/>
            <a:ext cx="4953240" cy="31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ир прекрасен! Радуйтесь жизн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оптимистами! Боритесь за человека, сердце которого покрыто льд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терпеливы в достижении цели! Не жалейте времени и сил, чтобы воспитать в себе человечность, отзывчивость и доброт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MC900239011[1]"/>
          <p:cNvPicPr/>
          <p:nvPr/>
        </p:nvPicPr>
        <p:blipFill>
          <a:blip r:embed="rId2"/>
          <a:stretch/>
        </p:blipFill>
        <p:spPr>
          <a:xfrm>
            <a:off x="6400800" y="4648320"/>
            <a:ext cx="1808280" cy="1487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376720" y="54864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.К.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777"/>
          <p:cNvPicPr/>
          <p:nvPr/>
        </p:nvPicPr>
        <p:blipFill>
          <a:blip r:embed="rId1"/>
          <a:stretch/>
        </p:blipFill>
        <p:spPr>
          <a:xfrm>
            <a:off x="1981080" y="2819520"/>
            <a:ext cx="4572000" cy="3624120"/>
          </a:xfrm>
          <a:prstGeom prst="rect">
            <a:avLst/>
          </a:prstGeom>
          <a:ln w="9360">
            <a:solidFill>
              <a:srgbClr val="727ca3"/>
            </a:solidFill>
            <a:miter/>
          </a:ln>
        </p:spPr>
      </p:pic>
      <p:sp>
        <p:nvSpPr>
          <p:cNvPr id="157" name="WordArt 3"/>
          <p:cNvSpPr txBox="1"/>
          <p:nvPr/>
        </p:nvSpPr>
        <p:spPr>
          <a:xfrm>
            <a:off x="1628640" y="733320"/>
            <a:ext cx="53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926000" y="60948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Двадцать шестое дека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531160" y="144792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Класс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1076c30d2a9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1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1932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глаголить,  говорить,  повествовать, молвить,  баять,  сказывать, сообщить,  рассказать, побеседовать, пустослови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MC900334880[1]"/>
          <p:cNvPicPr/>
          <p:nvPr/>
        </p:nvPicPr>
        <p:blipFill>
          <a:blip r:embed="rId2"/>
          <a:stretch/>
        </p:blipFill>
        <p:spPr>
          <a:xfrm>
            <a:off x="5562720" y="4724280"/>
            <a:ext cx="177012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www.zhaba.ru/_pics/625jvrzfmskle9qz.jpg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litmir.net/BookBinary/128302/1333270382/i_058.png"/>
          <p:cNvPicPr/>
          <p:nvPr/>
        </p:nvPicPr>
        <p:blipFill>
          <a:blip r:embed="rId2"/>
          <a:stretch/>
        </p:blipFill>
        <p:spPr>
          <a:xfrm>
            <a:off x="0" y="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image"/>
          <p:cNvPicPr/>
          <p:nvPr/>
        </p:nvPicPr>
        <p:blipFill>
          <a:blip r:embed="rId3"/>
          <a:stretch/>
        </p:blipFill>
        <p:spPr>
          <a:xfrm>
            <a:off x="518148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age"/>
          <p:cNvPicPr/>
          <p:nvPr/>
        </p:nvPicPr>
        <p:blipFill>
          <a:blip r:embed="rId4"/>
          <a:stretch/>
        </p:blipFill>
        <p:spPr>
          <a:xfrm>
            <a:off x="39625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"/>
          <p:cNvPicPr/>
          <p:nvPr/>
        </p:nvPicPr>
        <p:blipFill>
          <a:blip r:embed="rId5"/>
          <a:stretch/>
        </p:blipFill>
        <p:spPr>
          <a:xfrm>
            <a:off x="137160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mage"/>
          <p:cNvPicPr/>
          <p:nvPr/>
        </p:nvPicPr>
        <p:blipFill>
          <a:blip r:embed="rId6"/>
          <a:stretch/>
        </p:blipFill>
        <p:spPr>
          <a:xfrm>
            <a:off x="5943600" y="5029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"/>
          <p:cNvPicPr/>
          <p:nvPr/>
        </p:nvPicPr>
        <p:blipFill>
          <a:blip r:embed="rId7"/>
          <a:stretch/>
        </p:blipFill>
        <p:spPr>
          <a:xfrm>
            <a:off x="28195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"/>
          <p:cNvPicPr/>
          <p:nvPr/>
        </p:nvPicPr>
        <p:blipFill>
          <a:blip r:embed="rId8"/>
          <a:stretch/>
        </p:blipFill>
        <p:spPr>
          <a:xfrm>
            <a:off x="7621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mage"/>
          <p:cNvPicPr/>
          <p:nvPr/>
        </p:nvPicPr>
        <p:blipFill>
          <a:blip r:embed="rId9"/>
          <a:stretch/>
        </p:blipFill>
        <p:spPr>
          <a:xfrm>
            <a:off x="67057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age"/>
          <p:cNvPicPr/>
          <p:nvPr/>
        </p:nvPicPr>
        <p:blipFill>
          <a:blip r:embed="rId10"/>
          <a:stretch/>
        </p:blipFill>
        <p:spPr>
          <a:xfrm>
            <a:off x="746748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booksiti.net.ru/books/10564250.jpg"/>
          <p:cNvPicPr/>
          <p:nvPr/>
        </p:nvPicPr>
        <p:blipFill>
          <a:blip r:embed="rId11"/>
          <a:stretch/>
        </p:blipFill>
        <p:spPr>
          <a:xfrm>
            <a:off x="6724800" y="3352680"/>
            <a:ext cx="24192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"/>
          <p:cNvPicPr/>
          <p:nvPr/>
        </p:nvPicPr>
        <p:blipFill>
          <a:blip r:embed="rId12"/>
          <a:stretch/>
        </p:blipFill>
        <p:spPr>
          <a:xfrm>
            <a:off x="4419720" y="5638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age"/>
          <p:cNvPicPr/>
          <p:nvPr/>
        </p:nvPicPr>
        <p:blipFill>
          <a:blip r:embed="rId13"/>
          <a:stretch/>
        </p:blipFill>
        <p:spPr>
          <a:xfrm>
            <a:off x="55627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age"/>
          <p:cNvPicPr/>
          <p:nvPr/>
        </p:nvPicPr>
        <p:blipFill>
          <a:blip r:embed="rId14"/>
          <a:stretch/>
        </p:blipFill>
        <p:spPr>
          <a:xfrm>
            <a:off x="518148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stuffed.ru/uimages/y2011/10-06/8457.jpeg"/>
          <p:cNvPicPr/>
          <p:nvPr/>
        </p:nvPicPr>
        <p:blipFill>
          <a:blip r:embed="rId1"/>
          <a:stretch/>
        </p:blipFill>
        <p:spPr>
          <a:xfrm>
            <a:off x="4876920" y="0"/>
            <a:ext cx="101473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mage"/>
          <p:cNvPicPr/>
          <p:nvPr/>
        </p:nvPicPr>
        <p:blipFill>
          <a:blip r:embed="rId2"/>
          <a:stretch/>
        </p:blipFill>
        <p:spPr>
          <a:xfrm>
            <a:off x="6934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age"/>
          <p:cNvPicPr/>
          <p:nvPr/>
        </p:nvPicPr>
        <p:blipFill>
          <a:blip r:embed="rId3"/>
          <a:stretch/>
        </p:blipFill>
        <p:spPr>
          <a:xfrm>
            <a:off x="6629400" y="3809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age"/>
          <p:cNvPicPr/>
          <p:nvPr/>
        </p:nvPicPr>
        <p:blipFill>
          <a:blip r:embed="rId4"/>
          <a:stretch/>
        </p:blipFill>
        <p:spPr>
          <a:xfrm>
            <a:off x="4724280" y="121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age"/>
          <p:cNvPicPr/>
          <p:nvPr/>
        </p:nvPicPr>
        <p:blipFill>
          <a:blip r:embed="rId5"/>
          <a:stretch/>
        </p:blipFill>
        <p:spPr>
          <a:xfrm>
            <a:off x="4495680" y="4572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mage"/>
          <p:cNvPicPr/>
          <p:nvPr/>
        </p:nvPicPr>
        <p:blipFill>
          <a:blip r:embed="rId6"/>
          <a:stretch/>
        </p:blipFill>
        <p:spPr>
          <a:xfrm>
            <a:off x="57150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age"/>
          <p:cNvPicPr/>
          <p:nvPr/>
        </p:nvPicPr>
        <p:blipFill>
          <a:blip r:embed="rId7"/>
          <a:stretch/>
        </p:blipFill>
        <p:spPr>
          <a:xfrm>
            <a:off x="419112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image"/>
          <p:cNvPicPr/>
          <p:nvPr/>
        </p:nvPicPr>
        <p:blipFill>
          <a:blip r:embed="rId8"/>
          <a:stretch/>
        </p:blipFill>
        <p:spPr>
          <a:xfrm>
            <a:off x="784872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0" y="0"/>
            <a:ext cx="487692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ишим тебе мы, разбой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 знаим, ты совершаиш чудес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овый год.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, разбойники, прос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ело в том, что мы занима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ем, хулиганем. А мы жела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ожет ты, дед Мороз, помож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йники,  встретели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о свидания.  Ждём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119400" y="45720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62120" y="22096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Правописание безударных личных окончаний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499920" y="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814200" y="8380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3"/>
          <p:cNvSpPr/>
          <p:nvPr/>
        </p:nvSpPr>
        <p:spPr>
          <a:xfrm rot="2124000">
            <a:off x="3300120" y="1222200"/>
            <a:ext cx="484200" cy="6670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4"/>
          <p:cNvSpPr/>
          <p:nvPr/>
        </p:nvSpPr>
        <p:spPr>
          <a:xfrm>
            <a:off x="3809880" y="380880"/>
            <a:ext cx="484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5"/>
          <p:cNvSpPr/>
          <p:nvPr/>
        </p:nvSpPr>
        <p:spPr>
          <a:xfrm rot="20088600">
            <a:off x="4528800" y="1252080"/>
            <a:ext cx="485640" cy="6462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82880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ть, -оть,-ы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ь, -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572000" y="190512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342320" y="25146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голы-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9"/>
          <p:cNvSpPr/>
          <p:nvPr/>
        </p:nvSpPr>
        <p:spPr>
          <a:xfrm>
            <a:off x="2590920" y="304812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10"/>
          <p:cNvSpPr/>
          <p:nvPr/>
        </p:nvSpPr>
        <p:spPr>
          <a:xfrm>
            <a:off x="5410080" y="2971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910520" y="487692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, -ут, -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4882680" y="4876920"/>
            <a:ext cx="17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, -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19141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48859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низ 15"/>
          <p:cNvSpPr/>
          <p:nvPr/>
        </p:nvSpPr>
        <p:spPr>
          <a:xfrm>
            <a:off x="2590920" y="4114800"/>
            <a:ext cx="484200" cy="6094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6"/>
          <p:cNvSpPr/>
          <p:nvPr/>
        </p:nvSpPr>
        <p:spPr>
          <a:xfrm>
            <a:off x="5486400" y="4038480"/>
            <a:ext cx="484200" cy="6858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0" y="404640"/>
            <a:ext cx="4572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ишем тебе мы, разбо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ы знаем,ты совершаешь чудес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овый год.  Мы, разбойники, прос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ело в том, что мы занима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ем, хулиганим. А мы жел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 ты, дед Мороз, помож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йники, встретили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о свидания. Ждём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4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2362320" y="714240"/>
            <a:ext cx="56512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Картинка 75 из 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357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Картинка 75 из 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784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ртинка 75 из 8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14392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Картинка 75 из 8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8" name="8. Вальс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65 C -0.08281 -0.08651 -0.14809 -0.23756 -0.21893 -0.2371 C -0.28993 -0.23664 -0.37153 0.04997 -0.44271 0.06686 C -0.51389 0.08374 -0.58299 -0.09738 -0.64566 -0.13763 C -0.70834 -0.17788 -0.80816 -0.15706 -0.81893 -0.17511 C -0.82969 -0.19315 -0.729 -0.23456 -0.71042 -0.24635 E">
                                      <p:cBhvr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700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6:08:18Z</dcterms:created>
  <dc:creator>Asso</dc:creator>
  <dc:description/>
  <dc:language>en-US</dc:language>
  <cp:lastModifiedBy>ADMIN</cp:lastModifiedBy>
  <dcterms:modified xsi:type="dcterms:W3CDTF">2013-01-22T10:30:53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